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593A37-DC9B-4BD0-9330-C653D786B5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623F6-A6E2-4279-A537-9F9484A62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429881-83F3-4287-9550-BC74C9B964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1566FD-749A-400C-8A4B-2EA01F41A3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A5EE8-3A7E-4999-9E1B-7967026CF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0C100-8B3E-452E-9F5C-88D9EEFDD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0D0A1-D71D-4F9B-AAF0-E7DABD4DB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8FD3F-012A-4F66-945D-5AAB4A773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97AE2-079F-4B84-BEA8-F0510F403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A2665-8F04-44A5-AFAE-606ABA5BE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5C7C0-F03A-484E-941B-4032518CE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B2B83-C3B6-43A4-8575-45D6FC4D53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440"/>
            <a:ext cx="106668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DD742D2-FDF9-4DE6-BC06-D2AC866020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10/0860r0</a:t>
            </a:r>
            <a:endParaRPr b="0" lang="en-US" sz="18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ieee802.org/PARs/2010-07/80216ppc-10_0003r6.doc"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ieee802.org/802_tutorials/2010-07/newPAR_July2010.ppt"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s for 802.16p New PAR – </a:t>
            </a:r>
            <a:br>
              <a:rPr sz="3200"/>
            </a:br>
            <a:r>
              <a:rPr b="1" lang="en-US" sz="3200" spc="-1" strike="noStrike">
                <a:solidFill>
                  <a:srgbClr val="000000"/>
                </a:solidFill>
                <a:latin typeface="Times New Roman"/>
              </a:rPr>
              <a:t>July 2010</a:t>
            </a:r>
            <a:endParaRPr b="1" lang="en-US" sz="3200" spc="-1" strike="noStrike">
              <a:solidFill>
                <a:srgbClr val="000000"/>
              </a:solidFill>
              <a:latin typeface="Times New Roman"/>
            </a:endParaRPr>
          </a:p>
        </p:txBody>
      </p:sp>
      <p:sp>
        <p:nvSpPr>
          <p:cNvPr id="46" name="PlaceHolder 2"/>
          <p:cNvSpPr>
            <a:spLocks noGrp="1"/>
          </p:cNvSpPr>
          <p:nvPr>
            <p:ph/>
          </p:nvPr>
        </p:nvSpPr>
        <p:spPr>
          <a:xfrm>
            <a:off x="2057040" y="2285640"/>
            <a:ext cx="3809880" cy="304920"/>
          </a:xfrm>
          <a:prstGeom prst="rect">
            <a:avLst/>
          </a:prstGeom>
          <a:noFill/>
          <a:ln w="0">
            <a:noFill/>
          </a:ln>
        </p:spPr>
        <p:txBody>
          <a:bodyPr lIns="92160" rIns="92160" tIns="46080" bIns="46080" anchor="t">
            <a:normAutofit fontScale="77000"/>
          </a:bodyPr>
          <a:p>
            <a:pPr marL="2638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e:</a:t>
            </a:r>
            <a:r>
              <a:rPr b="0" lang="en-US" sz="1800" spc="-1" strike="noStrike">
                <a:solidFill>
                  <a:srgbClr val="000000"/>
                </a:solidFill>
                <a:latin typeface="Times New Roman"/>
              </a:rPr>
              <a:t> 2010-07-13</a:t>
            </a:r>
            <a:endParaRPr b="1" lang="en-US" sz="1800" spc="-1" strike="noStrike">
              <a:solidFill>
                <a:srgbClr val="000000"/>
              </a:solidFill>
              <a:latin typeface="Times New Roman"/>
            </a:endParaRPr>
          </a:p>
        </p:txBody>
      </p:sp>
      <p:sp>
        <p:nvSpPr>
          <p:cNvPr id="47" name=""/>
          <p:cNvSpPr/>
          <p:nvPr/>
        </p:nvSpPr>
        <p:spPr>
          <a:xfrm>
            <a:off x="762120" y="236232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graphicFrame>
        <p:nvGraphicFramePr>
          <p:cNvPr id="48" name=""/>
          <p:cNvGraphicFramePr/>
          <p:nvPr/>
        </p:nvGraphicFramePr>
        <p:xfrm>
          <a:off x="685800" y="2743200"/>
          <a:ext cx="7848720" cy="2427120"/>
        </p:xfrm>
        <a:graphic>
          <a:graphicData uri="http://schemas.openxmlformats.org/presentationml/2006/ole">
            <p:oleObj progId="Word.Document.12" r:id="rId1" spid="">
              <p:embed/>
              <p:pic>
                <p:nvPicPr>
                  <p:cNvPr id="49" name="" descr=""/>
                  <p:cNvPicPr/>
                  <p:nvPr/>
                </p:nvPicPr>
                <p:blipFill>
                  <a:blip r:embed="rId2"/>
                  <a:stretch/>
                </p:blipFill>
                <p:spPr>
                  <a:xfrm>
                    <a:off x="685800" y="2743200"/>
                    <a:ext cx="7848720" cy="2427120"/>
                  </a:xfrm>
                  <a:prstGeom prst="rect">
                    <a:avLst/>
                  </a:prstGeom>
                  <a:ln w="0">
                    <a:noFill/>
                  </a:ln>
                </p:spPr>
              </p:pic>
            </p:oleObj>
          </a:graphicData>
        </a:graphic>
      </p:graphicFrame>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C9BD724F-2952-4434-9D28-269946543C66}" type="slidenum">
              <a:t>1</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6 5C (cont)</a:t>
            </a:r>
            <a:endParaRPr b="1" lang="en-US" sz="3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One unique solution per problem (not two solutions to a problem):</a:t>
            </a:r>
            <a:endParaRPr b="1" lang="en-US" sz="2400" spc="-1" strike="noStrike">
              <a:solidFill>
                <a:srgbClr val="000000"/>
              </a:solidFill>
              <a:latin typeface="Times New Roman"/>
            </a:endParaRPr>
          </a:p>
          <a:p>
            <a:pPr lvl="1" marL="838080" indent="-380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ggest to replace the text with the following: “The 802.16 standard does not currently address Machine-to-Machine communications.”</a:t>
            </a:r>
            <a:endParaRPr b="0" lang="en-US" sz="20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Easy for the document reader to select the relevant specification.</a:t>
            </a:r>
            <a:endParaRPr b="1" lang="en-US" sz="2400" spc="-1" strike="noStrike">
              <a:solidFill>
                <a:srgbClr val="000000"/>
              </a:solidFill>
              <a:latin typeface="Times New Roman"/>
            </a:endParaRPr>
          </a:p>
          <a:p>
            <a:pPr lvl="1" marL="838080" indent="-380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se of “standard” is incorrect.  Substitute “amendment” in two instances.</a:t>
            </a:r>
            <a:endParaRPr b="0" lang="en-US" sz="2000" spc="-1" strike="noStrike">
              <a:solidFill>
                <a:srgbClr val="000000"/>
              </a:solidFill>
              <a:latin typeface="Times New Roman"/>
            </a:endParaRPr>
          </a:p>
          <a:p>
            <a:pPr lvl="1" marL="838080" indent="-380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ggested change: “The title of this amendment and the scope are distinct enough for document readers to discern the application of this amendmen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568ED1E1-0776-48AB-B1E3-3FE96DCB5BB2}" type="slidenum">
              <a:t>10</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6 5C (cont)</a:t>
            </a:r>
            <a:endParaRPr b="1" lang="en-US" sz="32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hnical Feasibility </a:t>
            </a:r>
            <a:endParaRPr b="1"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Demonstrated system feasibility.</a:t>
            </a:r>
            <a:endParaRPr b="1" lang="en-US" sz="24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hine-to-Machine communication is an application and has been implemented using other technologies.  </a:t>
            </a:r>
            <a:endParaRPr b="0" lang="en-US" sz="20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atement should be reworded to state “Machine-to-Machine(M2M) communications has been shown to be feasible in many technologies and 802.16 is similar in characteristics of some of these technologies and therefore it is reasonable to assert that it is feasible for 802.16 to support M2M applications..</a:t>
            </a:r>
            <a:endParaRPr b="0" lang="en-US" sz="20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fidence in reliability.</a:t>
            </a:r>
            <a:endParaRPr b="1" lang="en-US" sz="2400" spc="-1" strike="noStrike">
              <a:solidFill>
                <a:srgbClr val="000000"/>
              </a:solidFill>
              <a:latin typeface="Times New Roman"/>
            </a:endParaRPr>
          </a:p>
          <a:p>
            <a:pPr lvl="1" marL="838080" indent="-380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ssing explainat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32EB5B37-FBD0-41E7-86B6-9E73BDC3188F}" type="slidenum">
              <a:t>11</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6 5C (Cont)</a:t>
            </a:r>
            <a:endParaRPr b="1" lang="en-US" sz="32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conomic Feasibility</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Known cost factors, reliable data.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 “…</a:t>
            </a:r>
            <a:r>
              <a:rPr b="1" lang="en-US" sz="2000" spc="-1" strike="noStrike">
                <a:solidFill>
                  <a:srgbClr val="000000"/>
                </a:solidFill>
                <a:latin typeface="Times New Roman"/>
              </a:rPr>
              <a:t>this standard over systems based on</a:t>
            </a:r>
            <a:r>
              <a:rPr b="0" lang="en-US" sz="2000" spc="-1" strike="noStrike">
                <a:solidFill>
                  <a:srgbClr val="000000"/>
                </a:solidFill>
                <a:latin typeface="Times New Roman"/>
              </a:rPr>
              <a:t> …“ to “…</a:t>
            </a:r>
            <a:r>
              <a:rPr b="1" lang="en-US" sz="2000" spc="-1" strike="noStrike">
                <a:solidFill>
                  <a:srgbClr val="000000"/>
                </a:solidFill>
                <a:latin typeface="Times New Roman"/>
              </a:rPr>
              <a:t>this amendment in systems based 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AF0B1A6F-659F-4F94-BD71-0BB54BAAE6B4}" type="slidenum">
              <a:t>12</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posed 802.16p PA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ieee802.org/PARs/2010-07/80216ppc-10_0003r6.doc</a:t>
            </a:r>
            <a:endParaRPr b="0"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34AF1850-8D06-4A16-83F4-F2A1FFED7902}" type="slidenum">
              <a:t>13</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nts from 802.11 to 802.16 regarding their proposed New PAR.</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C48CEBAF-4E65-4BD4-A8CC-5E8431A2F69C}" type="slidenum">
              <a:t>2</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802.16 New PAR</a:t>
            </a:r>
            <a:endParaRPr b="1" lang="en-US" sz="3200" spc="-1" strike="noStrike">
              <a:solidFill>
                <a:srgbClr val="000000"/>
              </a:solidFill>
              <a:latin typeface="Times New Roman"/>
            </a:endParaRPr>
          </a:p>
        </p:txBody>
      </p:sp>
      <p:sp>
        <p:nvSpPr>
          <p:cNvPr id="53"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ease refer to the following presentation for specific requirements on filling in a PAR form.</a:t>
            </a:r>
            <a:endParaRPr b="1"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ieee802.org/802_tutorials/2010-07/newPAR_July2010.ppt</a:t>
            </a:r>
            <a:endParaRPr b="0" lang="en-US" sz="1800" spc="-1" strike="noStrike">
              <a:solidFill>
                <a:srgbClr val="000000"/>
              </a:solidFill>
              <a:latin typeface="Times New Roman"/>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802.11 comments address a concern that other Working Groups may also consider “Machine to Machine” enhancements in future standards or amendments.</a:t>
            </a:r>
            <a:endParaRPr b="1"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1 Title – change the title to be more succinct.</a:t>
            </a:r>
            <a:endParaRPr b="1"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ggestion for title: “…- Enhancements for Machine to Machine Communication in licensed bands”</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 there a proper definition for “Machine to Machine” that is defined in the industry?  Is there agreement for 802 usage of “Machine to Machine”?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A9CCA472-0E75-4F1D-AF73-519B0419F2E8}" type="slidenum">
              <a:t>3</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6  New PAR</a:t>
            </a:r>
            <a:endParaRPr b="1" lang="en-US" sz="3200" spc="-1" strike="noStrike">
              <a:solidFill>
                <a:srgbClr val="000000"/>
              </a:solidFill>
              <a:latin typeface="Times New Roman"/>
            </a:endParaRPr>
          </a:p>
        </p:txBody>
      </p:sp>
      <p:sp>
        <p:nvSpPr>
          <p:cNvPr id="55"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cope should describe the technical description of the changes.  We suggest that you drop the marketing portion of the description from the Scope. Also the acronym OFDMA and PHY will need to be spelled out.</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 Scope: Suggested scope-- </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 sz="2400" spc="-1" strike="noStrike">
                <a:solidFill>
                  <a:srgbClr val="000000"/>
                </a:solidFill>
                <a:latin typeface="Times New Roman"/>
              </a:rPr>
              <a:t>This amendment </a:t>
            </a:r>
            <a:r>
              <a:rPr b="1" lang="en-US" sz="2400" spc="-1" strike="noStrike">
                <a:solidFill>
                  <a:srgbClr val="000000"/>
                </a:solidFill>
                <a:latin typeface="Times New Roman"/>
              </a:rPr>
              <a:t>specifies IEEE Std 802.16 medium access control (MAC) enhancements and </a:t>
            </a:r>
            <a:r>
              <a:rPr b="1" lang="en" sz="2400" spc="-1" strike="noStrike">
                <a:solidFill>
                  <a:srgbClr val="000000"/>
                </a:solidFill>
                <a:latin typeface="Times New Roman"/>
              </a:rPr>
              <a:t>minimal Orthogonal Frequency-Division Multiple Access (OFDMA) Physical layer (PHY) modifications in licensed bands for lower power consumption at the subscriber station, support by the base station of significantly larger numbers of devices, and efficient support for short burst transmissions. “</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27C4B252-EC01-4CB9-89AF-60B0341FAD43}" type="slidenum">
              <a:t>4</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6 New PAR</a:t>
            </a: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3 – missing the explanation of the “yes”…please add a short description of why 802.16m is require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4 Purpose – just describe what the amendment will include.  This should be a present tense statement of what is in the document.  The word “efficient” has no metric of quantification. </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D13658F0-2B66-48F6-B9AB-67A147796A3A}" type="slidenum">
              <a:t>5</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6 New PAR</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5 Need for Project.  The statement “significantly different” requirements does not seem correct.  Nodes in the network pass data.  It seems that the Need paragraph is describing application (Layer 7) differences rather than the MAC/PHY level differences that may be necessary. </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0C78F379-9FB0-40F8-A0D4-45C7BB0AF4BD}" type="slidenum">
              <a:t>6</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6 New PAR</a:t>
            </a:r>
            <a:endParaRPr b="1" lang="en-US" sz="3200" spc="-1" strike="noStrike">
              <a:solidFill>
                <a:srgbClr val="000000"/>
              </a:solidFill>
              <a:latin typeface="Times New Roman"/>
            </a:endParaRPr>
          </a:p>
        </p:txBody>
      </p:sp>
      <p:sp>
        <p:nvSpPr>
          <p:cNvPr id="61"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6 Stakeholders: Describe “who” the stakeholders are.  </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Times New Roman"/>
              </a:rPr>
              <a:t>government agencies” does not seem correct to include.</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1 add a note in 8.1 as to what the similarities or differences are.</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2c – Harmonization is not quite the right description for the relationship between WiMax and 802.16.  This is for Harmonization with other International SDOs</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75C6560E-832C-46CA-A0FA-DBBEDAA34E72}" type="slidenum">
              <a:t>7</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6 New PAR</a:t>
            </a:r>
            <a:endParaRPr b="1" lang="en-US" sz="32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1 Additional explanatory Not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ve item 1.1 note…This is not necessary for the PAR.  The number is assigned by the NesCom Administrator in consultation with the WG chai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sCom does not allow the use of  “o”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mment for 5.2 needs to be changed. We suggested that “machine-to-machine” was removed from the scope, so you do not need the definition here in 8.1.</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so the definition seems to be describing application (Layer 7) differences rather than the MAC/PHY level differences that may be necessary. </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E351B56D-5EB9-494A-9658-DEF6578AC6FF}" type="slidenum">
              <a:t>8</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6 5C</a:t>
            </a:r>
            <a:endParaRPr b="1" lang="en-US" sz="32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road Market Potential</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atement is primarily stating functionality that is provided in layers 3 to 7.  The statement is not specific to what may be required in layer 1 or 2.</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tinct Identity</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ile the statement is true for the 802.16 standard, it is not a complete or unique solution for all Machine-to-Machine communication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word “standard” should be “amendment” in this context, and specific to 802.16. (both instanc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6554E2CA-4A8B-4F45-8504-BE11B7B38A31}" type="slidenum">
              <a:t>9</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2T23:04:07Z</dcterms:created>
  <dc:creator>Jon Rosdahl</dc:creator>
  <dc:description>Comments on the 802.16p PAR </dc:description>
  <dc:language>en-US</dc:language>
  <cp:lastModifiedBy>jr05</cp:lastModifiedBy>
  <cp:lastPrinted>1998-02-10T13:28:06Z</cp:lastPrinted>
  <dcterms:modified xsi:type="dcterms:W3CDTF">2010-07-13T19:54:55Z</dcterms:modified>
  <cp:revision>3</cp:revision>
  <dc:subject/>
  <dc:title>Comments for 802.16 New PAR -- July 2010</dc:title>
</cp:coreProperties>
</file>