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84928-4F7E-4C8D-B03E-1B16EDB285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15853-C7FC-4D1B-8707-D6A9E96D2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F54DB-D503-467E-93BF-2D3201492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3A17A-3C64-49E5-AB55-BBCDBC283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AFA39-E202-445D-A5D7-1FAFAEC8A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D50F27-5DC4-41C5-814E-A215FC8D6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E77EF-3C94-42A3-A75D-82B992F2A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013A5-1F31-4B39-B16C-DBD0A7CCE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C9689-B856-4192-90A9-7C330C10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42F84-3103-4BD1-BC1A-65E12F132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38BE-DC5D-4754-94FB-8B286011D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94002-78C9-49FD-988C-E1BE72B6D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8904C67-3ACC-4BBF-8253-E32354198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859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15 Rev PAR – </a:t>
            </a:r>
            <a:br>
              <a:rPr sz="3200"/>
            </a:br>
            <a:r>
              <a:rPr b="1" lang="en-US" sz="3200" spc="-1" strike="noStrike">
                <a:solidFill>
                  <a:srgbClr val="000000"/>
                </a:solidFill>
                <a:latin typeface="Times New Roman"/>
              </a:rPr>
              <a:t>July 2010 Plenary</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22093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7-13</a:t>
            </a:r>
            <a:endParaRPr b="1" lang="en-US" sz="2000" spc="-1" strike="noStrike">
              <a:solidFill>
                <a:srgbClr val="000000"/>
              </a:solidFill>
              <a:latin typeface="Times New Roman"/>
            </a:endParaRPr>
          </a:p>
        </p:txBody>
      </p:sp>
      <p:graphicFrame>
        <p:nvGraphicFramePr>
          <p:cNvPr id="47" name=""/>
          <p:cNvGraphicFramePr/>
          <p:nvPr/>
        </p:nvGraphicFramePr>
        <p:xfrm>
          <a:off x="533520" y="3048120"/>
          <a:ext cx="8138880" cy="2498760"/>
        </p:xfrm>
        <a:graphic>
          <a:graphicData uri="http://schemas.openxmlformats.org/presentationml/2006/ole">
            <p:oleObj progId="Word.Document.12" r:id="rId1" spid="">
              <p:embed/>
              <p:pic>
                <p:nvPicPr>
                  <p:cNvPr id="48" name="" descr=""/>
                  <p:cNvPicPr/>
                  <p:nvPr/>
                </p:nvPicPr>
                <p:blipFill>
                  <a:blip r:embed="rId2"/>
                  <a:stretch/>
                </p:blipFill>
                <p:spPr>
                  <a:xfrm>
                    <a:off x="533520" y="3048120"/>
                    <a:ext cx="8138880" cy="2498760"/>
                  </a:xfrm>
                  <a:prstGeom prst="rect">
                    <a:avLst/>
                  </a:prstGeom>
                  <a:ln w="0">
                    <a:noFill/>
                  </a:ln>
                </p:spPr>
              </p:pic>
            </p:oleObj>
          </a:graphicData>
        </a:graphic>
      </p:graphicFrame>
      <p:sp>
        <p:nvSpPr>
          <p:cNvPr id="49" name=""/>
          <p:cNvSpPr/>
          <p:nvPr/>
        </p:nvSpPr>
        <p:spPr>
          <a:xfrm>
            <a:off x="533520" y="25909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6885737-FEE6-4888-8C6C-42A6F0EE7415}"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802.11 to 802.15 regarding their proposed Revision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0E6C4E5-088C-4D94-8F0B-4D80799B4C61}" type="slidenum">
              <a:t>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 Project Number: the “i” should not be included in a revision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3 Project Completion Date for Submittal to RevCom: the date should be chosen to be at least 6 months from the start of the Sponsor Ballot start date.  When choosing the “Date for Submittal to RevCom”,  ensure that the date matches a RevCom agenda deadli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ggest a 10-17-2011 for a Dec RevCom targe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AF5456E-A390-40A8-B11C-1A78669684A5}"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The Scope should describe what the scope of the final document will be.  This section should not describe the work that will be done to make the document.  (that is for 5.4 Need).  The Scope of the PAR should match the scope that will be in the published document.  The text from the proposal could be good information to include in the 5.4 Need paragraph.</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7000C98-770D-4385-9727-19E2FA85CF4B}" type="slidenum">
              <a:t>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the Purpose should describe the purpose of the final document not the WG/TG effort.  If the standard document will not include a purpose, that should be noted here in the PAR.  The Purpose and the Scope should not be a word for word match.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 Stakeholders – Describe “who” the stakeholders are e.g.,“…manufacturers and users of telecom, medical….” Do not just list the industries that are involved, or “activities” that may warrant use of the standar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88B6745-888B-4A8F-9E8D-DA6DEF17CCCF}" type="slidenum">
              <a:t>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44C9C52-BA53-40CB-A0EB-67742FAB7436}"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23:04:07Z</dcterms:created>
  <dc:creator>Jon rosdahl</dc:creator>
  <dc:description>Comments for the Revision PAR for 802.15</dc:description>
  <dc:language>en-US</dc:language>
  <cp:lastModifiedBy>jr05</cp:lastModifiedBy>
  <cp:lastPrinted>1998-02-10T13:28:06Z</cp:lastPrinted>
  <dcterms:modified xsi:type="dcterms:W3CDTF">2010-07-13T19:42:43Z</dcterms:modified>
  <cp:revision>3</cp:revision>
  <dc:subject/>
  <dc:title>Comments for 802-15 RevPAR -- July 2010 Plenary</dc:title>
</cp:coreProperties>
</file>