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5572080" y="-755280"/>
            <a:ext cx="641520" cy="106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1437r1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45840" y="-115920"/>
            <a:ext cx="82692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2008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12400" y="701280"/>
            <a:ext cx="4635720" cy="3476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5287680" y="9000720"/>
            <a:ext cx="92556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8640"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8640"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uce Kraemer, Marvel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181320" y="900072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FED24F5-602A-46FB-8868-93EBCE3BE9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710640" y="900108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9"/>
          <p:cNvSpPr/>
          <p:nvPr/>
        </p:nvSpPr>
        <p:spPr>
          <a:xfrm>
            <a:off x="716040" y="8999640"/>
            <a:ext cx="542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10"/>
          <p:cNvSpPr/>
          <p:nvPr/>
        </p:nvSpPr>
        <p:spPr>
          <a:xfrm>
            <a:off x="639720" y="297000"/>
            <a:ext cx="557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1437r1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461160" y="97560"/>
            <a:ext cx="1197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2008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4776840" y="9001080"/>
            <a:ext cx="194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uce Kraemer, Marvel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C50FAEC-D392-4943-98CE-694F955847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12760" y="701640"/>
            <a:ext cx="4635720" cy="347652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1437r1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461160" y="97560"/>
            <a:ext cx="1197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2008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4776840" y="9001080"/>
            <a:ext cx="194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uce Kraemer, Marvel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677DC99-1654-439D-9977-B8D17B60B1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12760" y="701640"/>
            <a:ext cx="4635720" cy="34765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1437r1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461160" y="97560"/>
            <a:ext cx="1197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2008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4776840" y="9001080"/>
            <a:ext cx="194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uce Kraemer, Marvel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B00D38A-D657-449D-827D-186954D345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12760" y="701640"/>
            <a:ext cx="4635720" cy="3476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1437r1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461160" y="97560"/>
            <a:ext cx="1197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2008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4776840" y="9001080"/>
            <a:ext cx="194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uce Kraemer, Marvel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392FBEC-6706-4F54-B9AC-0C953D9183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12760" y="701640"/>
            <a:ext cx="4635720" cy="347652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1437r1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461160" y="97560"/>
            <a:ext cx="1197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2008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4776840" y="9001080"/>
            <a:ext cx="194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uce Kraemer, Marvel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299E520-65D5-45E6-B7C1-9385CFF8AE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12760" y="701640"/>
            <a:ext cx="4635720" cy="347652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1437r1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461160" y="97560"/>
            <a:ext cx="1197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2008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4776840" y="9001080"/>
            <a:ext cx="194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uce Kraemer, Marvel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8D02F71-8AFC-4878-8363-6094D71D98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12760" y="701640"/>
            <a:ext cx="4635720" cy="347652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1437r1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461160" y="97560"/>
            <a:ext cx="1197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2008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4776840" y="9001080"/>
            <a:ext cx="194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uce Kraemer, Marvel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8BDEA4D-0C44-418D-AC54-2B0B3757A9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12760" y="701640"/>
            <a:ext cx="4635720" cy="3476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1437r1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461160" y="97560"/>
            <a:ext cx="1197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2008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4776840" y="9001080"/>
            <a:ext cx="194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uce Kraemer, Marvel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DDEBF73-5624-44A0-82BA-7F61877D40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2760" y="701640"/>
            <a:ext cx="4635720" cy="347652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1C80-FBEA-444B-925D-BF6378D52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7590-48A5-4865-9F02-800080BA1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DDA0-C568-4A0F-B106-810B0E5E5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AEEC-004E-46E6-A339-6D405D918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09F9-A9DB-451B-94EA-73A7143DD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2655-13A9-4179-A040-D04779C59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0D06-0DEF-4EBD-B5EC-D97F348F1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0881-40C2-4727-BA18-70731B31C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FD7F-74D8-4774-8AF5-E71F4DC95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9C19-898D-466C-8324-D4F376051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E23B-2317-47D7-B064-3E55CEC76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D498-E021-4B22-AD11-10E2B19DC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600" y="60120"/>
            <a:ext cx="156852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ptember 201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077320" y="6474960"/>
            <a:ext cx="466560" cy="14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 Stanley (Aruba), B.Kraemer (Marvell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752120" y="64767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76B95BA-030D-4EA5-BB8D-D372A1DADD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6094800" y="334800"/>
            <a:ext cx="235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11-10-0801/0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mentor.ieee.org/802.11/dcn/10/11-10-1070-00-000m-revmb-mec-comments.doc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Date Placeholder 3"/>
          <p:cNvSpPr/>
          <p:nvPr/>
        </p:nvSpPr>
        <p:spPr>
          <a:xfrm>
            <a:off x="696240" y="334800"/>
            <a:ext cx="1570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ptember 201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7046280" y="6475320"/>
            <a:ext cx="2529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 Stanley (Aruba), B.Kraemer (Marvell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1523520" y="64771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CE62622-045C-470A-95C5-A857CDE8A5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802.11REVmb Report to EC on meeting the terms of Conditional Approval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go to Sponsor Ballo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010-09-1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Object 4"/>
          <p:cNvGraphicFramePr/>
          <p:nvPr/>
        </p:nvGraphicFramePr>
        <p:xfrm>
          <a:off x="520560" y="2590920"/>
          <a:ext cx="7709040" cy="259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560" y="2590920"/>
                    <a:ext cx="7709040" cy="25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Rectangle 5"/>
          <p:cNvSpPr/>
          <p:nvPr/>
        </p:nvSpPr>
        <p:spPr>
          <a:xfrm>
            <a:off x="533520" y="1940040"/>
            <a:ext cx="1447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hors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Date Placeholder 4"/>
          <p:cNvSpPr/>
          <p:nvPr/>
        </p:nvSpPr>
        <p:spPr>
          <a:xfrm>
            <a:off x="696240" y="334800"/>
            <a:ext cx="1570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ptember 201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Footer Placeholder 5"/>
          <p:cNvSpPr/>
          <p:nvPr/>
        </p:nvSpPr>
        <p:spPr>
          <a:xfrm>
            <a:off x="7046280" y="6475320"/>
            <a:ext cx="2529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 Stanley (Aruba), B.Kraemer (Marvell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Slide Number Placeholder 6"/>
          <p:cNvSpPr/>
          <p:nvPr/>
        </p:nvSpPr>
        <p:spPr>
          <a:xfrm>
            <a:off x="1523880" y="64771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28CE604-B0A3-4DCC-9A05-73B5BF021F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Unsatisfied comme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The composite of all unsatisfied comments and the resolutions approved during working group ballot is attached.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ouble click on the icon to the right to open th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 copy of the unsatisfied comments presented using MyBallot access database report format is attached.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ouble click on the icon to the right to open th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0" y="31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Object 19"/>
          <p:cNvGraphicFramePr/>
          <p:nvPr/>
        </p:nvGraphicFramePr>
        <p:xfrm>
          <a:off x="7086600" y="3733920"/>
          <a:ext cx="914400" cy="71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3733920"/>
                    <a:ext cx="9144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7010280" y="2438280"/>
          <a:ext cx="914400" cy="7146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10280" y="2438280"/>
                    <a:ext cx="914400" cy="7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Date Placeholder 3"/>
          <p:cNvSpPr/>
          <p:nvPr/>
        </p:nvSpPr>
        <p:spPr>
          <a:xfrm>
            <a:off x="696240" y="334800"/>
            <a:ext cx="1570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ptember 201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Footer Placeholder 4"/>
          <p:cNvSpPr/>
          <p:nvPr/>
        </p:nvSpPr>
        <p:spPr>
          <a:xfrm>
            <a:off x="7046280" y="6475320"/>
            <a:ext cx="2529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 Stanley (Aruba), B.Kraemer (Marvell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lide Number Placeholder 5"/>
          <p:cNvSpPr/>
          <p:nvPr/>
        </p:nvSpPr>
        <p:spPr>
          <a:xfrm>
            <a:off x="1523880" y="64771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D2AE8EE-75F5-4B15-BC10-CFC625ADF9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melin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85800" y="1676520"/>
          <a:ext cx="8229600" cy="4600440"/>
        </p:xfrm>
        <a:graphic>
          <a:graphicData uri="http://schemas.openxmlformats.org/drawingml/2006/table">
            <a:tbl>
              <a:tblPr/>
              <a:tblGrid>
                <a:gridCol w="4114800"/>
                <a:gridCol w="2228760"/>
                <a:gridCol w="1886040"/>
              </a:tblGrid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urth recirculation (Draft 5.0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en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0-8-0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ose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0-8-1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ol formation (45 days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0 Aug/Sep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rst sponsor ballot (45 days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0-9-2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0-11-0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cond sponsor ballo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1-2-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1-2-1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ird sponsor ballo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1-3-3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1-4-1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urth sponsor ballo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1-5-1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1-5-3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fth sponsor ballo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-6-2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-7-1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nal Recirc (10 days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C to RevCom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1-7-2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1 July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vCom to S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1 Sept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3"/>
          <p:cNvSpPr/>
          <p:nvPr/>
        </p:nvSpPr>
        <p:spPr>
          <a:xfrm>
            <a:off x="696240" y="334800"/>
            <a:ext cx="1570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ptember 201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7046280" y="6475320"/>
            <a:ext cx="2529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 Stanley (Aruba), B.Kraemer (Marvell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1523520" y="64771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EF9791A-1B95-42A6-9A41-589BB1C347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1444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e IEEE 802 EC granted conditional approval to P802.11REVmb to proceed to sponsor ballot at its July 2010 closing meeting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G 802.11 recirculation ballot on P802.11REVmb_D5.0 closed, meeting the terms of the conditional approva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etails of meeting these terms is shown on the next slide, and the status of the P802.11REVmb WG ballot are shown on the following slid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G 802.11 requests that the IEEE 802 EC approve the start of sponsor ballot on P802.11REVmb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eeting the terms of conditional approva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s per LMSC OM Clause 14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ecirculation ballot is completed. Generally, the recirculation ballot and resolution should occur in accordance with the schedule presented at the time of conditional approval.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Ballot occurred, in accordance with the schedule presented to the EC in document 11-10/0801r0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fter resolution of the recirculation ballot is completed, the approval percentage is at least 75% and there are no new valid DISAPPROVE votes.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approval percentage is 92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re are no new valid disapprove v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No technical changes, as determined by the WG Chair, were made as a result of the recirculation ballot.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 technical changes were made as a result of the recirculation ball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No new valid DISAPPROVE comments on new issues that are not resolved to the satisfaction of the submitter from existing DISAPPROVE voter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re were 16 comments received,  of which 7 were marked disapprove, from 3 voters. All three voters subsequently withdrew their disapprove comments.  Two of the disapprove comments were received from a new no voter who changed his vote to approve on withdrawal of his com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 there are no new disapprove com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Date Placeholder 3"/>
          <p:cNvSpPr/>
          <p:nvPr/>
        </p:nvSpPr>
        <p:spPr>
          <a:xfrm>
            <a:off x="696240" y="334800"/>
            <a:ext cx="1570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ptember 201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Footer Placeholder 4"/>
          <p:cNvSpPr/>
          <p:nvPr/>
        </p:nvSpPr>
        <p:spPr>
          <a:xfrm>
            <a:off x="7046280" y="6475320"/>
            <a:ext cx="2529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 Stanley (Aruba), B.Kraemer (Marvell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Slide Number Placeholder 5"/>
          <p:cNvSpPr/>
          <p:nvPr/>
        </p:nvSpPr>
        <p:spPr>
          <a:xfrm>
            <a:off x="1523520" y="64771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51459BC-2488-4E9A-9C9B-40D2AD067B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eeting the terms of conditional approval - continued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f the WG Chair determines that there is a new invalid DISAPPROVE comment or vote, the WG Chair shall promptly provide details to the Sponsor.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he WG Chair shall immediately report the results of the ballot to the Sponsor including: the date the ballot closed, vote tally and comments associated with any remaining disapproves (valid and invalid), the WG responses and the rationale for ruling any vote invalid.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Ballot closed on 2010-8-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comments associated with remaining disapproves and the WG responses are attached to slide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s indicated above, one negative vote received in the recirculation was subsequently changed by the voter to approve coincident with withdrawal of all his disapprove comments from that recirc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Date Placeholder 3"/>
          <p:cNvSpPr/>
          <p:nvPr/>
        </p:nvSpPr>
        <p:spPr>
          <a:xfrm>
            <a:off x="696240" y="334800"/>
            <a:ext cx="1570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ptember 201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Footer Placeholder 4"/>
          <p:cNvSpPr/>
          <p:nvPr/>
        </p:nvSpPr>
        <p:spPr>
          <a:xfrm>
            <a:off x="7046280" y="6475320"/>
            <a:ext cx="2529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 Stanley (Aruba), B.Kraemer (Marvell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Slide Number Placeholder 5"/>
          <p:cNvSpPr/>
          <p:nvPr/>
        </p:nvSpPr>
        <p:spPr>
          <a:xfrm>
            <a:off x="1523520" y="64771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2894411-336E-4CA0-BB7E-16AE358859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Date Placeholder 3"/>
          <p:cNvSpPr/>
          <p:nvPr/>
        </p:nvSpPr>
        <p:spPr>
          <a:xfrm>
            <a:off x="696240" y="334800"/>
            <a:ext cx="1570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ptember 201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Footer Placeholder 4"/>
          <p:cNvSpPr/>
          <p:nvPr/>
        </p:nvSpPr>
        <p:spPr>
          <a:xfrm>
            <a:off x="7046280" y="6475320"/>
            <a:ext cx="2529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 Stanley (Aruba), B.Kraemer (Marvell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Slide Number Placeholder 5"/>
          <p:cNvSpPr/>
          <p:nvPr/>
        </p:nvSpPr>
        <p:spPr>
          <a:xfrm>
            <a:off x="1523520" y="64771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B64AF00-DECB-4B43-8C9C-8836920D95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WG Letter Ballot Results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0" y="131436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76320" y="1314360"/>
          <a:ext cx="8991360" cy="3183120"/>
        </p:xfrm>
        <a:graphic>
          <a:graphicData uri="http://schemas.openxmlformats.org/drawingml/2006/table">
            <a:tbl>
              <a:tblPr/>
              <a:tblGrid>
                <a:gridCol w="609480"/>
                <a:gridCol w="1143000"/>
                <a:gridCol w="914400"/>
                <a:gridCol w="1295280"/>
                <a:gridCol w="533520"/>
                <a:gridCol w="609480"/>
                <a:gridCol w="762120"/>
                <a:gridCol w="685800"/>
                <a:gridCol w="685800"/>
                <a:gridCol w="533520"/>
                <a:gridCol w="533160"/>
                <a:gridCol w="685800"/>
              </a:tblGrid>
              <a:tr h="850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llot ID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llot Close Date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raft Number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llot Type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ol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turn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Return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bstain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 Abstain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pprove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approve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Approve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8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9-6-2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raft 1.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itia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0-1-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raft 2.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circulati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.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0-4-2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raft 3.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circulati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.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0-6-2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raft 4.0 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circulati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.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7*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0-08-1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raft 5.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circulati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.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4" name="TextBox 7"/>
          <p:cNvSpPr/>
          <p:nvPr/>
        </p:nvSpPr>
        <p:spPr>
          <a:xfrm>
            <a:off x="152280" y="4800600"/>
            <a:ext cx="548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* Includes one post-ballot change of vot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Date Placeholder 3"/>
          <p:cNvSpPr/>
          <p:nvPr/>
        </p:nvSpPr>
        <p:spPr>
          <a:xfrm>
            <a:off x="696240" y="334800"/>
            <a:ext cx="1570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ptember 201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ooter Placeholder 4"/>
          <p:cNvSpPr/>
          <p:nvPr/>
        </p:nvSpPr>
        <p:spPr>
          <a:xfrm>
            <a:off x="7046280" y="6475320"/>
            <a:ext cx="2529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 Stanley (Aruba), B.Kraemer (Marvell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Slide Number Placeholder 5"/>
          <p:cNvSpPr/>
          <p:nvPr/>
        </p:nvSpPr>
        <p:spPr>
          <a:xfrm>
            <a:off x="1523520" y="64771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3CB2714-A113-4609-B2B0-A88380F215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802.11 WG Letter Ballot Comments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0" y="131436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28600" y="1447920"/>
          <a:ext cx="8686800" cy="4295520"/>
        </p:xfrm>
        <a:graphic>
          <a:graphicData uri="http://schemas.openxmlformats.org/drawingml/2006/table">
            <a:tbl>
              <a:tblPr/>
              <a:tblGrid>
                <a:gridCol w="1033560"/>
                <a:gridCol w="1404720"/>
                <a:gridCol w="2667240"/>
                <a:gridCol w="1409760"/>
                <a:gridCol w="2171520"/>
              </a:tblGrid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llot 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llot Close D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raft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llot Typ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umber of Comments receive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78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9-6-2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raft 1.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iti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30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491T, 239E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8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0-1-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raft 2.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circul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6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188T, 58E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0-4-2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raft 3.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circul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9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129T, 20E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0-6-2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raft 4.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circul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8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57T, 41E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0-08-1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raft 5.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circul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9T, 7E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Date Placeholder 3"/>
          <p:cNvSpPr/>
          <p:nvPr/>
        </p:nvSpPr>
        <p:spPr>
          <a:xfrm>
            <a:off x="696240" y="334800"/>
            <a:ext cx="1570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ptember 201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Footer Placeholder 4"/>
          <p:cNvSpPr/>
          <p:nvPr/>
        </p:nvSpPr>
        <p:spPr>
          <a:xfrm>
            <a:off x="7046280" y="6475320"/>
            <a:ext cx="2529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 Stanley (Aruba), B.Kraemer (Marvell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Slide Number Placeholder 5"/>
          <p:cNvSpPr/>
          <p:nvPr/>
        </p:nvSpPr>
        <p:spPr>
          <a:xfrm>
            <a:off x="1523520" y="64771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434528E-CC45-4AB4-9648-3FC0CC3137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Unsatisfied comments by commenter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7902360" cy="4114800"/>
        </p:xfrm>
        <a:graphic>
          <a:graphicData uri="http://schemas.openxmlformats.org/drawingml/2006/table">
            <a:tbl>
              <a:tblPr/>
              <a:tblGrid>
                <a:gridCol w="2436840"/>
                <a:gridCol w="1044360"/>
                <a:gridCol w="1044720"/>
                <a:gridCol w="1042920"/>
                <a:gridCol w="1044720"/>
                <a:gridCol w="1288800"/>
              </a:tblGrid>
              <a:tr h="342720">
                <a:tc>
                  <a:txBody>
                    <a:bodyPr lIns="16200" rIns="16200" tIns="16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ter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6200" marR="16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200" rIns="16200" tIns="16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B149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6200" marR="16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200" rIns="16200" tIns="16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B160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6200" marR="16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200" rIns="16200" tIns="16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B162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6200" marR="16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200" rIns="16200" tIns="16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B163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6200" marR="16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200" rIns="16200" tIns="16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6200" marR="16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16200" rIns="16200" tIns="16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gby, David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6200" marR="16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200" rIns="16200" tIns="16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6200" marR="16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200" rIns="16200" tIns="16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6200" marR="16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200" rIns="16200" tIns="16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6200" marR="16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200" rIns="16200" tIns="16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6200" marR="16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200" rIns="16200" tIns="16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6200" marR="16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16200" rIns="16200" tIns="16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jko, Gabor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6200" marR="16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200" rIns="16200" tIns="16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6200" marR="16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200" rIns="16200" tIns="16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6200" marR="16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200" rIns="16200" tIns="16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6200" marR="16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200" rIns="16200" tIns="16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6200" marR="16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200" rIns="16200" tIns="16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6200" marR="16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16200" rIns="16200" tIns="16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-Winget, Nancy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6200" marR="16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200" rIns="16200" tIns="16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6200" marR="16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200" rIns="16200" tIns="16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6200" marR="16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200" rIns="16200" tIns="16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6200" marR="16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200" rIns="16200" tIns="16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6200" marR="16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200" rIns="16200" tIns="16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6200" marR="16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16200" rIns="16200" tIns="16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u, Liwen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6200" marR="16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200" rIns="16200" tIns="16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6200" marR="16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200" rIns="16200" tIns="16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6200" marR="16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200" rIns="16200" tIns="16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6200" marR="16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200" rIns="16200" tIns="16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6200" marR="16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200" rIns="16200" tIns="16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6200" marR="16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16200" rIns="16200" tIns="16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rceg, Vinko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6200" marR="16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200" rIns="16200" tIns="16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6200" marR="16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200" rIns="16200" tIns="16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6200" marR="16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200" rIns="16200" tIns="16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6200" marR="16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200" rIns="16200" tIns="16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6200" marR="16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200" rIns="16200" tIns="16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6200" marR="16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16200" rIns="16200" tIns="16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shall, Bill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6200" marR="16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200" rIns="16200" tIns="16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6200" marR="16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200" rIns="16200" tIns="16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6200" marR="16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200" rIns="16200" tIns="16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6200" marR="16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200" rIns="16200" tIns="16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6200" marR="16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200" rIns="16200" tIns="16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6200" marR="16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16200" rIns="16200" tIns="16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yles, Andrew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6200" marR="16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200" rIns="16200" tIns="16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6200" marR="16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200" rIns="16200" tIns="16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6200" marR="16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200" rIns="16200" tIns="16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6200" marR="16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200" rIns="16200" tIns="16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6200" marR="16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200" rIns="16200" tIns="16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6200" marR="16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16200" rIns="16200" tIns="16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sdahl, Jon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6200" marR="16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200" rIns="16200" tIns="16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6200" marR="16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200" rIns="16200" tIns="16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6200" marR="16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200" rIns="16200" tIns="16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6200" marR="16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200" rIns="16200" tIns="16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6200" marR="16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200" rIns="16200" tIns="16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6200" marR="16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16200" rIns="16200" tIns="16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ephenson, David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6200" marR="16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200" rIns="16200" tIns="16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6200" marR="16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200" rIns="16200" tIns="16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6200" marR="16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200" rIns="16200" tIns="16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6200" marR="16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200" rIns="16200" tIns="16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6200" marR="16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200" rIns="16200" tIns="16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6200" marR="16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16200" rIns="16200" tIns="16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lantis, George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6200" marR="16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200" rIns="16200" tIns="16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6200" marR="16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200" rIns="16200" tIns="16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6200" marR="16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200" rIns="16200" tIns="16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6200" marR="16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200" rIns="16200" tIns="16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6200" marR="16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200" rIns="16200" tIns="16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6200" marR="16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16200" rIns="16200" tIns="16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6200" marR="16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200" rIns="16200" tIns="16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6200" marR="16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200" rIns="16200" tIns="16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6200" marR="16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200" rIns="16200" tIns="16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6200" marR="16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200" rIns="16200" tIns="16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6200" marR="16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6200" rIns="16200" tIns="162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</a:t>
                      </a:r>
                      <a:endParaRPr b="1" lang="en-US" sz="2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6200" marR="16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510480" y="5829480"/>
            <a:ext cx="695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 described previously, there are no unsatisfied comments from LB 167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Date Placeholder 3"/>
          <p:cNvSpPr/>
          <p:nvPr/>
        </p:nvSpPr>
        <p:spPr>
          <a:xfrm>
            <a:off x="696240" y="334800"/>
            <a:ext cx="1570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ptember 201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ooter Placeholder 4"/>
          <p:cNvSpPr/>
          <p:nvPr/>
        </p:nvSpPr>
        <p:spPr>
          <a:xfrm>
            <a:off x="7046280" y="6475320"/>
            <a:ext cx="2529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 Stanley (Aruba), B.Kraemer (Marvell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Slide Number Placeholder 5"/>
          <p:cNvSpPr/>
          <p:nvPr/>
        </p:nvSpPr>
        <p:spPr>
          <a:xfrm>
            <a:off x="1523520" y="64771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56F948E-7F6C-4DEA-B453-9EC3860E10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pdates since ballot 167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 Commenters have indicated that all their disapprove comments in LB167 are satisfied/resolv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H. Ramamurthy: 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will like to withdraw CIDs 5008, and 501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I hereby change my vote on P802.11REVmb to approve.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L. Chu: ”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 hereby withdraw my "part of a no vote" comments on LB167.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G. Vlantis: ”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would like to withdraw my two ‘part of a no vote’ comments from LB167mb.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ndatory Editorial Coordina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EEE SA staff performed MEC on P802.11REVmb D5.0, and indicated one mandatory change to be made prior to Sponsor Ballot (see </a:t>
            </a:r>
            <a:r>
              <a:rPr b="1" lang="en-US" sz="24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s://mentor.ieee.org/802.11/dcn/10/11-10-1070-00-000m-revmb-mec-comments.doc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)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change was deemed editorial by the WG chair, and IEEE staff liaison, and P802.11REVmb D6.0, which includes this change, will be submitted to Sponsor Ballo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ate Placeholder 4"/>
          <p:cNvSpPr/>
          <p:nvPr/>
        </p:nvSpPr>
        <p:spPr>
          <a:xfrm>
            <a:off x="696240" y="334800"/>
            <a:ext cx="1570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ptember 201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Dorothy Stanley</dc:creator>
  <dc:description/>
  <dc:language>en-US</dc:language>
  <cp:lastModifiedBy>dstanley</cp:lastModifiedBy>
  <cp:lastPrinted>1998-02-10T13:28:06Z</cp:lastPrinted>
  <dcterms:modified xsi:type="dcterms:W3CDTF">2010-09-15T06:24:14Z</dcterms:modified>
  <cp:revision>1102</cp:revision>
  <dc:subject/>
  <dc:title>TGmb Report to EC</dc:title>
</cp:coreProperties>
</file>