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387600" y="-115920"/>
            <a:ext cx="28260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-115920"/>
            <a:ext cx="15922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2338560" y="9000720"/>
            <a:ext cx="38750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37542F-F049-4745-B9F6-83D675B4C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C40D4A1-11E8-4307-9EC6-0B82A7C64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8E63A4-E6F7-44C7-A883-5D4DDBD46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CE99981-68F5-49A0-AA35-C02010C30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456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78D33D-A600-4BA4-B490-313B9DB85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D67949E-DB53-4F17-BA90-E85B57FE6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A8FF70A-AFFA-42A1-A04A-D732B4720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39F0DB-2ADA-4963-8A9E-BA413C96D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34196D-0C1F-4E17-83A7-8AE937D63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5B05314-ED56-44BD-9062-72DA96EE7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7BC1E42-E959-4021-82FF-9495D6278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C5869C-8584-44EF-9506-E8B31876E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2FB2-738B-46AD-8023-4D41F4E7A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F72-5021-44C0-BAD4-62E15EE5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13FA-A655-495E-8C71-B626EFE61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A751-38E3-4D85-B28B-5FE320DD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8D67-556F-4DD1-B8EB-7A576DA76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90C9-7846-4D8A-B15A-147BD931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9B3-D12F-487E-AE7A-FCD275DB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455-2140-49AA-92AD-449F9278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FB5-2440-4478-80B9-C53A12E5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D0F0-959D-4CBD-908D-730A8972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F5E5-8ED0-4162-8FF4-14B20878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4DED-547E-4AD1-8927-F2C574D6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51796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0/0409r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96960" y="334440"/>
            <a:ext cx="2241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4461-4572-43F0-AFC4-21B30180CC9E}" type="datetime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497640" y="6474960"/>
            <a:ext cx="20462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 Armstrong (US Do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42667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AFB6FD1-4996-4F61-B23A-7146D97AD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802.11p report to EC on request for conditional approval to proceed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0-04-0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6962760" y="647532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 Armstrong (US Do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11"/>
          <p:cNvGraphicFramePr/>
          <p:nvPr/>
        </p:nvGraphicFramePr>
        <p:xfrm>
          <a:off x="531720" y="2295360"/>
          <a:ext cx="8220240" cy="228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2295360"/>
                    <a:ext cx="82202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36FE-4E72-4545-BF69-21078C3B92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5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6"/>
          <p:cNvSpPr/>
          <p:nvPr/>
        </p:nvSpPr>
        <p:spPr>
          <a:xfrm>
            <a:off x="6962760" y="647532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 Armstrong (US Do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composite of all unsatisfied comments and the resolutions approved by the comment resolution committee received during P802.11p sponsor ballo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s attached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 copy of this same data presented using MyBallot access database report format is attached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uble click on the embedded .pdf to the right to open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13"/>
          <p:cNvGraphicFramePr/>
          <p:nvPr/>
        </p:nvGraphicFramePr>
        <p:xfrm>
          <a:off x="5562720" y="4683240"/>
          <a:ext cx="114300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683240"/>
                    <a:ext cx="11430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334120" y="1905120"/>
          <a:ext cx="144756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905120"/>
                    <a:ext cx="144756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4E7-33CC-4C51-95B0-68E033702D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EC Motion – Conditional Approval to send P802.11p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quest the IEEE 802 Executive Committee for conditional approval to forward P802.11p D11.0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802.11p had a 96% approval on the last Recirculation Sponsor Ballot. In this ballot, there were 5 disapprove voters (4 of whom have since indicated satisfaction with the resolution of their comments) and 28 unsatisfied comments, all from the remaining disapprove vot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RC vote on the Motion Passed:  14 y, 0 n, 1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Lee Armstrong on behalf of TG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Bill Marshal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Passes: 39,0,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CF84-85F4-4D8B-8298-0CF846286A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6962760" y="647532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 Armstrong (US Do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is document contains an update to the report to the IEEE 802 Executive Committee in support of a request for conditional approval to send IEEE P802.11p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507E-F9F6-4CC7-80CA-445F9588DF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6962760" y="647532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 Armstrong (US Do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EEE 802 Sponsor Ballot Results – P802.11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634"/>
          <p:cNvGraphicFramePr/>
          <p:nvPr/>
        </p:nvGraphicFramePr>
        <p:xfrm>
          <a:off x="1454040" y="2905200"/>
          <a:ext cx="6310440" cy="132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6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2905200"/>
                    <a:ext cx="63104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636"/>
          <p:cNvSpPr/>
          <p:nvPr/>
        </p:nvSpPr>
        <p:spPr>
          <a:xfrm>
            <a:off x="5181480" y="4800600"/>
            <a:ext cx="3962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ey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ith” = “with comments”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/o” = “without comments”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38"/>
          <p:cNvSpPr/>
          <p:nvPr/>
        </p:nvSpPr>
        <p:spPr>
          <a:xfrm>
            <a:off x="5524560" y="23749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Q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39"/>
          <p:cNvSpPr/>
          <p:nvPr/>
        </p:nvSpPr>
        <p:spPr>
          <a:xfrm>
            <a:off x="6705720" y="2362320"/>
            <a:ext cx="5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40"/>
          <p:cNvSpPr/>
          <p:nvPr/>
        </p:nvSpPr>
        <p:spPr>
          <a:xfrm>
            <a:off x="7086600" y="23749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Q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41"/>
          <p:cNvSpPr/>
          <p:nvPr/>
        </p:nvSpPr>
        <p:spPr>
          <a:xfrm>
            <a:off x="8610480" y="2362320"/>
            <a:ext cx="5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42"/>
          <p:cNvSpPr/>
          <p:nvPr/>
        </p:nvSpPr>
        <p:spPr>
          <a:xfrm>
            <a:off x="4568760" y="23875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Q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43"/>
          <p:cNvSpPr/>
          <p:nvPr/>
        </p:nvSpPr>
        <p:spPr>
          <a:xfrm>
            <a:off x="5143680" y="2362320"/>
            <a:ext cx="5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44"/>
          <p:cNvSpPr/>
          <p:nvPr/>
        </p:nvSpPr>
        <p:spPr>
          <a:xfrm>
            <a:off x="8023320" y="23749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Q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45"/>
          <p:cNvSpPr/>
          <p:nvPr/>
        </p:nvSpPr>
        <p:spPr>
          <a:xfrm>
            <a:off x="8620200" y="1943280"/>
            <a:ext cx="5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646"/>
          <p:cNvSpPr/>
          <p:nvPr/>
        </p:nvSpPr>
        <p:spPr>
          <a:xfrm>
            <a:off x="7696080" y="2362320"/>
            <a:ext cx="5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E6A-7321-45D5-A529-761ECB89C4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6962760" y="647532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 Armstrong (US Do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Ball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80880" y="3352680"/>
            <a:ext cx="822960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Key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B0 = Initial sponsor ballot.  SB1 = 1</a:t>
            </a:r>
            <a:r>
              <a:rPr b="1" lang="en-GB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recirculation ballot, etc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oordination: comment supplied by a Mandatory coordination entity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Not Required:  comment indicated as not required to satisfy voter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atisfied:  comment required to satisfy voter that is indicated as satisfied either by the voter indicating satisfaction with the specific comment, or by voting yes in a subsequent ballo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Known Unsatisfied: a comment that is indicated to be “required” by the voter,  and the voter is maintaining a “no” vote, and the voter has indicated they are unsatisfied with the comment resolu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ssumed Unsatisfied:  comment not meeting any of the above criteria – i.e., a comment that is indicated to be “required” by the voter,  and the voter is maintaining a “no” vote, and the voter has not responded when asked about their satisfaction with the comment resolution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7"/>
          <p:cNvGraphicFramePr/>
          <p:nvPr/>
        </p:nvGraphicFramePr>
        <p:xfrm>
          <a:off x="914400" y="1746360"/>
          <a:ext cx="7916760" cy="171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746360"/>
                    <a:ext cx="7916760" cy="17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02C-49CA-4341-B974-C84980A61A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6962760" y="647532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 Armstrong (US Do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ndatory coordin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676520"/>
          <a:ext cx="7772400" cy="465300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943280"/>
                <a:gridCol w="194292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ordination Entit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af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at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t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EEE-SA Editorial (MEC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7.0</a:t>
                      </a:r>
                      <a:br>
                        <a:rPr sz="2000"/>
                      </a:b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un 0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“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eets all editorial requirements. “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antities, Units and Letter Symbol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SCC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rms and Definitions (SCC1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stration Authority Committee (RAC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41F-E0D9-4225-B315-4F5181D16B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6962760" y="647532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 Armstrong (US Do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subsequent slides,  “Unsatisfied comments” includes both “Known Unsatisfied” and “Assumed Unsatisfied” com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A9A-104F-4616-A1C6-11472DB46E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6962760" y="647532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 Armstrong (US Do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57200" y="4114800"/>
            <a:ext cx="822960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The table shows the count of unsatisfied comments classified into: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 – Accepted.   The comment was accepted and the change indicated by the commenter was appro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 – Accepted in Principle.  The comment was accepted in principle, but a different change to the one indicated by the commenter was appro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 – Disagree.  The comment was declined and no change to address the comment was approved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U – Unresolvable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 – Out of Scope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8"/>
          <p:cNvGraphicFramePr/>
          <p:nvPr/>
        </p:nvGraphicFramePr>
        <p:xfrm>
          <a:off x="1952640" y="2013120"/>
          <a:ext cx="5121360" cy="1565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2640" y="2013120"/>
                    <a:ext cx="5121360" cy="15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C280-62AA-4A3A-BD96-851334F8C7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6962760" y="6475320"/>
            <a:ext cx="157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 Armstrong (US Do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4191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Object 10"/>
          <p:cNvGraphicFramePr/>
          <p:nvPr/>
        </p:nvGraphicFramePr>
        <p:xfrm>
          <a:off x="4192560" y="1568520"/>
          <a:ext cx="4272120" cy="76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2560" y="1568520"/>
                    <a:ext cx="427212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Rectangle 2"/>
          <p:cNvSpPr/>
          <p:nvPr/>
        </p:nvSpPr>
        <p:spPr>
          <a:xfrm>
            <a:off x="1219320" y="3276720"/>
            <a:ext cx="632448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Note: Mr. Roy did not vote in recirculation ballot #1 or #2, thus all of his comments from ballot #0 must be assumed to be unsatisfied. Prior to the close of ballot #2, he did not responded to requests for clarification of his status. After the ballot closed, received an email stating 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gratulations Lee … best wishes at RevCom! ”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ll other voters have indicated that they are satisfied with the comment resolutions from both ballots by changing their votes to “approve”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1EF-DFC1-4924-B2F2-A4575327F7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700560" y="334800"/>
            <a:ext cx="103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ril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6962760" y="6475320"/>
            <a:ext cx="1576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e Armstrong (US DoT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by Topi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6"/>
          <p:cNvGraphicFramePr/>
          <p:nvPr/>
        </p:nvGraphicFramePr>
        <p:xfrm>
          <a:off x="1447920" y="2373480"/>
          <a:ext cx="6172200" cy="24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73480"/>
                    <a:ext cx="6172200" cy="24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ECC-986B-448E-8F5F-AD57F65B62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Administrator</cp:lastModifiedBy>
  <cp:lastPrinted>1998-02-10T13:28:06Z</cp:lastPrinted>
  <dcterms:modified xsi:type="dcterms:W3CDTF">2010-04-09T22:49:29Z</dcterms:modified>
  <cp:revision>1130</cp:revision>
  <dc:subject/>
  <dc:title>TGn Report to EC</dc:title>
</cp:coreProperties>
</file>