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D5DE67-8C94-43CF-A0D4-0C55CCFF9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CEA59E-0A52-4CA0-8525-3CE06AC92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3F905-B4DF-4A14-A125-6C50125F3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4A84D-80FE-4D8C-A9A4-3C25E28E20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C9872-4758-4C5E-968F-F5169B8B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3A12C-7DEA-491F-8184-27CF65A32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F44DE-7CE1-41CA-AA00-8DBFFA19D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EE790-C639-4794-8FC8-1054F2F7E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4BF8E-121D-4D00-803E-C9017AA3C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A7DE5-7D63-4800-B187-F6D061C3B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F2741-921A-4DBC-AB22-983761BF7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8051-C7E3-4D94-B4B7-B045EFB2C7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AACF88-6BAD-458D-9E54-EA718DF6BD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356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ieee802.org/PARs.shtml" TargetMode="External"/><Relationship Id="rId2" Type="http://schemas.openxmlformats.org/officeDocument/2006/relationships/hyperlink" Target="https://mentor.ieee.org/802.11/dcn/10/11-10-0281-00-0000-comments-on-802-23-par-and-5c.ppt"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0666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response to Proposed 802 PAR - March Orlando Plenary</a:t>
            </a:r>
            <a:endParaRPr b="1" lang="en-US" sz="3200" spc="-1" strike="noStrike">
              <a:solidFill>
                <a:srgbClr val="000000"/>
              </a:solidFill>
              <a:latin typeface="Times New Roman"/>
            </a:endParaRPr>
          </a:p>
        </p:txBody>
      </p:sp>
      <p:sp>
        <p:nvSpPr>
          <p:cNvPr id="46" name="PlaceHolder 2"/>
          <p:cNvSpPr>
            <a:spLocks noGrp="1"/>
          </p:cNvSpPr>
          <p:nvPr>
            <p:ph/>
          </p:nvPr>
        </p:nvSpPr>
        <p:spPr>
          <a:xfrm>
            <a:off x="609480" y="24379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3-16</a:t>
            </a:r>
            <a:endParaRPr b="1" lang="en-US" sz="2000" spc="-1" strike="noStrike">
              <a:solidFill>
                <a:srgbClr val="000000"/>
              </a:solidFill>
              <a:latin typeface="Times New Roman"/>
            </a:endParaRPr>
          </a:p>
        </p:txBody>
      </p:sp>
      <p:graphicFrame>
        <p:nvGraphicFramePr>
          <p:cNvPr id="47" name=""/>
          <p:cNvGraphicFramePr/>
          <p:nvPr/>
        </p:nvGraphicFramePr>
        <p:xfrm>
          <a:off x="533520" y="3429000"/>
          <a:ext cx="8138880" cy="2498760"/>
        </p:xfrm>
        <a:graphic>
          <a:graphicData uri="http://schemas.openxmlformats.org/presentationml/2006/ole">
            <p:oleObj progId="Word.Document.12" r:id="rId1" spid="">
              <p:embed/>
              <p:pic>
                <p:nvPicPr>
                  <p:cNvPr id="48" name="" descr=""/>
                  <p:cNvPicPr/>
                  <p:nvPr/>
                </p:nvPicPr>
                <p:blipFill>
                  <a:blip r:embed="rId2"/>
                  <a:stretch/>
                </p:blipFill>
                <p:spPr>
                  <a:xfrm>
                    <a:off x="533520" y="3429000"/>
                    <a:ext cx="8138880" cy="2498760"/>
                  </a:xfrm>
                  <a:prstGeom prst="rect">
                    <a:avLst/>
                  </a:prstGeom>
                  <a:ln w="0">
                    <a:noFill/>
                  </a:ln>
                </p:spPr>
              </p:pic>
            </p:oleObj>
          </a:graphicData>
        </a:graphic>
      </p:graphicFrame>
      <p:sp>
        <p:nvSpPr>
          <p:cNvPr id="49" name=""/>
          <p:cNvSpPr/>
          <p:nvPr/>
        </p:nvSpPr>
        <p:spPr>
          <a:xfrm>
            <a:off x="609480" y="304812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2082C9B-B7C3-4878-80F5-87C35F7BE6E1}" type="slidenum">
              <a:t>1</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iming of moving from SG to WG (TG)</a:t>
            </a:r>
            <a:br>
              <a:rPr sz="2800"/>
            </a:br>
            <a:r>
              <a:rPr b="1" lang="en-GB" sz="2800" spc="-1" strike="noStrike">
                <a:solidFill>
                  <a:srgbClr val="000000"/>
                </a:solidFill>
                <a:latin typeface="Times New Roman"/>
              </a:rPr>
              <a:t>(ES-ECG)</a:t>
            </a:r>
            <a:endParaRPr b="1" lang="en-US" sz="28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rn: The Study Group should continue to gather the complete set of requirements from Regulatory Authorities and ECRIT before progressing to a WG/TG.</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rn: IEEE-SA expects that the SG is convened for 6 months, and then a project is given opportunity to progress.  Without a PAR the group does not have full indemnity.</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rn: Prior to creating a WG, the requirements of the Project should be defined.</a:t>
            </a:r>
            <a:endParaRPr b="1"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explain how the SG has evaluated the competing concerns</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F7CDA9E-1724-4D8A-A2C7-6F6C949D34E6}" type="slidenum">
              <a:t>10</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fic Suggested PAR changes</a:t>
            </a:r>
            <a:br>
              <a:rPr sz="3200"/>
            </a:br>
            <a:r>
              <a:rPr b="1" lang="en-US" sz="3200" spc="-1" strike="noStrike">
                <a:solidFill>
                  <a:srgbClr val="000000"/>
                </a:solidFill>
                <a:latin typeface="Times New Roman"/>
              </a:rPr>
              <a:t>(ES-ECSG)</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Item Number and Explanation):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8.1 clause does not include an “Item Number” suggest “5.2 Scope” be inserted.</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B623FDF-934B-4B81-AF69-91EB2D8D39F3}" type="slidenum">
              <a:t>11</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PAR</a:t>
            </a:r>
            <a:br>
              <a:rPr sz="3200"/>
            </a:br>
            <a:r>
              <a:rPr b="1" lang="en-US" sz="3200" spc="-1" strike="noStrike">
                <a:solidFill>
                  <a:srgbClr val="000000"/>
                </a:solidFill>
                <a:latin typeface="Times New Roman"/>
              </a:rPr>
              <a:t>as stated in proposed PAR</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of Proposed Standar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mendment specifies changes to the most recently approved version of the IEEE 802.16 MAC with its management and data interfaces for operation with increased robustness in degraded infrastructure. It will make no PHY changes.  This amendment will support path redundancy, mobile and local relaying, multi-hop relaying, Mobile Base Station, Low Duty Ratio, as well as operation in licensed, unlicensed and lightly licensed spectrum bands below 6 GHz with means and mechanisms to coexist with other radio access technologies (RAT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542CDCE-75EA-478F-BB14-0A160BC4B806}" type="slidenum">
              <a:t>12</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PAR</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pe Issues/Questions:</a:t>
            </a:r>
            <a:endParaRPr b="1"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at is “the most recently approved” it is not specific. What is “mobile and local relaying”? What is multi-hop relaying? Is a Mobile base station mobile, or is it talking to a Mobile Station?  What is “low duty Ratio”?  What bands are left after licensed, un-licensed and lightly licensed bands are exclud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cope statement seems loaded with terms lacking definition, but not substa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cope statement should be in present tense…”will support” should be changed to indicate what will be in the docu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209B49C-E230-4EF7-B197-BFE10311ADB8}" type="slidenum">
              <a:t>13</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proposed update to 802.16 PAR</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 that the PAR Scope statement be replaced with the follow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amendment specifies changes to the IEEE 802.16 MAC and its management and data interfaces for operation with increased robustness in degraded infrastructure.  No PHY changes are included.  This amendment identifies means and mechanisms to coexist with other radio access technologies (RATs) in licensed, unlicensed and lightly licensed spectrum bands below 6 GHz.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B19DBFB-D6C8-4E4B-B361-FF45ECE11C27}" type="slidenum">
              <a:t>14</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PAR</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erence in the 5C is not available:</a:t>
            </a:r>
            <a:endParaRPr b="1" lang="en-US" sz="2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your 5C Technical Feasibility  clause a) there are references that we cannot access. Would you please provide a means for dot11 to get to this material?</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The IEEE 802.16 GRIDMAN Study Group and prior NRR WG Ad Hoc Committee have reviewed several presentations indicating that the proposed functions are technically feasible. The technical reference documents and in particular the NRR report (C802.16nrr-08_004r3) are available on the link; http://dot16nrr.wirelessman.org. Moreover there are examples of prototypes that have demonstrated that the goal of the project is achieva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A23CB0D-7F9D-4B9D-B64A-607F988926C0}" type="slidenum">
              <a:t>15</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AX PAR</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5.5 Need for the project” a reference to 802.1AX is made, but on the 802.1 website we could not find that referenc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did find a copy of 802.1AX-2008 in the “GET 802” websit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ggest updating the 802.1 Website</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41201BC-4BFC-4C30-B0B5-C3CD008303D3}" type="slidenum">
              <a:t>16</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3bg</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ments from WG11 for the W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EB59DA8-FB44-4F83-BD17-6137ED2922C5}" type="slidenum">
              <a:t>17</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s under consideration:</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1"/>
              </a:rPr>
              <a:t>http://ieee802.org/PARs.shtml</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 documents for comment</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u="sng">
                <a:solidFill>
                  <a:srgbClr val="0066ff"/>
                </a:solidFill>
                <a:uFillTx/>
                <a:latin typeface="Times New Roman"/>
                <a:hlinkClick r:id="rId2"/>
              </a:rPr>
              <a:t>https://mentor.ieee.org/802.11/dcn/10/11-10-0281-00-0000-comments-on-802-23-par-and-5c.ppt</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A1AA5D8-76C1-4605-87EB-E20283FD6E92}" type="slidenum">
              <a:t>18</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comments on the proposed PARs for the 2010 March Plenar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3: slides3-12 – 3 major issues, one suggested chang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6: slides 12-17 – one suggested change, and one issu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 slide17 – one commen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3: slide 18 – no com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1B27E87-8026-4ECF-86AE-E278CADDE961}" type="slidenum">
              <a:t>2</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a:t>
            </a:r>
            <a:r>
              <a:rPr b="0" lang="en-US" sz="2400" spc="-1" strike="noStrike">
                <a:solidFill>
                  <a:srgbClr val="000000"/>
                </a:solidFill>
                <a:latin typeface="Times New Roman"/>
              </a:rPr>
              <a:t>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new MAC or PHY is outside the scope of this effor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8A9A455-E61B-4940-BCA7-C34748D2AB82}" type="slidenum">
              <a:t>3</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a:t>
            </a:r>
            <a:r>
              <a:rPr b="0" lang="en-US" sz="2400" spc="-1" strike="noStrike">
                <a:solidFill>
                  <a:srgbClr val="000000"/>
                </a:solidFill>
                <a:latin typeface="Times New Roman"/>
              </a:rPr>
              <a:t>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AE0B414-914F-47F6-BBD7-DC2DABEB9C49}" type="slidenum">
              <a:t>4</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Need for the Project: </a:t>
            </a:r>
            <a:r>
              <a:rPr b="0" lang="en-US" sz="2000" spc="-1" strike="noStrike">
                <a:solidFill>
                  <a:srgbClr val="000000"/>
                </a:solidFill>
                <a:latin typeface="Times New Roman"/>
              </a:rPr>
              <a:t>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Stakeholders for the Standard: </a:t>
            </a:r>
            <a:r>
              <a:rPr b="0" lang="en-US" sz="2000" spc="-1" strike="noStrike">
                <a:solidFill>
                  <a:srgbClr val="000000"/>
                </a:solidFill>
                <a:latin typeface="Times New Roman"/>
              </a:rPr>
              <a:t>Emergency Service authorities and government agencies (e.g. National Emergency Number Authority (NENA), and the equivalent bodies in the rest of the world); IETF; other telecom, cellular and emergency services standards development organizations (e.g. IETF, Third generation Partnership Project (3GPP), ETSI-Emergency Telecommunications (EMTEL)). Within IEEE 802, the expected stake holders will be 802.1, 802.3, 802.11, 802.16, 802.20 and 802.22 as potential Layer 2 alternatives and 802.21 for related handover develop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EC6B26-DB86-46EF-8E2D-2F999099A0D3}" type="slidenum">
              <a:t>5</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the 802.23 PAR (ES-ECSG)</a:t>
            </a:r>
            <a:endParaRPr b="1" lang="en-US" sz="3200" spc="-1" strike="noStrike">
              <a:solidFill>
                <a:srgbClr val="000000"/>
              </a:solidFill>
              <a:latin typeface="Times New Roman"/>
            </a:endParaRPr>
          </a:p>
        </p:txBody>
      </p:sp>
      <p:sp>
        <p:nvSpPr>
          <p:cNvPr id="59" name="PlaceHolder 2"/>
          <p:cNvSpPr>
            <a:spLocks noGrp="1"/>
          </p:cNvSpPr>
          <p:nvPr>
            <p:ph/>
          </p:nvPr>
        </p:nvSpPr>
        <p:spPr>
          <a:xfrm>
            <a:off x="380880" y="1980720"/>
            <a:ext cx="830592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Additional Explanatory Notes (Item Number and Explanation): </a:t>
            </a:r>
            <a:r>
              <a:rPr b="0" lang="en-US" sz="2000" spc="-1" strike="noStrike">
                <a:solidFill>
                  <a:srgbClr val="000000"/>
                </a:solidFill>
                <a:latin typeface="Times New Roman"/>
              </a:rPr>
              <a:t>There are increasingly uniform regulatory requirements that are being imposed on telephone systems across the world on the handling of calls to Emergency Services (911 calls in the US, for example). These requirements have been extended to cellular telephony and are being further extended to cover all cases of packet based telephony services. Voice over Internet Protocol (VoIP) is the most common of these. VoIP calls can easily originate on an 802 network. There is a need for such calls to be handled uniformly at the interface between the 802 Layer 2 network and the Internet. IETF-ECRIT is the group tasked with developing the Internet standards to meet these requirements for the upper layers of the protocol stack. This 802 effort will work with ECRIT to develop a complete solution.</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269D4F9-F2AD-4629-B66B-FE64606B7754}" type="slidenum">
              <a:t>6</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rns with the Emergency Services Study Group 802.23 PAR (ES-ECSG)</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issing Requirement defini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gulatory Authorities’ requirements not list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RIT Requirements and coordin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pport level is insuffici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iming of moving from SG to WG (TG)</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954C08E-4C14-45F7-9F6A-E9F44EA7017F}" type="slidenum">
              <a:t>7</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ssing Requirement definition </a:t>
            </a:r>
            <a:br>
              <a:rPr sz="3200"/>
            </a:br>
            <a:r>
              <a:rPr b="1" lang="en-US" sz="3200" spc="-1" strike="noStrike">
                <a:solidFill>
                  <a:srgbClr val="000000"/>
                </a:solidFill>
                <a:latin typeface="Times New Roman"/>
              </a:rPr>
              <a:t>(EC-ECSG)</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gulatory Authorities’ requirements are not listed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quest for specific requirements that can be identified to be listed in the PAR.</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CRIT Requirements missing from PAR and 5c; Coordination with ECRIT did not occur in SG activities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Requirements from ECRIT for 802 be included in P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plan for coordination with ECRI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Liaison relationship with ECRIT to ensure close coordination and cooperation with ECRI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describe the plan for addressing these poin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9C9EE7A-5E22-4B11-93EF-9624EABA7518}" type="slidenum">
              <a:t>8</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upport level is insufficient (ES-ECSG)</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rn: The participation level at the SG meetings has been fairly light.  Concern that for a new project that sufficient support be demonstrated to warrant the new effort.  Attendance by practical Experts is also a concer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ggestion: delay the start of the WG/TG until more support is garnere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540B8AF-18C4-4677-99E0-BDF96702B33D}" type="slidenum">
              <a:t>9</a:t>
            </a:fld>
          </a:p>
        </p:txBody>
      </p:sp>
      <p:sp>
        <p:nvSpPr>
          <p:cNvPr id="6" name="PlaceHolder 5"/>
          <p:cNvSpPr>
            <a:spLocks noGrp="1"/>
          </p:cNvSpPr>
          <p:nvPr>
            <p:ph type="dt" idx="1"/>
          </p:nvPr>
        </p:nvSpPr>
        <p:spPr/>
        <p:txBody>
          <a:bodyPr/>
          <a:p>
            <a:r>
              <a:rPr lang="en-US"/>
              <a:t>March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12:37:11Z</dcterms:created>
  <dc:creator>Jon Rosdahl</dc:creator>
  <dc:description/>
  <dc:language>en-US</dc:language>
  <cp:lastModifiedBy>jr05</cp:lastModifiedBy>
  <cp:lastPrinted>1998-02-10T13:28:06Z</cp:lastPrinted>
  <dcterms:modified xsi:type="dcterms:W3CDTF">2010-03-16T16:37:08Z</dcterms:modified>
  <cp:revision>5</cp:revision>
  <dc:subject/>
  <dc:title>WG11 response to Proposed 802 PAR - March Orlando Plenary</dc:title>
</cp:coreProperties>
</file>