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2A2BD-EA11-4EAF-9F89-DEDCE528B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5D763-B4DE-4A61-B190-AF2B25B3C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66C7B-1C2B-4EB8-9379-3A144EABE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6C99A-5A81-4C41-9E4D-4636831A7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9E0DD-30D7-4510-8262-A915A39FC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F94ED-4E80-4631-BBF5-4E5410B8A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80C62-48E3-40C9-85AD-6A798F539E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13242-8326-4352-B98D-A1E789DF7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A2FEC-FE69-4C6A-BED9-AF221571F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2A04F4-EAAE-4879-BFE9-C0A77A3D6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9C055-90D3-4F20-BC67-6AC6C9884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8B627-312F-4AF7-82D1-200B5A404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FF4965-FA86-4A7A-8CA9-4234E7881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1220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09/11-09-1197-00-0000-review-802-pars-underconsideration-for-nov-plenary.pp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eee802.org/PARs/2009-11/22-09-0159-07-0000-modified-ieee-p802-22-par-and-5c.pdf"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eee802.org/PARs/2009-11/22-09-0165-05-0000-ieee-p802-22-3-draft-par-and-5c.doc"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11 Comments on 802-22 PARs submitted Nov 2009 </a:t>
            </a:r>
            <a:endParaRPr b="1" lang="en-US" sz="3200" spc="-1" strike="noStrike">
              <a:solidFill>
                <a:srgbClr val="000000"/>
              </a:solidFill>
              <a:latin typeface="Times New Roman"/>
            </a:endParaRPr>
          </a:p>
        </p:txBody>
      </p:sp>
      <p:sp>
        <p:nvSpPr>
          <p:cNvPr id="46" name="PlaceHolder 2"/>
          <p:cNvSpPr>
            <a:spLocks noGrp="1"/>
          </p:cNvSpPr>
          <p:nvPr>
            <p:ph/>
          </p:nvPr>
        </p:nvSpPr>
        <p:spPr>
          <a:xfrm>
            <a:off x="2361960" y="1905120"/>
            <a:ext cx="3809880" cy="38088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a:t>
            </a:r>
            <a:r>
              <a:rPr b="0" lang="en-US" sz="1800" spc="-1" strike="noStrike">
                <a:solidFill>
                  <a:srgbClr val="000000"/>
                </a:solidFill>
                <a:latin typeface="Times New Roman"/>
              </a:rPr>
              <a:t> 2009-11-17</a:t>
            </a:r>
            <a:endParaRPr b="1" lang="en-US" sz="1800" spc="-1" strike="noStrike">
              <a:solidFill>
                <a:srgbClr val="000000"/>
              </a:solidFill>
              <a:latin typeface="Times New Roman"/>
            </a:endParaRPr>
          </a:p>
        </p:txBody>
      </p:sp>
      <p:sp>
        <p:nvSpPr>
          <p:cNvPr id="47" name=""/>
          <p:cNvSpPr/>
          <p:nvPr/>
        </p:nvSpPr>
        <p:spPr>
          <a:xfrm>
            <a:off x="533520" y="24382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48" name=""/>
          <p:cNvGraphicFramePr/>
          <p:nvPr/>
        </p:nvGraphicFramePr>
        <p:xfrm>
          <a:off x="457200" y="2819520"/>
          <a:ext cx="8381880" cy="2587680"/>
        </p:xfrm>
        <a:graphic>
          <a:graphicData uri="http://schemas.openxmlformats.org/presentationml/2006/ole">
            <p:oleObj progId="Word.Document.12" r:id="rId1" spid="">
              <p:embed/>
              <p:pic>
                <p:nvPicPr>
                  <p:cNvPr id="49" name="" descr=""/>
                  <p:cNvPicPr/>
                  <p:nvPr/>
                </p:nvPicPr>
                <p:blipFill>
                  <a:blip r:embed="rId2"/>
                  <a:stretch/>
                </p:blipFill>
                <p:spPr>
                  <a:xfrm>
                    <a:off x="457200" y="2819520"/>
                    <a:ext cx="8381880" cy="258768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355B9B3-0B33-4CEF-883C-D7F71B594055}" type="slidenum">
              <a:t>1</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22.3 (3)</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echnical Feasibility</a:t>
            </a:r>
            <a:endParaRPr b="1" lang="en-US" sz="20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6 : the statements are very broad, and in some cases not accurate…” </a:t>
            </a:r>
            <a:r>
              <a:rPr b="0" i="1" lang="en-GB" sz="1400" spc="-1" strike="noStrike">
                <a:solidFill>
                  <a:srgbClr val="000000"/>
                </a:solidFill>
                <a:latin typeface="Times New Roman"/>
              </a:rPr>
              <a:t>Existing 802 wireless standards in other bands (e.g. 802.11h) have demonstrated that detection and avoidance of operation in spectrum occupied by licensed  users is technically feasible.”</a:t>
            </a:r>
            <a:endParaRPr b="0" lang="en-US" sz="1400" spc="-1" strike="noStrike">
              <a:solidFill>
                <a:srgbClr val="000000"/>
              </a:solidFill>
              <a:latin typeface="Times New Roman"/>
            </a:endParaRPr>
          </a:p>
          <a:p>
            <a:pPr lvl="2" marL="1074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802.11h does not do detect and avoid (DAA) it only specified DFS and TPC.</a:t>
            </a:r>
            <a:endParaRPr b="0" lang="en-US" sz="1200" spc="-1" strike="noStrike">
              <a:solidFill>
                <a:srgbClr val="000000"/>
              </a:solidFill>
              <a:latin typeface="Times New Roman"/>
            </a:endParaRPr>
          </a:p>
          <a:p>
            <a:pPr lvl="2" marL="1074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ssue 7: The statements should address the “demonstrated” technology that show the technical feasibility.</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8: The addition of  “Scalable” as the main focus, should be addressed in the 5C to show the distinct difference from the base 22 standard.</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9 (to be renumbered as #1): If 802.22.3 is an extension of 802.22, and creating a “</a:t>
            </a:r>
            <a:r>
              <a:rPr b="1" lang="en-GB" sz="1800" spc="-1" strike="noStrike">
                <a:solidFill>
                  <a:srgbClr val="ff3300"/>
                </a:solidFill>
                <a:latin typeface="Times New Roman"/>
              </a:rPr>
              <a:t>Scalable</a:t>
            </a:r>
            <a:r>
              <a:rPr b="0" lang="en-GB" sz="1800" spc="-1" strike="noStrike">
                <a:solidFill>
                  <a:srgbClr val="000000"/>
                </a:solidFill>
                <a:latin typeface="Times New Roman"/>
              </a:rPr>
              <a:t>” extension of the standard, then this should be an amendment.  The Amendment should be created after the standard is approved to allow a consistent target for the amendment to modif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75DC5CE-9E05-4A11-836D-22067774AD45}" type="slidenum">
              <a:t>10</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entor.ieee.org/802.11/dcn/09/11-09-1197-00-0000-review-802-pars-underconsideration-for-nov-plenary.pp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60B460B-E4BA-4A3D-8107-BC4237E5020C}" type="slidenum">
              <a:t>11</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ubmission contains the comments to 802.22 on the two PARs that are under consideration for the November Plenary.</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was a motion to forward these comments to 802.22, each motion passed 12-0-0 for sending these comments from 802.11.</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2 sets of comments, one for each PA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802.22 slides 3-7</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802.22.3 slides 8-11</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06FA726-943F-4A4B-A143-1F92ED746003}" type="slidenum">
              <a:t>2</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PAR modification to clarifying scope, </a:t>
            </a:r>
            <a:r>
              <a:rPr b="1" lang="en-US" sz="3200" spc="-1" strike="noStrike" u="sng">
                <a:solidFill>
                  <a:srgbClr val="0066ff"/>
                </a:solidFill>
                <a:uFillTx/>
                <a:latin typeface="Times New Roman"/>
                <a:hlinkClick r:id="rId1"/>
              </a:rPr>
              <a:t>PAR and 5C</a:t>
            </a:r>
            <a:r>
              <a:rPr b="1" lang="en-US" sz="3200" spc="-1" strike="noStrike" u="sng">
                <a:solidFill>
                  <a:srgbClr val="000000"/>
                </a:solidFill>
                <a:uFillTx/>
                <a:latin typeface="Times New Roman"/>
              </a:rPr>
              <a:t> </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 Doc 11-09/1105r1 – submission that has some discussion on the rational for changing the scop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 Problem: Dates  for completion are not realistic.  The dates need to be corrected (we suggest that the dates of Start Sponsor 12-2012 and RevCom 12-2013 would be more realistic/acceptabl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 the form presented was not the correct PAR form.  The PAR modification form should be us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C1A3FAD-15C4-4ED7-98EB-5441DF10F592}" type="slidenum">
              <a:t>3</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2)</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Scope: </a:t>
            </a:r>
            <a:r>
              <a:rPr b="0" lang="en-US" sz="2400" spc="-1" strike="noStrike">
                <a:solidFill>
                  <a:srgbClr val="000000"/>
                </a:solidFill>
                <a:latin typeface="Times New Roman"/>
              </a:rPr>
              <a:t>This standard specifies the air interface, including the cognitive medium access control layer (MAC) and physical layer (PHY), of point-to-multipoint wireless regional area networks comprised of a professional fixed base station with fixed and portable user terminals operating in the VHF/UHF TV broadcast bands between 54 MHz and 862 MHz.</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sue 4: </a:t>
            </a:r>
            <a:r>
              <a:rPr b="0" lang="en-US" sz="2000" spc="-1" strike="noStrike">
                <a:solidFill>
                  <a:srgbClr val="000000"/>
                </a:solidFill>
                <a:latin typeface="Times New Roman"/>
              </a:rPr>
              <a:t>“professional fixed base station” should be “professionally installed fixed base station” – (insert the word “install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81ABDB7-C393-4972-B967-8EEEE6B4E4DC}" type="slidenum">
              <a:t>4</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3)</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other comment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5: Remove the following text as it is no longer necessary/needed from the end of the first paragraph:</a:t>
            </a:r>
            <a:endParaRPr b="0" lang="en-US" sz="20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e IEEE 802.18 Study Group chartered to develop this PAR does not believe that any existing IEEE 802 PHY/MAC combination can meet these requirements without extensive modifications. The Study Group has therefore concluded that placing the project in a new WorkingGroup is the most efficient approach..”</a:t>
            </a:r>
            <a:endParaRPr b="0" lang="en-US" sz="1600" spc="-1" strike="noStrike">
              <a:solidFill>
                <a:srgbClr val="000000"/>
              </a:solidFill>
              <a:latin typeface="Times New Roman"/>
            </a:endParaRPr>
          </a:p>
          <a:p>
            <a:pPr lvl="2" marL="10857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c: Distinct Identity A</a:t>
            </a:r>
            <a:endParaRPr b="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6: This text fails to distinguish among 802.16h, which will be an approved amendment in early 2010, and 802.22 and the efforts proposed in the 802.22.3 PAR. Add distinctions between each of the three. Be aware that 802.16h clause 6.3.2.3.86 does report DTV, wireless microphones and other licensed us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A314E9E-FA71-4796-A1C8-EAEBEBD60784}" type="slidenum">
              <a:t>5</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4)</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C Technical Feasibility –</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7: There is no experience of WLAN devices operating under the control of fixed outdoor devices reliably, and indeed the question of reliable operation without common control is an issue in every unlicensed 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C Economic Feasibility –</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8: Not all devices are autonomous, indeed the FCC ruling requires that Master Devices contact the TV bands database before any transmission is allowed. Change this text to include operation with a TV bands database.</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AF84354-0670-43A2-B7F3-71A43AAD7B54}" type="slidenum">
              <a:t>6</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22 (5)</a:t>
            </a:r>
            <a:endParaRPr b="1" lang="en-US" sz="28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Titl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Technology -Telecommunications and information exchange between systems – </a:t>
            </a:r>
            <a:r>
              <a:rPr b="0" lang="en-US" sz="2000" spc="-1" strike="noStrike">
                <a:solidFill>
                  <a:srgbClr val="ff3300"/>
                </a:solidFill>
                <a:latin typeface="Times New Roman"/>
              </a:rPr>
              <a:t>Wireless Regional Area Networks (WRAN)</a:t>
            </a:r>
            <a:r>
              <a:rPr b="0" lang="en-US" sz="2000" spc="-1" strike="noStrike">
                <a:solidFill>
                  <a:srgbClr val="000000"/>
                </a:solidFill>
                <a:latin typeface="Times New Roman"/>
              </a:rPr>
              <a:t> - Specific requirements - Part 22: Cognitive Wireless RAN Medium Access Control (MAC) and Physical Layer (PHY) specifications: Policies and procedures for operation in the TV Bands</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9: The Title is in properly formed.  Prior to the “Part 22” it is should be the consistent boilerplate that all 802 Standards have. Then after the “Part 22” it should have what designates this to the 22WG and then the specific title part for the covered technolog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D95E08A-9494-4EED-BC8D-BD2153584AEB}" type="slidenum">
              <a:t>7</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3 new standard for scalable WRAN operations, </a:t>
            </a:r>
            <a:r>
              <a:rPr b="1" lang="en-US" sz="3200" spc="-1" strike="noStrike" u="sng">
                <a:solidFill>
                  <a:srgbClr val="0066ff"/>
                </a:solidFill>
                <a:uFillTx/>
                <a:latin typeface="Times New Roman"/>
                <a:hlinkClick r:id="rId1"/>
              </a:rPr>
              <a:t>PAR and 5C</a:t>
            </a:r>
            <a:r>
              <a:rPr b="1" lang="en-US" sz="3200" spc="-1" strike="noStrike" u="sng">
                <a:solidFill>
                  <a:srgbClr val="000000"/>
                </a:solidFill>
                <a:uFillTx/>
                <a:latin typeface="Times New Roman"/>
              </a:rPr>
              <a:t> </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9/1106 discusses possible issues with the PAR and 5C.</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 Title of Standard: Cognitive Medium Access Control (MAC) and Physical Layer (PHY) specifications: Policies and procedures for </a:t>
            </a:r>
            <a:r>
              <a:rPr b="1" lang="en-GB" sz="2000" spc="-1" strike="noStrike">
                <a:solidFill>
                  <a:srgbClr val="ff3300"/>
                </a:solidFill>
                <a:latin typeface="Times New Roman"/>
              </a:rPr>
              <a:t>Scalable </a:t>
            </a:r>
            <a:r>
              <a:rPr b="1" lang="en-GB" sz="2000" spc="-1" strike="noStrike">
                <a:solidFill>
                  <a:srgbClr val="000000"/>
                </a:solidFill>
                <a:latin typeface="Times New Roman"/>
              </a:rPr>
              <a:t>operations of Wireless Regional Area Networks (WRAN) in the TV Bands.</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1: delete </a:t>
            </a:r>
            <a:r>
              <a:rPr b="0" lang="en-GB" sz="1800" spc="-1" strike="noStrike">
                <a:solidFill>
                  <a:srgbClr val="000000"/>
                </a:solidFill>
                <a:latin typeface="Times New Roman"/>
              </a:rPr>
              <a:t>“Policies and procedures for “ from the title.  This is a standard fo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2: The full title is not listed in the PAR form.. It should have the Boiler Plate from 802 followed by “Part 22” followed by the designation that this is for the “WRAN..” and then the specific designation of what is being cover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3: the title for 802.22.3 should be Distinct and yet consistent with the 802/802.22 family of titl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B028DF9-6A28-4011-A9C0-1D2496A3D211}" type="slidenum">
              <a:t>8</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3 (2)</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No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4: Remove the following text “</a:t>
            </a:r>
            <a:r>
              <a:rPr b="1" lang="en-GB" sz="2000" spc="-1" strike="noStrike">
                <a:solidFill>
                  <a:srgbClr val="000000"/>
                </a:solidFill>
                <a:latin typeface="Times New Roman"/>
              </a:rPr>
              <a:t>Item Number: 5.5 (Need for the Project):</a:t>
            </a:r>
            <a:endParaRPr b="0" lang="en-US" sz="2000" spc="-1" strike="noStrike">
              <a:solidFill>
                <a:srgbClr val="000000"/>
              </a:solidFill>
              <a:latin typeface="Times New Roman"/>
            </a:endParaRPr>
          </a:p>
          <a:p>
            <a:pPr lvl="2" marL="108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IEEE 802.22.3 standard is intended to be integrated to IEEE 802.22 standard. </a:t>
            </a:r>
            <a:endParaRPr b="0" lang="en-US" sz="1800" spc="-1" strike="noStrike">
              <a:solidFill>
                <a:srgbClr val="000000"/>
              </a:solidFill>
              <a:latin typeface="Times New Roman"/>
            </a:endParaRPr>
          </a:p>
          <a:p>
            <a:pPr lvl="2" marL="108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may be more correctly included in 5.5.</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C Distinct Identity: </a:t>
            </a:r>
            <a:r>
              <a:rPr b="1" lang="en-GB" sz="1800" spc="-1" strike="noStrike">
                <a:solidFill>
                  <a:srgbClr val="000000"/>
                </a:solidFill>
                <a:latin typeface="Times New Roman"/>
              </a:rPr>
              <a:t>a) Substantially different from other IEEE 802 standards. Table</a:t>
            </a:r>
            <a:endParaRPr b="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ue 5: Page 8 of 11-09-1106r0 shows several errors in the table and in the explanation not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ease correct as noted in 11-09/1106r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15CF739-A023-4662-8B8B-80E008580164}" type="slidenum">
              <a:t>9</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7:48:59Z</dcterms:created>
  <dc:creator>Jon Rosdahl</dc:creator>
  <dc:description/>
  <dc:language>en-US</dc:language>
  <cp:lastModifiedBy>jr05</cp:lastModifiedBy>
  <cp:lastPrinted>1998-02-10T13:28:06Z</cp:lastPrinted>
  <dcterms:modified xsi:type="dcterms:W3CDTF">2009-11-17T20:26:52Z</dcterms:modified>
  <cp:revision>4</cp:revision>
  <dc:subject/>
  <dc:title>WG11 Comments on 802-22 PARs submitted Nov 2009</dc:title>
</cp:coreProperties>
</file>