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7FE7E-0AE7-4C1D-8C97-4244B320E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ABAF0-214D-414D-AB9C-51B9011D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BAF0D-2AE5-4DAB-B532-77A4D3E58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3D99B-10DA-4053-AACA-C73C2AC150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BCB33-3337-4F71-A1E1-7631A11B5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A6517-3D00-479A-A0BB-9CF2921E7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556B2-B438-46ED-8734-9993DE02A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FB370-4FA1-428E-9245-97B415A2A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04224-2FA0-4201-BB5A-E080ABDFA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3B14-C487-4D3F-9F34-0253930B7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9BA5-6EC2-4B2A-B4D2-DA4D70C53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D8833-4CEC-42A7-B9D9-79A663589B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6B8E7E-0EC6-4C2A-98C4-AD08E1E24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1219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PARs/2009-11/TVWS-PAR.pdf" TargetMode="External"/><Relationship Id="rId2" Type="http://schemas.openxmlformats.org/officeDocument/2006/relationships/hyperlink" Target="http://ieee802.org/PARs/2009-11/19-09-0081-01-tvws-5cs-with-text-agreed-on-by-the-sg.doc"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mentor.ieee.org/802.11/dcn/09/11-09-1107-00-tvws-some-802-11-comments-on-802-19-par-and-5c.pdf"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09/11-09-1197-00-0000-review-802-pars-underconsideration-for-nov-plenary.pp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11 Comments on 802-19 PAR submission Nov 2009</a:t>
            </a:r>
            <a:endParaRPr b="1" lang="en-US" sz="3200" spc="-1" strike="noStrike">
              <a:solidFill>
                <a:srgbClr val="000000"/>
              </a:solidFill>
              <a:latin typeface="Times New Roman"/>
            </a:endParaRPr>
          </a:p>
        </p:txBody>
      </p:sp>
      <p:sp>
        <p:nvSpPr>
          <p:cNvPr id="46" name="PlaceHolder 2"/>
          <p:cNvSpPr>
            <a:spLocks noGrp="1"/>
          </p:cNvSpPr>
          <p:nvPr>
            <p:ph/>
          </p:nvPr>
        </p:nvSpPr>
        <p:spPr>
          <a:xfrm>
            <a:off x="2285640" y="1752120"/>
            <a:ext cx="3886200" cy="38124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09-11-17</a:t>
            </a:r>
            <a:endParaRPr b="1" lang="en-US" sz="1800" spc="-1" strike="noStrike">
              <a:solidFill>
                <a:srgbClr val="000000"/>
              </a:solidFill>
              <a:latin typeface="Times New Roman"/>
            </a:endParaRPr>
          </a:p>
        </p:txBody>
      </p:sp>
      <p:sp>
        <p:nvSpPr>
          <p:cNvPr id="47"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48" name=""/>
          <p:cNvGraphicFramePr/>
          <p:nvPr/>
        </p:nvGraphicFramePr>
        <p:xfrm>
          <a:off x="152280" y="2438280"/>
          <a:ext cx="8610840" cy="2659320"/>
        </p:xfrm>
        <a:graphic>
          <a:graphicData uri="http://schemas.openxmlformats.org/presentationml/2006/ole">
            <p:oleObj progId="Word.Document.12" r:id="rId1" spid="">
              <p:embed/>
              <p:pic>
                <p:nvPicPr>
                  <p:cNvPr id="49" name="" descr=""/>
                  <p:cNvPicPr/>
                  <p:nvPr/>
                </p:nvPicPr>
                <p:blipFill>
                  <a:blip r:embed="rId2"/>
                  <a:stretch/>
                </p:blipFill>
                <p:spPr>
                  <a:xfrm>
                    <a:off x="152280" y="2438280"/>
                    <a:ext cx="8610840" cy="265932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C8DFB0A-23DC-4059-824B-57AED2FE4F36}" type="slidenum">
              <a:t>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Comments for 802.19 on the proposed PAR under consideration by the 802 EC for Nov 2009 Plenary represent the official set from 802.11 WG.</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some cases a straw poll was conducted and the results are indicated where a question on the level of support for the comment was mad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ial motion to submit this set of comments/issues was passed 7 yes, 0 no, 6 absta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54C99A1-226C-46F1-B9A0-408B890B7B4F}" type="slidenum">
              <a:t>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new standard for TV white space coexistence mechanisms,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 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 Issues to 802.19</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 </a:t>
            </a:r>
            <a:r>
              <a:rPr b="0" lang="en-US" sz="2400" spc="-1" strike="noStrike">
                <a:solidFill>
                  <a:srgbClr val="000000"/>
                </a:solidFill>
                <a:latin typeface="Times New Roman"/>
              </a:rPr>
              <a:t>Standard for Information Technology - Telecommunications and Information Exchange Between Systems - Local and Metropolitan Area Networks - Specific Requirements - Part 19: TV White Space Coexistence Mechanism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tuation #1: </a:t>
            </a:r>
            <a:r>
              <a:rPr b="0" lang="en-US" sz="2000" spc="-1" strike="noStrike">
                <a:solidFill>
                  <a:srgbClr val="000000"/>
                </a:solidFill>
                <a:latin typeface="Times New Roman"/>
              </a:rPr>
              <a:t>Title includes “Coexistence Mechanis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a:t>
            </a:r>
            <a:r>
              <a:rPr b="0" lang="en-US" sz="2000" spc="-1" strike="noStrike">
                <a:solidFill>
                  <a:srgbClr val="000000"/>
                </a:solidFill>
                <a:latin typeface="Times New Roman"/>
              </a:rPr>
              <a:t>The PAR and 5C does not define what “Coexistence Mechanism” i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ed Fix: </a:t>
            </a:r>
            <a:r>
              <a:rPr b="0" lang="en-US" sz="2000" spc="-1" strike="noStrike">
                <a:solidFill>
                  <a:srgbClr val="000000"/>
                </a:solidFill>
                <a:latin typeface="Times New Roman"/>
              </a:rPr>
              <a:t>In the PAR and 5C define what “Coexistence Mechanism” really is.</a:t>
            </a:r>
            <a:endParaRPr b="0" lang="en-US" sz="2000" spc="-1" strike="noStrike">
              <a:solidFill>
                <a:srgbClr val="000000"/>
              </a:solidFill>
              <a:latin typeface="Times New Roman"/>
            </a:endParaRPr>
          </a:p>
          <a:p>
            <a:pPr lvl="4" marL="17715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 Submit to .19: 14 yes, 2 no, 11 abstai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AF82B0E-78CD-4B8C-AE04-6463A7B13D70}" type="slidenum">
              <a:t>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2)  </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a:t>
            </a:r>
            <a:endParaRPr b="1"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tuation #2: The title specifies that this a Standard.</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a:t>
            </a:r>
            <a:r>
              <a:rPr b="0" lang="en-US" sz="2000" spc="-1" strike="noStrike">
                <a:solidFill>
                  <a:srgbClr val="000000"/>
                </a:solidFill>
                <a:latin typeface="Times New Roman"/>
              </a:rPr>
              <a:t>We do not believe it should be Standard.  The level of evidence provided for Feasibility in the 5C does not justify a Standard</a:t>
            </a:r>
            <a:endParaRPr b="0" lang="en-US" sz="20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does not identify any existing proven similar “coexistence mechanisms” in any unlicensed bands.</a:t>
            </a:r>
            <a:endParaRPr b="0" lang="en-US" sz="1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ed Fix. </a:t>
            </a:r>
            <a:r>
              <a:rPr b="0" lang="en-US" sz="2000" spc="-1" strike="noStrike">
                <a:solidFill>
                  <a:srgbClr val="000000"/>
                </a:solidFill>
                <a:latin typeface="Times New Roman"/>
              </a:rPr>
              <a:t>Make this PAR for a Recommended Practice to provide 802.19 group an opportunity to demonstrate the feasibility</a:t>
            </a:r>
            <a:endParaRPr b="0" lang="en-US" sz="20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mmended Practice has a trial use aspect that should be addressed.</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the technical rigor that is employed in creating documents increases as you go from Guides -&gt; Recommended Practices -&gt; Standards.</a:t>
            </a:r>
            <a:endParaRPr b="0" lang="en-US" sz="1800" spc="-1" strike="noStrike">
              <a:solidFill>
                <a:srgbClr val="000000"/>
              </a:solidFill>
              <a:latin typeface="Times New Roman"/>
            </a:endParaRPr>
          </a:p>
          <a:p>
            <a:pPr lvl="4" marL="171828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poll: submit to .19 – 9 yes 6 no 13 abstai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B5D0957-4294-4C1F-AF53-51BBEEE35521}" type="slidenum">
              <a:t>4</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The PAR and 5C subject matter do not match.</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the 5C do not relate to the PAR</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5C - Technical Feasibility</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ponses to the 3 points are non responsive.  The technical details are not given, or shown by example.</a:t>
            </a:r>
            <a:endParaRPr b="0" lang="en-US" sz="18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9/1107r0 (</a:t>
            </a:r>
            <a:r>
              <a:rPr b="0" lang="en-US" sz="1600" spc="-1" strike="noStrike" u="sng">
                <a:solidFill>
                  <a:srgbClr val="0066ff"/>
                </a:solidFill>
                <a:uFillTx/>
                <a:latin typeface="Times New Roman"/>
                <a:hlinkClick r:id="rId1"/>
              </a:rPr>
              <a:t>https://mentor.ieee.org/802.11/dcn/09/11-09-1107-00-tvws-some-802-11-comments-on-802-19-par-and-5c.pdf</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5C – Economic Feasibility</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ponse does not address what the cost factors are nor if there is economic feasibility that has been demonstrated.</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8.1 – 5.5 need explanation</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laim is made in the PAR that Quality of Service is improved for all participants.  In unlicensed bands, that is not technically feasible.  There is not enough bandwidth to provide independent control of Qo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D81DECC-8E07-4D81-8526-57B11310ED4E}" type="slidenum">
              <a:t>5</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The PAR does not justify the need for a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ing a Messaging system rather than a physical syst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consumption consider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lane system that does not change the MAC/PHYs, so the relative rates that are needed to match for communication between the disparate systems is not show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Confusion on what the proposed PAR will actually chang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clear if 802.19 is going to propose another MAC/PHY or just provide a layer-3 and above specification.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Title is very ambiguous as to what the “Coexistence Mechanism” really ar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is requiring a new MAC/PHY or changes to existing 802 WG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1D705C2-3EF1-4A1C-9415-A4FA790F8C8A}" type="slidenum">
              <a:t>6</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5)</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From the 5C the following statement needs to be clarified as to what changes to the 802 WGs are going to be targete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s standard will not require changes to any existing 802 MAC SAP definitions, ensuring that all LLC and MAC interfaces are compatible to and in conformance with the IEEE 802.1 architecture, management and internetworking standard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 It is implied that a Standard will be imposed on all the 802 WG after ratification, and what changes may be required is unknown.</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more detail on what the expectation is that justifies this being a Standard rather than a Recommended Practic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718A1A7-D535-417F-A547-F5CF4052E29A}" type="slidenum">
              <a:t>7</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11/dcn/09/11-09-1197-00-0000-review-802-pars-underconsideration-for-nov-plenary.pp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E07E284-5BAB-45DE-9182-2364DFC43EDE}" type="slidenum">
              <a:t>8</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7:48:59Z</dcterms:created>
  <dc:creator>Jon Rosdahl</dc:creator>
  <dc:description/>
  <dc:language>en-US</dc:language>
  <cp:lastModifiedBy>jr05</cp:lastModifiedBy>
  <cp:lastPrinted>1998-02-10T13:28:06Z</cp:lastPrinted>
  <dcterms:modified xsi:type="dcterms:W3CDTF">2009-11-17T18:30:13Z</dcterms:modified>
  <cp:revision>4</cp:revision>
  <dc:subject/>
  <dc:title>WG11 Comments on 802-19 PAR submission Nov 2009</dc:title>
</cp:coreProperties>
</file>