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4106-2AB3-4A46-9F88-B6ED107C6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B1FA-8C04-473E-BC25-9A61E8D2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4437-E7FA-4162-976A-712990A56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FB53-314F-42B5-BB15-5EE510B87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784F-D1B9-4B36-B06F-1375CEBC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54BF-7EF0-4B56-8F84-0308F0D9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3D58-C371-41AB-BCE0-D2E9A155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4A83-F318-4AB9-B687-6EF13E64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45EA-A7A2-4D6C-994B-C1D6578E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0BA1-0C8B-402D-B318-0E4252BB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BBC7-AC51-4ADE-B93D-EECA259A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B624-B10F-47B8-97FD-E992DEAB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44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752120" y="64767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BA0405A-0ACA-4771-9FE4-4282B49FC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297840" y="334800"/>
            <a:ext cx="2149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11-09/879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09/11-09-0879-07-000z-p802-11z-report-to-ec-on-conditional-approval-to-go-to-sponsor-ballot.ppt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802.11z Report to EC on Conditional Approval to go to Sponsor Ballo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90512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09480" y="2286000"/>
          <a:ext cx="7391520" cy="1276200"/>
        </p:xfrm>
        <a:graphic>
          <a:graphicData uri="http://schemas.openxmlformats.org/drawingml/2006/table">
            <a:tbl>
              <a:tblPr/>
              <a:tblGrid>
                <a:gridCol w="1447920"/>
                <a:gridCol w="1371600"/>
                <a:gridCol w="1752480"/>
                <a:gridCol w="914400"/>
                <a:gridCol w="19051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ffili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a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nzo Wenti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lcom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aatweg 66, Breukelen, the Netherlan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31 65 183 62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wentink@qualcomm.c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uce Kraem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ve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88 Marvell Lane, Santa Clara, CA 950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 (321) 427-40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kraemer@marvell.c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nzo Wentink (Qualcomm), Bruce Kraemer (Marvell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D976-2BB7-499A-8804-711B7B99D24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802.11 WG Letter Ballot Results – P802.11z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160" y="2046240"/>
            <a:ext cx="90676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08000" y="1600200"/>
          <a:ext cx="8915400" cy="4394160"/>
        </p:xfrm>
        <a:graphic>
          <a:graphicData uri="http://schemas.openxmlformats.org/drawingml/2006/table">
            <a:tbl>
              <a:tblPr/>
              <a:tblGrid>
                <a:gridCol w="692280"/>
                <a:gridCol w="831600"/>
                <a:gridCol w="2362320"/>
                <a:gridCol w="1403280"/>
                <a:gridCol w="522360"/>
                <a:gridCol w="533520"/>
                <a:gridCol w="409320"/>
                <a:gridCol w="409680"/>
                <a:gridCol w="409680"/>
                <a:gridCol w="522000"/>
                <a:gridCol w="409680"/>
                <a:gridCol w="409680"/>
              </a:tblGrid>
              <a:tr h="122076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lot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lot Close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t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lot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ur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Retur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st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Abst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pro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appro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Appro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  Dec 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chnical Letter Ballot for TGz draft 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chnic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March 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rst Recirculation Ballot for TGz draft 4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 June 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cond Recirculation  Ballot for TGz draft 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 July 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fter ballot comment resolu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 Aug 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ird Recirculation  Ballot for TGz draft 6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ul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nzo Wentink (Qualcomm), Bruce Kraemer (Marvell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C57B-4CE2-4C89-9451-8573BB32837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802.11 WG Letter Ballot Comments – P802.11z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28600" y="1828800"/>
          <a:ext cx="8610480" cy="3193920"/>
        </p:xfrm>
        <a:graphic>
          <a:graphicData uri="http://schemas.openxmlformats.org/drawingml/2006/table">
            <a:tbl>
              <a:tblPr/>
              <a:tblGrid>
                <a:gridCol w="1025640"/>
                <a:gridCol w="1336680"/>
                <a:gridCol w="2352600"/>
                <a:gridCol w="1743120"/>
                <a:gridCol w="2152440"/>
              </a:tblGrid>
              <a:tr h="87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lot 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lot Close 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lot 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 of Comments receiv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 Dec 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chnical Letter Ballot for TGz Draft 3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chn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8 (366 T, 152 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Mar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ulation Letter Ballot for TGz Draft 4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u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0 (103 T, 57 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 Jun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cond Recirculation Ballot for TGz Draft 5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u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 (77 T, 20 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 Aug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ird Recirculation Ballot for TGz Draft 5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u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 (2 T, 25 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nzo Wentink (Qualcomm), Bruce Kraemer (Marvell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9BBE-2313-4AF6-A891-20C06C7A7B4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Unsatisfied comments by commente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066680" y="2057400"/>
          <a:ext cx="7086600" cy="2766960"/>
        </p:xfrm>
        <a:graphic>
          <a:graphicData uri="http://schemas.openxmlformats.org/drawingml/2006/table">
            <a:tbl>
              <a:tblPr/>
              <a:tblGrid>
                <a:gridCol w="2425680"/>
                <a:gridCol w="1060560"/>
                <a:gridCol w="1208160"/>
                <a:gridCol w="1252440"/>
                <a:gridCol w="1139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B1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B1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B1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thew Fisc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ll Marsh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win Eng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lomon Train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chard Ro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nzo Wentink (Qualcomm), Bruce Kraemer (Marvell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4CB6-378C-48E9-9B0B-91ECBC420C2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Unsatisfied Comments – Topic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371600" y="2133720"/>
          <a:ext cx="6477120" cy="3276360"/>
        </p:xfrm>
        <a:graphic>
          <a:graphicData uri="http://schemas.openxmlformats.org/drawingml/2006/table">
            <a:tbl>
              <a:tblPr/>
              <a:tblGrid>
                <a:gridCol w="3581640"/>
                <a:gridCol w="28954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p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Com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minolo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 Sav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ye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itor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nzo Wentink (Qualcomm), Bruce Kraemer (Marvell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199C-A84C-4BF4-B3EE-BEF2A3C3D0F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Unsatisfied comm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he composite of all unsatisfied comments and the resolutions approved by the comment resolution committee received during working group ballot may be found in the embedded document on the right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ouble click on the icon to the right to open thi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 copy of this same data presented using MyBallot access database report format is attached.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ouble click on the icon to the right to open thi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410080" y="1981080"/>
          <a:ext cx="2057400" cy="173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1981080"/>
                    <a:ext cx="2057400" cy="17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5486400" y="4114800"/>
          <a:ext cx="1828800" cy="154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4114800"/>
                    <a:ext cx="1828800" cy="15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nzo Wentink (Qualcomm), Bruce Kraemer (Marvell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C715-ED67-47F7-B35D-6D1CCD47A8E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z Timelin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1676520"/>
          <a:ext cx="8010360" cy="4357440"/>
        </p:xfrm>
        <a:graphic>
          <a:graphicData uri="http://schemas.openxmlformats.org/drawingml/2006/table">
            <a:tbl>
              <a:tblPr/>
              <a:tblGrid>
                <a:gridCol w="4005360"/>
                <a:gridCol w="2170080"/>
                <a:gridCol w="1834920"/>
              </a:tblGrid>
              <a:tr h="456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rd recirculation (TGz draft 6.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-Aug-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-Aug-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ol form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-Aug-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-Oct-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rst sponsor ball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-Oct-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-Nov-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cond sponsor ball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-Nov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ec-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rd sponsor ball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Mar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-Mar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urth sponsor ball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-Apr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-May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C to RevCom Mar-10 (cond.) or Jul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vCom to SB Jun-10 or Sep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nzo Wentink (Qualcomm), Bruce Kraemer (Marvell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AB96-0F7C-4680-8353-6D884B39183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document contains the report to the IEEE 802 Executive Committee showing that P802.11z has met the conditional requirements to proceed to sponsor ballot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third recirculation ballot on TGz draft 6.0 (LB157) yielded no new Disapprove votes, and no new required comments associated with a Disapprove vote. The conditions for conditional approval under Clause 13 of the LMSC Operations Manual have been met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is explained in more detail on slides 3-8 of this present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his document (11-09/879r7) was approved during the closing plenary session of the 802.11 working group on 25 Sep 2009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09/11-09-0879-07-000z-p802-11z-report-to-ec-on-conditional-approval-to-go-to-sponsor-ballot.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assed in the Task Group yes , no , absta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assed in the Working Group yes , no , abst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nzo Wentink (Qualcomm), Bruce Kraemer (Marvell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D441-64E7-4808-8C79-DA21E83BB71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onsor Ballot Conditions (1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Recirculation ballot is completed. Generally, the recirculation ballot and resolution should occur in accordance with the schedule presented at the time of conditional approva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dition met:  recirculation ballot LB157 completed on August 26, 2009,  according to the schedule presented in 09/879r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nzo Wentink (Qualcomm), Bruce Kraemer (Marvell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6DC0-524A-41A7-A169-30CE8142768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onsor Ballot Conditions (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After resolution of the recirculation ballot is completed, the approval percentage is at least 75% and there are no new valid DISAPPROVE vot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dition met:  The approval percentage is 96%.   There were no new valid DISAPPROVE vot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nzo Wentink (Qualcomm), Bruce Kraemer (Marvell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AF9B-EE4B-4EE4-8E11-01F8DD5A894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onsor Ballot Conditions (3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No technical changes, as determined by the WG Chair, were made as a result of the recirculation ballo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dition met:  The comment resolutions in this recirculation ballot (LB157) did not result in any changes to the draf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nzo Wentink (Qualcomm), Bruce Kraemer (Marvell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4C5D-F8B4-4D68-8104-54BA4198582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onsor Ballot Conditions (4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) No new valid DISAPPROVE comments on new issues that are not resolved to the satisfaction of the submitter from existing DISAPPROVE voter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dition met:  There were no new valid DISAPPROVE commen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nzo Wentink (Qualcomm), Bruce Kraemer (Marvell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127A-997C-4366-946B-1C903EEFDFF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onsor Ballot Conditions (5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) If the WG Chair determines that there is a new invalid DISAPPROVE comment or vote, the WG Chair shall promptly provide details to the Sponso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 were no new invalid DISAPPROVE comments. There were no new invalid DISAPPROVE vot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nzo Wentink (Qualcomm), Bruce Kraemer (Marvell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084A-ABAA-4613-9786-6D1198DFB26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onsor Ballot Conditions (6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) The WG Chair shall immediately report the results of the ballot to the Sponsor including: the date the ballot closed, vote tally and comments associated with any remaining disapproves (valid and invalid), the WG responses and the rationale for ruling any vote invalid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ballot closed on:  August 26, 2009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vote tally is: Approve 187, Disapprove 8, Abstain 38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comments associated with any remaining Disapprove votes are attached here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191040" y="5757840"/>
          <a:ext cx="838080" cy="7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91040" y="5757840"/>
                    <a:ext cx="83808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nzo Wentink (Qualcomm), Bruce Kraemer (Marvell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4B21-29A3-4A4E-B3F9-CEBE7F6588A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025640"/>
            <a:ext cx="8229600" cy="5146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602000" y="35053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21320" y="30481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81760" y="33750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05600" y="19810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02600" y="1895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213520" y="2895480"/>
            <a:ext cx="143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lause 10 add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05520" y="2962440"/>
            <a:ext cx="15228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77240" y="24922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nzo Wentink (Qualcomm), Bruce Kraemer (Marvell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1F83-00CD-455D-8602-68ACC4A85C76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Adrian Stephens</dc:creator>
  <dc:description/>
  <dc:language>en-US</dc:language>
  <cp:lastModifiedBy>usr</cp:lastModifiedBy>
  <cp:lastPrinted>1998-02-10T13:28:06Z</cp:lastPrinted>
  <dcterms:modified xsi:type="dcterms:W3CDTF">2009-09-24T18:16:27Z</dcterms:modified>
  <cp:revision>1146</cp:revision>
  <dc:subject/>
  <dc:title>TGn Report to EC</dc:title>
</cp:coreProperties>
</file>