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hdr"/>
          </p:nvPr>
        </p:nvSpPr>
        <p:spPr>
          <a:xfrm>
            <a:off x="3455640" y="-115920"/>
            <a:ext cx="282564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yy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dt" idx="37"/>
          </p:nvPr>
        </p:nvSpPr>
        <p:spPr>
          <a:xfrm>
            <a:off x="654120" y="-115920"/>
            <a:ext cx="176040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nth Y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ftr" idx="38"/>
          </p:nvPr>
        </p:nvSpPr>
        <p:spPr>
          <a:xfrm>
            <a:off x="3722760" y="8984880"/>
            <a:ext cx="25588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John Doe, Some 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 type="sldNum" idx="39"/>
          </p:nvPr>
        </p:nvSpPr>
        <p:spPr>
          <a:xfrm>
            <a:off x="3222720" y="89848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8F442EC-7BF2-42DA-A31C-21BBA2C2F7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8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723960" y="898380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2"/>
          <p:cNvSpPr/>
          <p:nvPr/>
        </p:nvSpPr>
        <p:spPr>
          <a:xfrm>
            <a:off x="48610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yy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3"/>
          <p:cNvSpPr/>
          <p:nvPr/>
        </p:nvSpPr>
        <p:spPr>
          <a:xfrm>
            <a:off x="599400" y="97560"/>
            <a:ext cx="936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nth Ye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6"/>
          <p:cNvSpPr/>
          <p:nvPr/>
        </p:nvSpPr>
        <p:spPr>
          <a:xfrm>
            <a:off x="4773960" y="8985240"/>
            <a:ext cx="209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John Doe, Some 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7"/>
          <p:cNvSpPr/>
          <p:nvPr/>
        </p:nvSpPr>
        <p:spPr>
          <a:xfrm>
            <a:off x="2994120" y="898524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0D2AB56-7020-499B-ACB0-87CCFAF60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E3EF-EBEF-48F4-8183-18E6B4DF0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464F-CBB8-492E-A771-58E6AEF02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AD2688-545A-420D-89E3-132E9BAD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1A2060-2DB6-47D4-BC34-8DF6C179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C99ED-3F4F-4177-A252-64F11F05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C9441-F6C3-4C48-92EE-185D30AC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E27E2-8262-4D29-8452-67758A25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754CDE-3021-4B22-911E-C50030B1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AF1A1E-A9F0-4EB3-93E2-FEE87CCA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778F70-E829-4421-BADB-C18DA21C8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BB7B51-B553-4FDD-80E2-257229CA9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506593-B767-4CE6-81C2-4AAA1BA5E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A3FC-FB39-444E-9189-9D9DC1AF5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24B1E-34B3-4C3F-8095-0B9591D8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47AEDE-DA11-4E40-A834-ECE122E0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D4B69-C060-4F4C-99E8-EB001AB3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F989E9-4971-4FB9-9AD9-D7F90E3C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45E3AF-4559-47AC-B2E1-58E5A1FE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5A95BC-F27B-4513-AD3F-7FC09C31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A01C59-4F90-4EE5-A591-32BDE8E4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2BFE29-C22D-4EEF-BEDC-87F15603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8C29C2-7277-41AF-B412-51A132FE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ABF790-50F9-4CBE-90FC-4E4F8B87C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B498-48AB-4006-9D18-07D3FA217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1F789A-7728-47B8-8D79-A4ECFBC75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E2CF5-703E-41B2-AE73-03FCA5764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24931-C4A7-4EFA-B8A5-6EAB3576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22373-C396-439E-B781-7BC445C6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28C48-AEA1-4E7D-97AB-C7072841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3652F-F751-4874-9D48-1F00BF46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C8D94-DA87-40EC-AF6F-C59F5519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19D99-7ED3-47A5-A259-55C8274F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6E3DB-567A-4614-8BD5-8543C728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6D952-B80A-4D94-B4B6-8155AF75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CC7F-BE01-4D03-8296-59A946F2F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E8A5B-13E5-43A3-9D7D-4A1921A9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3BBD7-D110-4881-A8E6-E69D284EA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08350-5E5D-40C0-915A-549B5DE44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13EF75-E9BF-4E47-8910-F24FDFE88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775374-B82A-43FC-8C01-B84063511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EB6035-5085-43B0-8E44-4B78B7E1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F39EBB-201C-4673-BBFF-EED2B6BA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CFA361-519C-408F-A3B5-F761B7D4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6F8CAA-B994-42F4-90FF-95D7806D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0337A-4516-47CC-A022-A9F54CF0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AE144-0C9F-4FA4-B489-F8DB4FA1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7515BE-A2B2-4874-9D72-F3EF214E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4CE541-A99F-4EE5-A0D9-7BDE0381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537D44-60A0-475A-B212-22001200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B46D4A-21B8-4ED7-82A1-797426F6A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829B12-DC41-4FEE-8C3C-EB8B4BDE4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2DEE-1BB8-49E7-BB02-92B68778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31CA-C1A2-456E-9D5D-3DA0D6CB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1558-499B-4F84-9B41-0523BD9FD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D66C-2491-445C-A989-565F2D36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183D-8A27-4677-9EF2-91AAF4FF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EE85-CBA1-4D49-9B29-1393CE76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4CC5-61DF-4534-91F3-35B9A192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9BA5-0C7C-4AF1-AF37-A421D3B2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D70BE-4913-44FA-AE12-FD10C60C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B23C-0B00-48EE-B6F5-A06C86FD1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08AB-6269-41B8-B61B-7AD75FEF3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744200-42C0-4584-9114-C49ABEF07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F1011E-838D-4D88-8FFA-131489A6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8BC986-EAFB-46A9-A7CD-249D7E7C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54D300-838B-45D4-B746-5561F34E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F78F9D-3814-4F2F-BD7D-B357C77D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FD45-C97E-47B4-B3C0-36B74E8C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3D7697-42EF-44B6-BFAE-A5068BB3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259C5A-E2FC-4969-8FD9-BC22ABFF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111A1C-D63D-4548-8EA2-BC1FDE1B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06EF46-92A6-4E4B-AC2F-D2647ED6D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C6B95F-543C-4E82-B37B-6DE27206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EFCE92-F701-4C06-B1B9-8C1358C4C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3C2DB6-A888-4138-8085-043AD8473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65F9A-FE74-4283-9948-C470CBCB7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5862E-A358-41EE-B5F6-05404FFB0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573FE-7604-4145-B5C1-CACEF309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76A8-8922-4722-8F55-DF120BF7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0165F-429D-40A2-9F72-8D0A87BB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7F637-92D8-4096-B5ED-2834127D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B9343-F1FD-42C2-9959-3C56B328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EB01E-7188-47EC-8017-CEC31232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4E47D-2C80-4247-90C6-39FBB7D4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BB8FC-D270-486C-9B2D-EE717737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8E039-B35E-481D-831A-696AC6A0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B89F3-7C92-4151-9410-8BA2FCFC6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9D5FD-AD7C-41C3-93F3-B92588267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754BD-0395-43E3-9FC5-450AFDC5B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E609-3F83-41EC-AA72-B8E285AD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76169-6A83-41FC-B5CA-E4032F59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59BAE-B190-4A7A-964A-D5AC263D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76863-D724-4404-93AB-0891986A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10F48-37FB-4D0C-A970-7D401251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83744-3226-49E0-A442-706E1355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EF7D7-3620-467F-BD91-F9E9C050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459AA-E95F-4339-90A5-83D240A2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0CDE2-A817-4DB1-A127-145FDB91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4E5AD-DB72-48D7-B0A0-02B77B40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E8965-6D82-483C-A9A8-FC2448E0B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3118-6571-439F-A37C-F758A334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ABDAD-4652-41A9-8D6D-800ABBB2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3DEF2-B22D-4235-AF9E-222554276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81940-1CF9-4552-B988-819BFB94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21D51-2CB6-4B0C-8D93-294F7DF98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4E030-49AC-4F03-8E5D-5B2DD894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3081D-B73E-486F-9AD2-5C4B9F13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CD79B-9276-4BD5-BF18-091E5B15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80732-E2EA-4E76-999A-B4CF282E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88444-1C3D-48DD-ACBB-AF674A21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3B40C-F112-44E2-8192-A68E9E04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44AE-C548-415E-9E17-35DE730C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75F39-5459-470E-A3A2-B5289E66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4048B-4BDF-4BBC-B315-D1914A69F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A576D-D1FF-42C9-A540-4DA9EB0F1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3FB11-1654-4842-9B77-A08C1C6D1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B2043-BA9C-4275-88C0-A763A7EA3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0A2A3-FBF9-4C54-A35C-F98561C1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922E4-9F83-40AD-9970-732C5167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B0BE3-9D58-4EC8-8D16-04DF86B9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D8EE2-F9CA-4113-BE44-0CBC7025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0A44C-23E4-471A-9673-718DDF48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C18F-E490-45E1-B567-6189CE50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4416C-8529-4907-8146-2038C96B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CD76E-F957-4483-A77D-6B28A2D7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78F75-3CBC-4989-8B5C-38AEF661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84B8C-EF9A-49EF-9162-F0B97D847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6D896-3D7E-4785-A1E1-701385BC5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7250B-71AE-4575-8D86-3577D8C21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CBD9F-E795-4BC5-9483-10EC8D5F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62882-0AB1-4491-BA81-86E24F7B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2580C-A080-4D92-AA76-584FA61E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60071-9F7C-4EAA-A19D-165F4C25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6815-8F27-4CED-9C47-AAE3433A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5609D-DCC7-4061-997A-7434E54E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8680E-8423-4289-BEFE-8F2845C4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74391-0EAD-4404-8D35-C186B5D5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F8DCE-E158-484D-9526-0FD982A6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4A1CB-F148-455E-8E77-094A0F14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66798-0773-4FBA-8C42-0F36FC055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4DCC4-9D3B-41D2-A03D-0A241D6C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DE21C-FBA5-48A6-82D8-9B8F0E653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622E1-F217-4291-86F3-36D103BD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B3262-F777-44FA-B4C0-7F184F06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60120"/>
            <a:ext cx="26352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3880" y="6474960"/>
            <a:ext cx="3149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e Armstrong, Armstrong Consulting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8526A31-1191-4299-BEA2-3B3166A7A0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09/0871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09/0871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696600" y="60120"/>
            <a:ext cx="226692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nth 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6442200" y="6474960"/>
            <a:ext cx="21016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Doe, Som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920E59F-C18C-4B51-B44F-7F9625C74F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09/0871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696600" y="60120"/>
            <a:ext cx="226692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nth 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6442200" y="6474960"/>
            <a:ext cx="21016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Doe, Som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035EF08-D475-4318-B93E-0B6C841EBB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09/0871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696600" y="60120"/>
            <a:ext cx="226692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nth 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6442200" y="6474960"/>
            <a:ext cx="21016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Doe, Som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3D8A1C6-F64C-4A6B-A994-9F91135A60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09/0871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96960" y="60120"/>
            <a:ext cx="26352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ptember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393880" y="6474960"/>
            <a:ext cx="3149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e Armstrong, Armstrong Consulting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86E99BE-14F9-4BEC-84A1-56AF0FF048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517968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09/0871r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96960" y="60120"/>
            <a:ext cx="238104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ctober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0D7C9CC-6264-4453-83A5-BE18D362F0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9"/>
          </p:nvPr>
        </p:nvSpPr>
        <p:spPr>
          <a:xfrm>
            <a:off x="80773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09/0871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96600" y="60120"/>
            <a:ext cx="226692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nth 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6442200" y="6474960"/>
            <a:ext cx="21016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Doe, Som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013F886-4D3E-4AEA-A7A1-20319F7918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09/0871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696600" y="60120"/>
            <a:ext cx="226692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nth 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6442200" y="6474960"/>
            <a:ext cx="21016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Doe, Som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1C1D391-7FD4-4E25-AB2A-392CED3CC4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09/0871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96600" y="60120"/>
            <a:ext cx="226692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nth 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442200" y="6474960"/>
            <a:ext cx="21016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Doe, Som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8E4ED8B-782E-4632-902C-8494BB42CA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09/0871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96600" y="60120"/>
            <a:ext cx="226692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nth 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6442200" y="6474960"/>
            <a:ext cx="21016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Doe, Som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380916E-17D1-48E9-A2BD-072D3D7F01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09/0871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96600" y="60120"/>
            <a:ext cx="226692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nth 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6442200" y="6474960"/>
            <a:ext cx="21016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Doe, Som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0C666EB-C04E-4BAF-A333-48132AA86C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09/0871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696600" y="60120"/>
            <a:ext cx="226692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nth 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6442200" y="6474960"/>
            <a:ext cx="21016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Doe, Som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A3C76E9-B6EF-4811-88E3-9061AF216E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EC33067-5B42-4715-BA13-EA388D99F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802.11p Report to EC on Conditional Approval to go to Sponsor Ballo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09-10-2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3" name="Object 11"/>
          <p:cNvGraphicFramePr/>
          <p:nvPr/>
        </p:nvGraphicFramePr>
        <p:xfrm>
          <a:off x="509760" y="2274840"/>
          <a:ext cx="8018280" cy="333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2274840"/>
                    <a:ext cx="8018280" cy="33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Rectangle 12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533520" y="4267080"/>
            <a:ext cx="7772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is document contains the report to the IEEE 802 Executive Committee in support of a request for conditional approval to forward P802.11p to Sponsor Ballot granted July 200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Lee Armstrong, Armstrong Consul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5D1BED-9733-4205-8A11-9F603592D37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p Timelin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57240" y="1447920"/>
          <a:ext cx="8991000" cy="4889520"/>
        </p:xfrm>
        <a:graphic>
          <a:graphicData uri="http://schemas.openxmlformats.org/drawingml/2006/table">
            <a:tbl>
              <a:tblPr/>
              <a:tblGrid>
                <a:gridCol w="4495320"/>
                <a:gridCol w="2435400"/>
                <a:gridCol w="2060280"/>
              </a:tblGrid>
              <a:tr h="734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urth recirculation (TGp draft 8.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-Jul-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-Aug-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fth recirculation (TGp draft 9.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-Sep-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-Oct-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ol form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Aug-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-Oct-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rst sponsor ball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-Oct-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-Nov-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cond sponsor ball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-Feb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-Feb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rd sponsor ball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-Apr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-Apr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urth sponsor ball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-May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-Jun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C to RevC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10 (cond.) or Jul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vCom to S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n 10 or Sep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9CAE07D-44DA-4CA1-97E4-5B6ADC1DB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Lee Armstrong, Armstrong Consul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806125-E7CA-429A-BDCF-BC7F6F25F4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ctober 2009 status after LB158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228600" y="14475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ditional approval to move to sponsor ballot was approved during July 2009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irculation ballot LB154 was completed on 5 August 2009 according to the schedule presented on slide 10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pproval percentage from LB154 is 91.8%.   There was 1 new valid DISAPPROVE votes and conditions to move to sponsor ballot were not met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single (and that a single character) technical change was made as a result of the recirculation ballo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fifth recirculation ballot (LB158) began on 25 September and closed on October 1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pproval percentage rose to 94.0% and conditions were m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comments were received associated with approve votes. There was initially one disapprove vote and comment but the voter changed to approve. (slide 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onsor ballot pool formation closed October 3, 200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D93679A-0AE7-47BF-ABF0-CF1E2A430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Lee Armstrong, Armstrong Consul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9D0549-2B2D-493A-A3A6-8126EC02C7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4"/>
          <p:cNvSpPr/>
          <p:nvPr/>
        </p:nvSpPr>
        <p:spPr>
          <a:xfrm>
            <a:off x="1143000" y="1905120"/>
            <a:ext cx="7162920" cy="3425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5"/>
          <p:cNvSpPr/>
          <p:nvPr/>
        </p:nvSpPr>
        <p:spPr>
          <a:xfrm>
            <a:off x="1182600" y="4925880"/>
            <a:ext cx="71233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6"/>
          <p:cNvSpPr/>
          <p:nvPr/>
        </p:nvSpPr>
        <p:spPr>
          <a:xfrm>
            <a:off x="1182600" y="4492800"/>
            <a:ext cx="71233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7"/>
          <p:cNvSpPr/>
          <p:nvPr/>
        </p:nvSpPr>
        <p:spPr>
          <a:xfrm>
            <a:off x="1182600" y="4070520"/>
            <a:ext cx="71233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Line 8"/>
          <p:cNvSpPr/>
          <p:nvPr/>
        </p:nvSpPr>
        <p:spPr>
          <a:xfrm>
            <a:off x="1182600" y="3635280"/>
            <a:ext cx="71233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Line 9"/>
          <p:cNvSpPr/>
          <p:nvPr/>
        </p:nvSpPr>
        <p:spPr>
          <a:xfrm>
            <a:off x="1182600" y="3213000"/>
            <a:ext cx="71233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10"/>
          <p:cNvSpPr/>
          <p:nvPr/>
        </p:nvSpPr>
        <p:spPr>
          <a:xfrm>
            <a:off x="1182600" y="2779560"/>
            <a:ext cx="71233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11"/>
          <p:cNvSpPr/>
          <p:nvPr/>
        </p:nvSpPr>
        <p:spPr>
          <a:xfrm>
            <a:off x="1182600" y="2357280"/>
            <a:ext cx="71233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12"/>
          <p:cNvSpPr/>
          <p:nvPr/>
        </p:nvSpPr>
        <p:spPr>
          <a:xfrm>
            <a:off x="1182600" y="1922400"/>
            <a:ext cx="71233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13"/>
          <p:cNvSpPr/>
          <p:nvPr/>
        </p:nvSpPr>
        <p:spPr>
          <a:xfrm>
            <a:off x="1143000" y="1905120"/>
            <a:ext cx="7162920" cy="342576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14"/>
          <p:cNvSpPr/>
          <p:nvPr/>
        </p:nvSpPr>
        <p:spPr>
          <a:xfrm>
            <a:off x="1143000" y="1922400"/>
            <a:ext cx="0" cy="3425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15"/>
          <p:cNvSpPr/>
          <p:nvPr/>
        </p:nvSpPr>
        <p:spPr>
          <a:xfrm>
            <a:off x="1117440" y="5586480"/>
            <a:ext cx="651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16"/>
          <p:cNvSpPr/>
          <p:nvPr/>
        </p:nvSpPr>
        <p:spPr>
          <a:xfrm>
            <a:off x="1117440" y="4925880"/>
            <a:ext cx="651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17"/>
          <p:cNvSpPr/>
          <p:nvPr/>
        </p:nvSpPr>
        <p:spPr>
          <a:xfrm>
            <a:off x="1117440" y="4492800"/>
            <a:ext cx="651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Line 18"/>
          <p:cNvSpPr/>
          <p:nvPr/>
        </p:nvSpPr>
        <p:spPr>
          <a:xfrm>
            <a:off x="1117440" y="4070520"/>
            <a:ext cx="651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19"/>
          <p:cNvSpPr/>
          <p:nvPr/>
        </p:nvSpPr>
        <p:spPr>
          <a:xfrm>
            <a:off x="1117440" y="3635280"/>
            <a:ext cx="651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20"/>
          <p:cNvSpPr/>
          <p:nvPr/>
        </p:nvSpPr>
        <p:spPr>
          <a:xfrm>
            <a:off x="1117440" y="3213000"/>
            <a:ext cx="651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21"/>
          <p:cNvSpPr/>
          <p:nvPr/>
        </p:nvSpPr>
        <p:spPr>
          <a:xfrm>
            <a:off x="1117440" y="2779560"/>
            <a:ext cx="651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22"/>
          <p:cNvSpPr/>
          <p:nvPr/>
        </p:nvSpPr>
        <p:spPr>
          <a:xfrm>
            <a:off x="1117440" y="2357280"/>
            <a:ext cx="651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23"/>
          <p:cNvSpPr/>
          <p:nvPr/>
        </p:nvSpPr>
        <p:spPr>
          <a:xfrm>
            <a:off x="1117440" y="1922400"/>
            <a:ext cx="651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24"/>
          <p:cNvSpPr/>
          <p:nvPr/>
        </p:nvSpPr>
        <p:spPr>
          <a:xfrm>
            <a:off x="1143000" y="5334120"/>
            <a:ext cx="71629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25"/>
          <p:cNvSpPr/>
          <p:nvPr/>
        </p:nvSpPr>
        <p:spPr>
          <a:xfrm flipV="1">
            <a:off x="1182600" y="5554800"/>
            <a:ext cx="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26"/>
          <p:cNvSpPr/>
          <p:nvPr/>
        </p:nvSpPr>
        <p:spPr>
          <a:xfrm flipV="1">
            <a:off x="2428920" y="5554800"/>
            <a:ext cx="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27"/>
          <p:cNvSpPr/>
          <p:nvPr/>
        </p:nvSpPr>
        <p:spPr>
          <a:xfrm flipV="1">
            <a:off x="3665520" y="5554800"/>
            <a:ext cx="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28"/>
          <p:cNvSpPr/>
          <p:nvPr/>
        </p:nvSpPr>
        <p:spPr>
          <a:xfrm flipV="1">
            <a:off x="4911840" y="5554800"/>
            <a:ext cx="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29"/>
          <p:cNvSpPr/>
          <p:nvPr/>
        </p:nvSpPr>
        <p:spPr>
          <a:xfrm flipV="1">
            <a:off x="6146640" y="5554800"/>
            <a:ext cx="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30"/>
          <p:cNvSpPr/>
          <p:nvPr/>
        </p:nvSpPr>
        <p:spPr>
          <a:xfrm flipV="1">
            <a:off x="7392960" y="5554800"/>
            <a:ext cx="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Freeform 31"/>
          <p:cNvSpPr/>
          <p:nvPr/>
        </p:nvSpPr>
        <p:spPr>
          <a:xfrm>
            <a:off x="1295280" y="2666880"/>
            <a:ext cx="130320" cy="130320"/>
          </a:xfrm>
          <a:custGeom>
            <a:avLst/>
            <a:gdLst>
              <a:gd name="textAreaLeft" fmla="*/ 0 w 130320"/>
              <a:gd name="textAreaRight" fmla="*/ 130680 w 13032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82" h="82">
                <a:moveTo>
                  <a:pt x="41" y="0"/>
                </a:moveTo>
                <a:lnTo>
                  <a:pt x="82" y="41"/>
                </a:lnTo>
                <a:lnTo>
                  <a:pt x="41" y="82"/>
                </a:lnTo>
                <a:lnTo>
                  <a:pt x="0" y="41"/>
                </a:lnTo>
                <a:lnTo>
                  <a:pt x="41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Freeform 32"/>
          <p:cNvSpPr/>
          <p:nvPr/>
        </p:nvSpPr>
        <p:spPr>
          <a:xfrm>
            <a:off x="2514600" y="3505320"/>
            <a:ext cx="130320" cy="129960"/>
          </a:xfrm>
          <a:custGeom>
            <a:avLst/>
            <a:gdLst>
              <a:gd name="textAreaLeft" fmla="*/ 0 w 130320"/>
              <a:gd name="textAreaRight" fmla="*/ 130680 w 13032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82" h="82">
                <a:moveTo>
                  <a:pt x="41" y="0"/>
                </a:moveTo>
                <a:lnTo>
                  <a:pt x="82" y="41"/>
                </a:lnTo>
                <a:lnTo>
                  <a:pt x="41" y="82"/>
                </a:lnTo>
                <a:lnTo>
                  <a:pt x="0" y="41"/>
                </a:lnTo>
                <a:lnTo>
                  <a:pt x="41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Freeform 33"/>
          <p:cNvSpPr/>
          <p:nvPr/>
        </p:nvSpPr>
        <p:spPr>
          <a:xfrm>
            <a:off x="4822920" y="3733920"/>
            <a:ext cx="129960" cy="129960"/>
          </a:xfrm>
          <a:custGeom>
            <a:avLst/>
            <a:gdLst>
              <a:gd name="textAreaLeft" fmla="*/ 0 w 129960"/>
              <a:gd name="textAreaRight" fmla="*/ 130320 w 12996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82" h="82">
                <a:moveTo>
                  <a:pt x="41" y="0"/>
                </a:moveTo>
                <a:lnTo>
                  <a:pt x="82" y="41"/>
                </a:lnTo>
                <a:lnTo>
                  <a:pt x="41" y="82"/>
                </a:lnTo>
                <a:lnTo>
                  <a:pt x="0" y="41"/>
                </a:lnTo>
                <a:lnTo>
                  <a:pt x="41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Freeform 34"/>
          <p:cNvSpPr/>
          <p:nvPr/>
        </p:nvSpPr>
        <p:spPr>
          <a:xfrm>
            <a:off x="3657600" y="3809880"/>
            <a:ext cx="130320" cy="130320"/>
          </a:xfrm>
          <a:custGeom>
            <a:avLst/>
            <a:gdLst>
              <a:gd name="textAreaLeft" fmla="*/ 0 w 130320"/>
              <a:gd name="textAreaRight" fmla="*/ 130680 w 13032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82" h="82">
                <a:moveTo>
                  <a:pt x="41" y="0"/>
                </a:moveTo>
                <a:lnTo>
                  <a:pt x="82" y="41"/>
                </a:lnTo>
                <a:lnTo>
                  <a:pt x="41" y="82"/>
                </a:lnTo>
                <a:lnTo>
                  <a:pt x="0" y="41"/>
                </a:lnTo>
                <a:lnTo>
                  <a:pt x="41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Freeform 35"/>
          <p:cNvSpPr/>
          <p:nvPr/>
        </p:nvSpPr>
        <p:spPr>
          <a:xfrm>
            <a:off x="6248520" y="3832200"/>
            <a:ext cx="129960" cy="130320"/>
          </a:xfrm>
          <a:custGeom>
            <a:avLst/>
            <a:gdLst>
              <a:gd name="textAreaLeft" fmla="*/ 0 w 129960"/>
              <a:gd name="textAreaRight" fmla="*/ 130320 w 12996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82" h="82">
                <a:moveTo>
                  <a:pt x="41" y="0"/>
                </a:moveTo>
                <a:lnTo>
                  <a:pt x="82" y="41"/>
                </a:lnTo>
                <a:lnTo>
                  <a:pt x="41" y="82"/>
                </a:lnTo>
                <a:lnTo>
                  <a:pt x="0" y="41"/>
                </a:lnTo>
                <a:lnTo>
                  <a:pt x="41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36"/>
          <p:cNvSpPr/>
          <p:nvPr/>
        </p:nvSpPr>
        <p:spPr>
          <a:xfrm>
            <a:off x="2670480" y="1262160"/>
            <a:ext cx="370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Gp draft text stabil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37"/>
          <p:cNvSpPr/>
          <p:nvPr/>
        </p:nvSpPr>
        <p:spPr>
          <a:xfrm>
            <a:off x="899640" y="5229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38"/>
          <p:cNvSpPr/>
          <p:nvPr/>
        </p:nvSpPr>
        <p:spPr>
          <a:xfrm>
            <a:off x="780840" y="4807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39"/>
          <p:cNvSpPr/>
          <p:nvPr/>
        </p:nvSpPr>
        <p:spPr>
          <a:xfrm>
            <a:off x="780840" y="43736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40"/>
          <p:cNvSpPr/>
          <p:nvPr/>
        </p:nvSpPr>
        <p:spPr>
          <a:xfrm>
            <a:off x="780840" y="39495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41"/>
          <p:cNvSpPr/>
          <p:nvPr/>
        </p:nvSpPr>
        <p:spPr>
          <a:xfrm>
            <a:off x="780840" y="35164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42"/>
          <p:cNvSpPr/>
          <p:nvPr/>
        </p:nvSpPr>
        <p:spPr>
          <a:xfrm>
            <a:off x="780840" y="30942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43"/>
          <p:cNvSpPr/>
          <p:nvPr/>
        </p:nvSpPr>
        <p:spPr>
          <a:xfrm>
            <a:off x="780840" y="26607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44"/>
          <p:cNvSpPr/>
          <p:nvPr/>
        </p:nvSpPr>
        <p:spPr>
          <a:xfrm>
            <a:off x="780840" y="22384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45"/>
          <p:cNvSpPr/>
          <p:nvPr/>
        </p:nvSpPr>
        <p:spPr>
          <a:xfrm>
            <a:off x="780840" y="18032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46"/>
          <p:cNvSpPr/>
          <p:nvPr/>
        </p:nvSpPr>
        <p:spPr>
          <a:xfrm>
            <a:off x="846000" y="54658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n-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47"/>
          <p:cNvSpPr/>
          <p:nvPr/>
        </p:nvSpPr>
        <p:spPr>
          <a:xfrm>
            <a:off x="2114640" y="5465880"/>
            <a:ext cx="71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t-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48"/>
          <p:cNvSpPr/>
          <p:nvPr/>
        </p:nvSpPr>
        <p:spPr>
          <a:xfrm>
            <a:off x="3328920" y="54658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n-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49"/>
          <p:cNvSpPr/>
          <p:nvPr/>
        </p:nvSpPr>
        <p:spPr>
          <a:xfrm>
            <a:off x="4576320" y="5465880"/>
            <a:ext cx="64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-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50"/>
          <p:cNvSpPr/>
          <p:nvPr/>
        </p:nvSpPr>
        <p:spPr>
          <a:xfrm>
            <a:off x="5832360" y="54658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n-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1"/>
          <p:cNvSpPr/>
          <p:nvPr/>
        </p:nvSpPr>
        <p:spPr>
          <a:xfrm>
            <a:off x="7111440" y="5465880"/>
            <a:ext cx="55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l-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52"/>
          <p:cNvSpPr/>
          <p:nvPr/>
        </p:nvSpPr>
        <p:spPr>
          <a:xfrm rot="16200000">
            <a:off x="204840" y="3531600"/>
            <a:ext cx="72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p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54"/>
          <p:cNvSpPr/>
          <p:nvPr/>
        </p:nvSpPr>
        <p:spPr>
          <a:xfrm flipV="1" rot="10800000">
            <a:off x="1295280" y="220932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55"/>
          <p:cNvSpPr/>
          <p:nvPr/>
        </p:nvSpPr>
        <p:spPr>
          <a:xfrm>
            <a:off x="2440080" y="29718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56"/>
          <p:cNvSpPr/>
          <p:nvPr/>
        </p:nvSpPr>
        <p:spPr>
          <a:xfrm>
            <a:off x="3430800" y="3276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57"/>
          <p:cNvSpPr/>
          <p:nvPr/>
        </p:nvSpPr>
        <p:spPr>
          <a:xfrm>
            <a:off x="4268880" y="33526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58"/>
          <p:cNvSpPr/>
          <p:nvPr/>
        </p:nvSpPr>
        <p:spPr>
          <a:xfrm>
            <a:off x="5259600" y="3276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59"/>
          <p:cNvSpPr/>
          <p:nvPr/>
        </p:nvSpPr>
        <p:spPr>
          <a:xfrm>
            <a:off x="2057040" y="2209680"/>
            <a:ext cx="1177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perflu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scriptiv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xt remo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60"/>
          <p:cNvSpPr/>
          <p:nvPr/>
        </p:nvSpPr>
        <p:spPr>
          <a:xfrm flipV="1">
            <a:off x="2057400" y="28954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61"/>
          <p:cNvSpPr/>
          <p:nvPr/>
        </p:nvSpPr>
        <p:spPr>
          <a:xfrm>
            <a:off x="5989680" y="3276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Freeform 62"/>
          <p:cNvSpPr/>
          <p:nvPr/>
        </p:nvSpPr>
        <p:spPr>
          <a:xfrm>
            <a:off x="5562720" y="3755880"/>
            <a:ext cx="129960" cy="130320"/>
          </a:xfrm>
          <a:custGeom>
            <a:avLst/>
            <a:gdLst>
              <a:gd name="textAreaLeft" fmla="*/ 0 w 129960"/>
              <a:gd name="textAreaRight" fmla="*/ 130320 w 12996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82" h="82">
                <a:moveTo>
                  <a:pt x="41" y="0"/>
                </a:moveTo>
                <a:lnTo>
                  <a:pt x="82" y="41"/>
                </a:lnTo>
                <a:lnTo>
                  <a:pt x="41" y="82"/>
                </a:lnTo>
                <a:lnTo>
                  <a:pt x="0" y="41"/>
                </a:lnTo>
                <a:lnTo>
                  <a:pt x="41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8" name="AutoShape 63"/>
          <p:cNvCxnSpPr/>
          <p:nvPr/>
        </p:nvCxnSpPr>
        <p:spPr>
          <a:xfrm>
            <a:off x="4071600" y="5586120"/>
            <a:ext cx="10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619" name="Line 65"/>
          <p:cNvSpPr/>
          <p:nvPr/>
        </p:nvSpPr>
        <p:spPr>
          <a:xfrm>
            <a:off x="5638680" y="3809880"/>
            <a:ext cx="685800" cy="763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66"/>
          <p:cNvSpPr/>
          <p:nvPr/>
        </p:nvSpPr>
        <p:spPr>
          <a:xfrm>
            <a:off x="4876920" y="3809880"/>
            <a:ext cx="6858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67"/>
          <p:cNvSpPr/>
          <p:nvPr/>
        </p:nvSpPr>
        <p:spPr>
          <a:xfrm>
            <a:off x="2590920" y="3581280"/>
            <a:ext cx="1143000" cy="3049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68"/>
          <p:cNvSpPr/>
          <p:nvPr/>
        </p:nvSpPr>
        <p:spPr>
          <a:xfrm flipV="1">
            <a:off x="3733920" y="3809880"/>
            <a:ext cx="1143000" cy="7632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69"/>
          <p:cNvSpPr/>
          <p:nvPr/>
        </p:nvSpPr>
        <p:spPr>
          <a:xfrm flipV="1" rot="10800000">
            <a:off x="6705720" y="327636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Freeform 70"/>
          <p:cNvSpPr/>
          <p:nvPr/>
        </p:nvSpPr>
        <p:spPr>
          <a:xfrm>
            <a:off x="6858000" y="3832200"/>
            <a:ext cx="130320" cy="130320"/>
          </a:xfrm>
          <a:custGeom>
            <a:avLst/>
            <a:gdLst>
              <a:gd name="textAreaLeft" fmla="*/ 0 w 130320"/>
              <a:gd name="textAreaRight" fmla="*/ 130680 w 13032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82" h="82">
                <a:moveTo>
                  <a:pt x="41" y="0"/>
                </a:moveTo>
                <a:lnTo>
                  <a:pt x="82" y="41"/>
                </a:lnTo>
                <a:lnTo>
                  <a:pt x="41" y="82"/>
                </a:lnTo>
                <a:lnTo>
                  <a:pt x="0" y="41"/>
                </a:lnTo>
                <a:lnTo>
                  <a:pt x="41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72"/>
          <p:cNvSpPr/>
          <p:nvPr/>
        </p:nvSpPr>
        <p:spPr>
          <a:xfrm>
            <a:off x="6324480" y="3886200"/>
            <a:ext cx="60984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Line 74"/>
          <p:cNvSpPr/>
          <p:nvPr/>
        </p:nvSpPr>
        <p:spPr>
          <a:xfrm>
            <a:off x="1371600" y="2743200"/>
            <a:ext cx="1219320" cy="8380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69"/>
          <p:cNvSpPr/>
          <p:nvPr/>
        </p:nvSpPr>
        <p:spPr>
          <a:xfrm flipV="1" rot="10800000">
            <a:off x="7315200" y="335232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Freeform 70"/>
          <p:cNvSpPr/>
          <p:nvPr/>
        </p:nvSpPr>
        <p:spPr>
          <a:xfrm>
            <a:off x="7391520" y="3809880"/>
            <a:ext cx="129960" cy="130320"/>
          </a:xfrm>
          <a:custGeom>
            <a:avLst/>
            <a:gdLst>
              <a:gd name="textAreaLeft" fmla="*/ 0 w 129960"/>
              <a:gd name="textAreaRight" fmla="*/ 130320 w 12996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82" h="82">
                <a:moveTo>
                  <a:pt x="41" y="0"/>
                </a:moveTo>
                <a:lnTo>
                  <a:pt x="82" y="41"/>
                </a:lnTo>
                <a:lnTo>
                  <a:pt x="41" y="82"/>
                </a:lnTo>
                <a:lnTo>
                  <a:pt x="0" y="41"/>
                </a:lnTo>
                <a:lnTo>
                  <a:pt x="41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72"/>
          <p:cNvSpPr/>
          <p:nvPr/>
        </p:nvSpPr>
        <p:spPr>
          <a:xfrm>
            <a:off x="6934320" y="3886200"/>
            <a:ext cx="457200" cy="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51"/>
          <p:cNvSpPr/>
          <p:nvPr/>
        </p:nvSpPr>
        <p:spPr>
          <a:xfrm>
            <a:off x="7851600" y="5464080"/>
            <a:ext cx="65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-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3CB4214-A9A0-4205-B4D0-9817758E4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5" name="Text Box 69"/>
          <p:cNvSpPr/>
          <p:nvPr/>
        </p:nvSpPr>
        <p:spPr>
          <a:xfrm flipV="1" rot="10800000">
            <a:off x="7800840" y="3276360"/>
            <a:ext cx="5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8153280" y="3809880"/>
            <a:ext cx="152640" cy="152640"/>
          </a:xfrm>
          <a:prstGeom prst="diamond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467480" y="3886200"/>
            <a:ext cx="685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Lee Armstrong, Armstrong Consult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C56960-5410-431A-A8CA-DA24C09A6F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802.11 WG Letter Ballot Results – P802.11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6836188-BE83-4229-81D6-8B7521F65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0" name=""/>
          <p:cNvGraphicFramePr/>
          <p:nvPr/>
        </p:nvGraphicFramePr>
        <p:xfrm>
          <a:off x="0" y="1905120"/>
          <a:ext cx="9144000" cy="4302000"/>
        </p:xfrm>
        <a:graphic>
          <a:graphicData uri="http://schemas.openxmlformats.org/drawingml/2006/table">
            <a:tbl>
              <a:tblPr/>
              <a:tblGrid>
                <a:gridCol w="685800"/>
                <a:gridCol w="998640"/>
                <a:gridCol w="2201760"/>
                <a:gridCol w="1066680"/>
                <a:gridCol w="657360"/>
                <a:gridCol w="504720"/>
                <a:gridCol w="505080"/>
                <a:gridCol w="504720"/>
                <a:gridCol w="504720"/>
                <a:gridCol w="504720"/>
                <a:gridCol w="400320"/>
                <a:gridCol w="609480"/>
              </a:tblGrid>
              <a:tr h="84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lotI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lot Close D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t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lot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ur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Retur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st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Abst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ro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appro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Appro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y 03 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ulation Letter Ballot for IEEE 802.11p_D4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hn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8.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 05, 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ulation Letter Ballot for IEEE 802.11p_D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31, 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ulation Letter Ballot for IEEE 802.11p_D6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n 13, 20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ulation Letter Ballot for IEEE 802.11p_D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5.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g 5, 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ulation Letter Ballot for IEEE 802.11p_D8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1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ct 10, 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ulation Letter Ballot for IEEE 802.11p_D9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ct 12, 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ulation Letter Ballot for IEEE 802.11p_D9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Lee Armstrong, Armstrong Consul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1675DC-6E31-46B7-81B2-AB60CF3CC9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802.11 WG Letter Ballot Comments – P802.11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3" name=""/>
          <p:cNvGraphicFramePr/>
          <p:nvPr/>
        </p:nvGraphicFramePr>
        <p:xfrm>
          <a:off x="228600" y="1447920"/>
          <a:ext cx="8686800" cy="4900320"/>
        </p:xfrm>
        <a:graphic>
          <a:graphicData uri="http://schemas.openxmlformats.org/drawingml/2006/table">
            <a:tbl>
              <a:tblPr/>
              <a:tblGrid>
                <a:gridCol w="1033560"/>
                <a:gridCol w="1404720"/>
                <a:gridCol w="2667240"/>
                <a:gridCol w="1409760"/>
                <a:gridCol w="2171520"/>
              </a:tblGrid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lot 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lot Close 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lot 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 of Comments recei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May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hnical Letter Ballot for Task Group-p Draft 4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hnic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9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332T, 157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Dec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ulation Letter Ballot for Task Group-p Draft 5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u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1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138T, 83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 Mar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cond Recirculation Ballot for Task Group-p Draft 6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u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9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144T, 105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 Jun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ird Recirculation Ballot for Task Group-p Draft 7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u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0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85T, 95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Aug,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urth Recirculation Ballot for Task Group-p Draft 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u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11T, 4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Oct,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fth Recirculation Ballot for Task Group-p Draft 9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u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44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915B3B0-5A98-42CC-8835-293A1CEFC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Lee Armstrong, Armstrong Consul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BE7C91-3EBE-4AAD-8322-1D0B56E34E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ail indicating LB158 vote chang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 Jim Petranovich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ruce, Adrian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fter some conversations with Lee, I have decided to change my vote on LB158 to "approve"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case you are interested in my reasons, I am doing this more out of respect for Lee than becuase I believe my position was invalid.  It helped that he was alble to explain why the individual comments he was concerned with were not related to critical technical issu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future, I do expect to vote "no" on letter ballots where the comment resolution is a rejection with explanation something to the effect of "The TG has decided not to resolve this comment" if the comments in question appear to have a valid technical point (even if I don't agree with that point).  I believe that this sort of resolution, no matter how well intended, is contrary to proper peer review.  If a TG proposes to defer resolution of a comment to Sponsor ballot, I can accept this, but I'd prefer the resolution state clearly why this is being done.  My reading of the IEEE-SA requirements makes me believe such comemnt resolution in improp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y goal is not to become a gadfly in 802.11, butit seesm like I am becoming one.  Still, there are certain forms I'd like us to follow, and providing a clear reason for deferring ror rejecting comments in one thing I'd like. 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spectfully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i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Lee Armstrong, Armstrong Consul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21FCA2-5D44-4127-855E-DA49D90241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nsatisfied comments by comment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650880" y="1371600"/>
          <a:ext cx="7959600" cy="4267080"/>
        </p:xfrm>
        <a:graphic>
          <a:graphicData uri="http://schemas.openxmlformats.org/drawingml/2006/table">
            <a:tbl>
              <a:tblPr/>
              <a:tblGrid>
                <a:gridCol w="2063880"/>
                <a:gridCol w="900000"/>
                <a:gridCol w="1025640"/>
                <a:gridCol w="1066680"/>
                <a:gridCol w="968400"/>
                <a:gridCol w="966600"/>
                <a:gridCol w="968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B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B1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B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B 1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B 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dachi, Tomok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rr, John 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ypher, Dav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urand, Roger 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ngwer, Darw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ischer, Matthew 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Kobayashi, M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alinen, Jou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cCann, Stephe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oy, Richar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tephens, Adri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Wang, Q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0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FEA6634-F602-4F48-9774-1A498E8D1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Lee Armstrong, Armstrong Consul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63FA25-3B89-478F-87A6-1728038B44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nsatisfied Comments – Topic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1143000" y="1523880"/>
          <a:ext cx="7086600" cy="3124440"/>
        </p:xfrm>
        <a:graphic>
          <a:graphicData uri="http://schemas.openxmlformats.org/drawingml/2006/table">
            <a:tbl>
              <a:tblPr/>
              <a:tblGrid>
                <a:gridCol w="5181480"/>
                <a:gridCol w="1905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p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Com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lause 5 – General 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lause 7 – Frame form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lause 9 - MAC Sublay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lause 10 – Layer Manag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lause 11 - ML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ll ot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4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9709E13-5566-432D-BD36-1F823D46E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Lee Armstrong, Armstrong Consul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D9D8AC-8B1E-4EB2-AFDE-239D979DFC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nsatisfied com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647676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e composite of all unsatisfied comments and the resolutions approved during working group ballot may be found in document:  11-09-1047-00, a copy of this is attached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e same comment set formatted in sponsor ballot form are contained in the pdf.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ouble click on the icon to the right to open th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4"/>
          <p:cNvSpPr/>
          <p:nvPr/>
        </p:nvSpPr>
        <p:spPr>
          <a:xfrm>
            <a:off x="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Slide Number Placeholder 5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D70462C-7B89-4BE7-9606-CB23F7894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1" name=""/>
          <p:cNvGraphicFramePr/>
          <p:nvPr/>
        </p:nvGraphicFramePr>
        <p:xfrm>
          <a:off x="6781680" y="3505320"/>
          <a:ext cx="190512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3505320"/>
                    <a:ext cx="190512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3" name=""/>
          <p:cNvGraphicFramePr/>
          <p:nvPr/>
        </p:nvGraphicFramePr>
        <p:xfrm>
          <a:off x="7315200" y="2133720"/>
          <a:ext cx="1295280" cy="1012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15200" y="2133720"/>
                    <a:ext cx="129528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Lee Armstrong, Armstrong Consul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79E66D-A6A9-4F65-AFD2-7673E5F9B2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5T17:50:28Z</dcterms:created>
  <dc:creator>Lee Armstrong</dc:creator>
  <dc:description/>
  <dc:language>en-US</dc:language>
  <cp:lastModifiedBy>Administrator</cp:lastModifiedBy>
  <cp:lastPrinted>1998-02-10T13:28:06Z</cp:lastPrinted>
  <dcterms:modified xsi:type="dcterms:W3CDTF">2009-10-23T14:13:33Z</dcterms:modified>
  <cp:revision>134</cp:revision>
  <dc:subject/>
  <dc:title>EC Report on Clause 13 for 802.11p</dc:title>
</cp:coreProperties>
</file>