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54838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552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5657760" y="98280"/>
            <a:ext cx="642960" cy="2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55560" y="990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57040" y="703440"/>
            <a:ext cx="4640040" cy="347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6640" y="4422600"/>
            <a:ext cx="5100840" cy="4189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5373360" y="9012240"/>
            <a:ext cx="9270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231720" y="9012240"/>
            <a:ext cx="5144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DD7EB4E-7B87-4CAD-9FCC-FA3C55B42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5760" y="9012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5400" y="9010800"/>
            <a:ext cx="55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298440"/>
            <a:ext cx="56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231720" y="9012240"/>
            <a:ext cx="5144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EF7A73D-7888-4DA2-9D37-F7D4A953F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73360" y="9012240"/>
            <a:ext cx="9270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657760" y="98280"/>
            <a:ext cx="642960" cy="2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560" y="9900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6720"/>
                <a:tab algn="l" pos="1873080"/>
                <a:tab algn="l" pos="2809800"/>
                <a:tab algn="l" pos="3746520"/>
                <a:tab algn="l" pos="4683240"/>
                <a:tab algn="l" pos="5619600"/>
                <a:tab algn="l" pos="6556320"/>
                <a:tab algn="l" pos="7493040"/>
                <a:tab algn="l" pos="8429760"/>
                <a:tab algn="l" pos="9366120"/>
                <a:tab algn="l" pos="103028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653000" cy="34894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28440" y="4422240"/>
            <a:ext cx="509724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3CE0-55BA-47E7-B8CF-DEC0A4A3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174-E277-4431-B27F-3D963040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CAC7-2116-4708-A6D0-9855A621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BC9-D5CF-424C-B979-BC30A175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169F-D99D-46AD-8B1E-AB838CF7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380-77BD-44A6-B543-609F8410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D081-3B0E-4EEF-8881-8A082BAD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0040-4B74-4C0C-B4B2-1ABD277B6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DB6-0D5A-4043-AFF6-EE1FC55AB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7BE-EAC8-45CF-A570-4D271C2B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134D-D05B-471F-BDAA-693C12AC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211-C015-4E6E-BAFA-C1587807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34440"/>
            <a:ext cx="1512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E19DE1E-37EB-4527-BE2A-D994D0D33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1796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09/0778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eee802.org/PARs/2009-07/21-09-0027-06-00es-emergency-services-par-and-5c.doc" TargetMode="External"/><Relationship Id="rId2" Type="http://schemas.openxmlformats.org/officeDocument/2006/relationships/hyperlink" Target="http://ieee802.org/PARs/2009-07/new-qbc-jeffree-draft-par-0609-v01.pdf" TargetMode="External"/><Relationship Id="rId3" Type="http://schemas.openxmlformats.org/officeDocument/2006/relationships/hyperlink" Target="http://ieee802.org/PARs/2009-07/new-qbc-jeffree-draft-5c-0609-v01.pdf" TargetMode="External"/><Relationship Id="rId4" Type="http://schemas.openxmlformats.org/officeDocument/2006/relationships/hyperlink" Target="http://ieee802.org/PARs/2009-07/new-qbe-jeffree-draft-par-0609-v01.pdf" TargetMode="External"/><Relationship Id="rId5" Type="http://schemas.openxmlformats.org/officeDocument/2006/relationships/hyperlink" Target="http://ieee802.org/PARs/2009-07/new-qbe-jeffree-draft-5c-0609-v01.pdf" TargetMode="External"/><Relationship Id="rId6" Type="http://schemas.openxmlformats.org/officeDocument/2006/relationships/hyperlink" Target="http://ieee802.org/PARs/2009-07/new-qbf-jeffree-draft-par-0609-v01.pdf" TargetMode="External"/><Relationship Id="rId7" Type="http://schemas.openxmlformats.org/officeDocument/2006/relationships/hyperlink" Target="http://ieee802.org/PARs/2009-07/new-qbf-jeffree-draft-5c-0609-v01.pdf" TargetMode="External"/><Relationship Id="rId8" Type="http://schemas.openxmlformats.org/officeDocument/2006/relationships/hyperlink" Target="http://ieee802.org/PARs/2009-07/ar-jeffree-par-extension-request-0609-v01.pdf" TargetMode="External"/><Relationship Id="rId9" Type="http://schemas.openxmlformats.org/officeDocument/2006/relationships/hyperlink" Target="http://ieee802.org/PARs/2009-07/11-09-0678-00-000n-2009-tgn-par-extension-request.doc" TargetMode="Externa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eee802.org/PARs/2009-07/new-qbc-jeffree-draft-par-0609-v01.pdf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eedback on New WG PARs from WG11 for July Plena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09-07-1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09760" y="2273400"/>
          <a:ext cx="8007120" cy="267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2273400"/>
                    <a:ext cx="800712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F42E-83B4-4DA9-AE1D-92DB0BFB348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The 802.11 WG has developed questions related to the proposed 802.21 Emergency Services proj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802.21 WG has proposed a PAR and 5 criteria for Emergency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Times New Roman"/>
              </a:rPr>
              <a:t>21-09-0027-r6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AR and 5C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802.11 WG has reviewed these documents and have developed variety of questions for consideration by the 802.21 W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is document lists those ques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185-5190-43A7-B11A-140C3CD10A2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What are the specific requirements being addressed (by regulatory domain)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.4 defines a purpose for the proposed standard that includes references to requirements related “Next Generation E911”, “Emergency Alert Broadcast” and “Authority to Authorit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Compl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However, nowhere does the PAR or 5 criteria provide references to any documents that specify these requirements or associated reg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is makes it difficult to measure the success of the proj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Question/com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hat are the specific requirements or regulations that this project is proposed to satisf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How do these requirements or regulations vary in different regulatory domai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36D-0EE1-47FB-93CD-444BE1F5E6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Is a new MAC and PHY in scope … or not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.2 defines the scope of the proposed standard, including a statement that the project will not include a new MAC and PH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Compl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However, 5.5 states that they will provide new PHY and MAC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Question/com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G21 proposed changes to the WG11 PHY are not acceptable. Remove suggested or implied PHY changes from the PAR scope and purpo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F6D-0B53-4647-88E7-20D833754F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How can the project goals be achieved without changing 802.3/11/15/16/20/2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.5 states that the project will provide new PHY and MAC functionality, presumably in 802.3/11/15/16/20/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Compl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However, it is not within the scope of 802.21 to make changes to any of these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Question/com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How is it intended that the project accomplish the provision of new PHY and MAC functionality without changing any existing MAC or PHY, or defining a new MAC and PH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BFB-F113-4864-9D53-35F0FAB2F0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What does “parity with traditional emergency service transport functions” mean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5.5 states that the project will achieve “parity with traditional emergency service transport function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Compl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However, it is unclear what this means given “traditional emergency service transport functions” is not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t is also not clear that parity can even be achieved between a system based on 802.11 in unlicenced spectrum (for example) and traditional wire-line and cellular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Question/com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How is “traditional emergency service transport functions” defin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hat does “parity” mean in this context? We suggest “sufficiency” as a substitute  because providing parity with circuit switched or licensed band services is not achievable when using unlicensed spectru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1FAF-86C7-4C2D-B5BF-E4443941BFF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What about ECRIT … 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7.1 states that there are no other projects or standards with similar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Compl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However, IETF ECRIT is a project with a scope that is arguably greater that the proposed scope of this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Question/com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hy was ECRIT not reference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Have the layer 2 requirements implied by ECRIT been considered in developing this project proposa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lease identify any functionality or interfaces that 802.21 ES could provide at layer 2 that would support ECRIT at layer 3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1B2-EF5D-40A1-B923-4818B1EA461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Does the project have measurable goals that can be achieved within three years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t is “best practice” to define a project for a new standard such that it is able to be meet measurable goals within thre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Compl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However, this PAR and 5 criteria does not define any measurable goals and it is unclear whether it can be done within three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Question/com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lease define measurable goal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lease explain how the scope of the project is such that it can be completed within three year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Given the vagueness of the goals of the proposed project, why haven’t  you considered defining a recommended practi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F95-0F81-4095-9EA0-F399CF52597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What work is the WFA undertaking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n the 5 criteria in the broad market potential section it is claimed “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proposed standard may simplify changes currently under consideration by external organization such as IETF ECRIT, WiFi Alliance and WiMAX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Compl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However, the WFA has not announced any such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Question/com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Please justify the clai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Have the WMF announced any such wor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007-8342-43E7-8BC6-0C62889F0AC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PAR Project Scop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current PAR scope is too broad and should focus on the highest priority, shortest to market objec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Compl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t is believed that addressing </a:t>
            </a:r>
            <a:r>
              <a:rPr b="0" i="1" lang="en-AU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itizen-to-authority (e.g. packet data encoded 911/112 calls), authority-to-citizen (e.g. emergency alert broadcasts for weather or tsunami) and authority-to-authority (e.g. priority override)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Scope 5.2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e same project is too grand an undertak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Question/com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e support pursuing exclusively the citizen-to-authority project only in this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E0F9-7720-43A6-BCCE-7873BE78F55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 Word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 current wording of the scope statement reads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5.2 Scope of Proposed Standard: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standard will define mechanisms that support compliance within IEEE 802 to civil authority requirements for local and national emergency services such as citizen-to-authority (e.g. packet data encoded 911/112 calls), authority-to-citizen (e.g. emergency alert broadcasts for weather or tsunami) and authority-to-authority (e.g. priority override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project does not propose a new MAC and PHY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ding normally acceptable to NesCom /Standards Board might be: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5.2 Scope of Proposed Standard: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is standard defines mechanisms that support compliance within IEEE 802 to civil authority requirements for local and national emergency services such as citizen-to-authority (e.g. packet data encoded 911/112 calls), authority-to-citizen (e.g. emergency alert broadcasts for weather or tsunami) and authority-to-authority (e.g. priority override)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2 &amp; 5.4 should address the document specifically. 5.5 should address the need for the project and may include restrictions on the group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650-72F9-44DF-A1B6-6F8980180F0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6480" y="65232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Guidelines for IEEE WG Meeti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1440" y="1241280"/>
            <a:ext cx="8637480" cy="50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80000"/>
              </a:lnSpc>
              <a:spcBef>
                <a:spcPts val="2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80000"/>
              </a:lnSpc>
              <a:spcBef>
                <a:spcPts val="499"/>
              </a:spcBef>
              <a:spcAft>
                <a:spcPts val="1001"/>
              </a:spcAft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All IEEE-SA standards meetings shall be conducted in compliance with all applicable laws, including antitrust and competition law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on’t discuss the interpretation, validity, or essentiality of patents/patent claim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on’t discuss specific license rates, terms, or condi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Relative costs, including licensing costs of essential patent claims, of different technical approaches may be discussed in standards development meeting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spcAft>
                <a:spcPts val="799"/>
              </a:spcAft>
              <a:buClr>
                <a:srgbClr val="008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8000"/>
                </a:solidFill>
                <a:latin typeface="Times New Roman"/>
              </a:rPr>
              <a:t>Technical considerations remain primary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on’t discuss or engage in the fixing of product prices, allocation of customers, or division of sales mark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on’t discuss the status or substance of ongoing or threatened litig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285840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008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Don’t be silent if inappropriate topics are discussed … do formally obje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---------------------------------------------------------------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See </a:t>
            </a:r>
            <a:r>
              <a:rPr b="0" i="1" lang="en-US" sz="1400" spc="-1" strike="noStrike">
                <a:solidFill>
                  <a:srgbClr val="008000"/>
                </a:solidFill>
                <a:latin typeface="Times New Roman"/>
              </a:rPr>
              <a:t>IEEE-SA Standards Board Operations Manual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, clause 5.3.10 and </a:t>
            </a:r>
            <a:r>
              <a:rPr b="0" lang="en-GB" sz="1400" spc="-1" strike="noStrike">
                <a:solidFill>
                  <a:srgbClr val="008000"/>
                </a:solidFill>
                <a:latin typeface="Times New Roman"/>
              </a:rPr>
              <a:t>“Promoting Competition and Innovation: What You Need to Know about the IEEE Standards Association's Antitrust and Competition Policy”</a:t>
            </a:r>
            <a:r>
              <a:rPr b="0" lang="en-US" sz="1400" spc="-1" strike="noStrike">
                <a:solidFill>
                  <a:srgbClr val="008000"/>
                </a:solidFill>
                <a:latin typeface="Times New Roman"/>
              </a:rPr>
              <a:t> for more detai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760" y="646272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lide #4 – March 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873-1F5C-4D7E-95EF-DB5C160A11C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Times New Roman"/>
              </a:rPr>
              <a:t>Where should the work be done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Situ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he 802.21 WG current scope and name is limited to hando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Compli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t is recognised that the proposed emergency services project is outside the scope of 802.21 as currently named and understoo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Times New Roman"/>
              </a:rPr>
              <a:t>Question/com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Is the proposed emergency services project within the scope of 802.21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Would the proposed work better suited to some other 802 WG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04E-85BB-4CEA-8DC5-76E30D59ECC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document contains the comment responses received from members of 802.11 WG.  The WG11 requested that a submission be used as the 802.11 WG response to the new 802 PARs that were under consideration for July 2009 Plenar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DBD-6977-478E-9B29-0D4EBF10AA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s under consideration by 802 EC July 200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21.1 New standard for Support for Emergency Services,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PAR and 5C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Qbc, Provider Bridging -- Remote Customer Service Interface,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2"/>
              </a:rPr>
              <a:t>PA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3"/>
              </a:rPr>
              <a:t>5C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Qbe, MIRP,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4"/>
              </a:rPr>
              <a:t>PA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5"/>
              </a:rPr>
              <a:t>5C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02.1Qbf, PBB-TE Infrastructure Protection,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6"/>
              </a:rPr>
              <a:t>PA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nd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7"/>
              </a:rPr>
              <a:t>5C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 extension request for P802.1AR,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8"/>
              </a:rPr>
              <a:t>PA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 extension request for P802.11n,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  <a:hlinkClick r:id="rId9"/>
              </a:rPr>
              <a:t>PAR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970-16F2-4FCF-BB76-713D504859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Qbc, Provider Bridging -- Remote Customer Service Interface,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  <a:hlinkClick r:id="rId1"/>
              </a:rPr>
              <a:t>PAR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and 5C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G11 has no comments or ques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73AA-00BD-472D-99DA-A61931F7C4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Qbe, MIRP, PAR and 5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G11 has no comments or ques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C20-8B0C-40AD-B68B-87C7A1B7CD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2.1Qbf, PBB-TE Infrastructure Protection, PAR and 5C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G11 has no comments or ques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7348-4AC9-4694-9896-4162BE8EE7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 extension request for P802.1AR, PAR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G11 has no comments or ques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5C1-046D-45B5-B816-8C140D3FF9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 extension request for P802.11n, PAR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G11 has no comments or ques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ruce Kraemer (Marvell),  Jon Rosdahl  (CSR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2E57-3D94-410E-9450-DFD0AD9166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02:03:19Z</dcterms:created>
  <dc:creator>Jon Rosdahl</dc:creator>
  <dc:description/>
  <dc:language>en-US</dc:language>
  <cp:lastModifiedBy>Administrator</cp:lastModifiedBy>
  <cp:lastPrinted>1998-02-10T13:28:06Z</cp:lastPrinted>
  <dcterms:modified xsi:type="dcterms:W3CDTF">2009-07-14T16:20:44Z</dcterms:modified>
  <cp:revision>18</cp:revision>
  <dc:subject>IEEEE802.11-09/0778r0</dc:subject>
  <dc:title>Feedback on New WG PARs from WG11 for July Plenary</dc:title>
</cp:coreProperties>
</file>