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F1A-F200-4EFC-AAA6-C793552F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F4B4-A454-42A4-BDC6-E3EC5127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400-52FC-454E-8F2C-EF80DD5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EF72-05BE-4487-820F-498A0B45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4C2B-7A8E-4AA9-8848-8D451E659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5A66-5EE0-42AE-82D5-801A193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C74-1530-441C-A584-C1290FD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8BA-AC92-4F88-8F18-2280DE8D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17E7-5EED-4019-9AA3-364CAA21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BF6-9745-432F-A2DA-4C744AEA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0E4-F876-4110-AF67-2B2180AF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DAF-E79A-4DDD-BE3A-9F3F273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E061597-CC28-4506-8549-D6B31BB79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n report to EC on request for approval to proceed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9-06-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20560" y="2273400"/>
          <a:ext cx="7709040" cy="25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73400"/>
                    <a:ext cx="77090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EAED-C0C0-4727-95C0-CD48E121F10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Topi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52480" y="1471680"/>
          <a:ext cx="5639040" cy="49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471680"/>
                    <a:ext cx="563904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C72-C28C-421D-9069-7972F8B584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comment resolution committee received during P802.11n sponsor ballot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opy of this same data presented using MyBallot access database report format is attached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embedded .pdf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21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867280" y="2130480"/>
          <a:ext cx="1600200" cy="125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130480"/>
                    <a:ext cx="1600200" cy="12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5029200" y="3429000"/>
          <a:ext cx="3809880" cy="26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429000"/>
                    <a:ext cx="38098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A4C0-7CE1-4397-9792-51CF6E5DA25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aving filled in the blanks, the following slide will be brought to motion in the July EC meet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C95-846E-48D6-872D-12DF123DE82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– Approval to send P802.11n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nt approval, to forward P802.11n Draft 11.0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802.11n had a 90% approval on the last Recirculation Sponsor Ballot.  There are 22 disapprove voters representing 98 unsatisfied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Group vote on the Motion Passed: &lt;for&gt; y, &lt;against&gt; n, &lt;abstain&gt;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       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&lt;tbd&gt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s              No             Abst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CF08-C7C3-4FFB-9118-231EC5A3CEA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Revision 0 of this document is preliminary, reflecting the status as of 2009-06-25  after the fourth recirculation ballot.  Any greyed-out sections will be filled in the final version of this docu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report to the IEEE 802 Executive Committee in support of a request for approval to send IEEE P802.11n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6969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69696"/>
                </a:solidFill>
                <a:latin typeface="Times New Roman"/>
              </a:rPr>
              <a:t>Document (11-09/0674r&lt;tbd&gt;) was approved during the closing plenary session of the 802.11 working group on &lt;date&gt;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Times New Roman"/>
              </a:rPr>
              <a:t>Passed in the Task Group &lt;resul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6969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69696"/>
                </a:solidFill>
                <a:latin typeface="Times New Roman"/>
              </a:rPr>
              <a:t>Passed in the Working Group &lt;resul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06DF-5D98-4EF2-9F0C-7B55BBF3D4C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EEE 802 Sponsor Ballot Results – P802.11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752480"/>
          <a:ext cx="9093240" cy="27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09324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181480" y="4800600"/>
            <a:ext cx="3962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ith” = “with comm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/o” = “without comm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24560" y="19432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19303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19432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96080" y="1930320"/>
            <a:ext cx="5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68760" y="19558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43680" y="193032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3320" y="194328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20200" y="1943280"/>
            <a:ext cx="5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665-8587-461E-B016-00345C395A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pdated resolution of the 20/40 MHz in 2.4 GHz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ior to completion of comment resolutions in the May 2009 802.11 session (Montreal, Canada),  many of the comments relating to the 20/40MHz in 2.4 GHz topic were rejected by the comment resolution committe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uring the May session, a compromise was worked out, including active participation from the comment resolution committee and those voting “no” on this topic. Significant changes were incorporated into D10.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s a result, resolutions of 81 comments from the initial ballot and 16 comments from the first recirculation ballot were re-written (replacing a “disagree” with an “accept in principle”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updated resolutions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form the basis of the analysis in the rest of this documen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0545-6CD5-4CA8-AE12-F26DB02491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3352680"/>
            <a:ext cx="8229600" cy="34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Ke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B0 = Initial sponsor ballot.  SB1 = 1</a:t>
            </a:r>
            <a:r>
              <a:rPr b="1" lang="en-GB" sz="1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recirculation ballot,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Coordination: comment supplied by a Mandatory coordination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Not Required:  comment indicated as not required to satisfy v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atisfied:  comment required to satisfy voter that is indicated as satisfied either by the voter indicating satisfaction with the specific comment, or by voting yes in a subsequent bal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Known Unsatisfied: a comment that is indicated to be “required” by the voter,  and the voter is maintaining a “no” vote, and the voter has indicated they are unsatisfied with the comment re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ssumed Unsatisfied:  comment not meeting any of the above criteria – i.e., a comment that is indicated to be “required” by the voter,  and the voter is maintaining a “no” vote, and the voter has not responded when asked about their satisfaction with the comment re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990720" y="1447920"/>
          <a:ext cx="7543800" cy="204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54380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DA00-0997-429C-85C7-CB303497F5D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676520"/>
          <a:ext cx="7772400" cy="465300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943280"/>
                <a:gridCol w="194292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ordination 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EE-SA Editorial (M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9.0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0.0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ch 09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y 09</a:t>
                      </a: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e 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ets all editorial requirements. 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ies, Units and Letter Symb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CC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8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ruary 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K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s and Definitions (SCC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respon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istration Authority Committee (RA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A08-2EC3-44D4-A09D-4FF64ED4EC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t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 subsequent slides,  “Unsatisfied comments” includes both “Known Unsatisfied” and “Assumed Unsatisfied”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785-277D-4FD0-8CB3-E7C1B611E3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4114800"/>
            <a:ext cx="822960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The table shows the count of unsatisfied editorial comments and technical comments separately.  The comments are then classified in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 – Accepted.   The comment was accepted and the change indicated by the commenter was appro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P – Accepted in Principle.  The comment was accepted in principle, but a different change to the one indicated by the commenter was appro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 – Disagree.  The comment was declined and no change to address the comment was approv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U – Unresolv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 – Out of Sco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371600" y="1523880"/>
          <a:ext cx="6324480" cy="256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324480" cy="25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BEC-4D82-45BC-A355-D3C71365824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4191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191120" y="838080"/>
          <a:ext cx="440532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838080"/>
                    <a:ext cx="440532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, Marvell; Adrian Stephens, Inte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3140-6E8E-4BF5-9D7B-D4A10544AB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ne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ministrator</cp:lastModifiedBy>
  <cp:lastPrinted>1998-02-10T13:28:06Z</cp:lastPrinted>
  <dcterms:modified xsi:type="dcterms:W3CDTF">2009-06-26T14:00:59Z</dcterms:modified>
  <cp:revision>1037</cp:revision>
  <dc:subject/>
  <dc:title>TGn Report to EC</dc:title>
</cp:coreProperties>
</file>