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37DB5-8230-4B16-B6BC-3666DB434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D922-9BF7-4B82-ABC6-FD754D916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2546D-880C-4ECF-B535-9059263A4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2A7E1-0EF7-4480-9C96-757A5381E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280BE-B8D6-4950-8F18-ED49F3A3D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543D-7CDC-4B75-BD70-6A37AD45D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E4008-913D-4305-AB38-DEE156731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C843B-573D-4C71-ACBF-E2CF3EDB3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4D415-E636-4B37-A892-39C378DC4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E8123-12C1-4C55-A144-4953E333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0AEF3-76B7-42FE-A71D-12F2EA325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FA053-C45C-4A51-847A-F5DE57D401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258480"/>
            <a:ext cx="128412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9A795A-FDED-4E44-8F9F-BF3FAC3557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9/0392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mailto:Christian.Skupin@de.bosch.com"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 Motion to Approve Response to Interpretation Request</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9-03-13</a:t>
            </a:r>
            <a:endParaRPr b="1" lang="en-US" sz="2000" spc="-1" strike="noStrike">
              <a:solidFill>
                <a:srgbClr val="000000"/>
              </a:solidFill>
              <a:latin typeface="Times New Roman"/>
            </a:endParaRPr>
          </a:p>
        </p:txBody>
      </p:sp>
      <p:graphicFrame>
        <p:nvGraphicFramePr>
          <p:cNvPr id="47" name=""/>
          <p:cNvGraphicFramePr/>
          <p:nvPr/>
        </p:nvGraphicFramePr>
        <p:xfrm>
          <a:off x="514440" y="2274840"/>
          <a:ext cx="8093160" cy="2490840"/>
        </p:xfrm>
        <a:graphic>
          <a:graphicData uri="http://schemas.openxmlformats.org/presentationml/2006/ole">
            <p:oleObj progId="Word.Document.12" r:id="rId1" spid="">
              <p:embed/>
              <p:pic>
                <p:nvPicPr>
                  <p:cNvPr id="48" name="" descr=""/>
                  <p:cNvPicPr/>
                  <p:nvPr/>
                </p:nvPicPr>
                <p:blipFill>
                  <a:blip r:embed="rId2"/>
                  <a:stretch/>
                </p:blipFill>
                <p:spPr>
                  <a:xfrm>
                    <a:off x="514440" y="2274840"/>
                    <a:ext cx="8093160" cy="2490840"/>
                  </a:xfrm>
                  <a:prstGeom prst="rect">
                    <a:avLst/>
                  </a:prstGeom>
                  <a:ln w="0">
                    <a:noFill/>
                  </a:ln>
                </p:spPr>
              </p:pic>
            </p:oleObj>
          </a:graphicData>
        </a:graphic>
      </p:graphicFrame>
      <p:sp>
        <p:nvSpPr>
          <p:cNvPr id="49" name=""/>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ECB3FD9-C2C3-4E76-A11B-38C57CE0E6A2}" type="slidenum">
              <a:t>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Interpretation request was processed during the 802.11 January 2009 Interim Session.  </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otion to approve the interpretation response was  approved by the WG with a vote of 39 yes, 0 no, 2 abstain.</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motion to confirm all the Actions/Decisions from the Interim meeting passed unanimously in the 802.11 WG opening plenary on Monday of the March 2009 Plenary</a:t>
            </a:r>
            <a:endParaRPr b="1"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has been prepared for presentation to the 802 EC and to be used forwarded to the IEEE if approved by 802 EC</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13D5EE5-207A-4B32-A02E-A57ABC9B85B7}" type="slidenum">
              <a:t>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quest #16</a:t>
            </a:r>
            <a:endParaRPr b="1" lang="en-US" sz="32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est received from Christian Skupin (</a:t>
            </a:r>
            <a:r>
              <a:rPr b="1" lang="en-US" sz="1800" spc="-1" strike="noStrike" u="sng">
                <a:solidFill>
                  <a:srgbClr val="0066ff"/>
                </a:solidFill>
                <a:uFillTx/>
                <a:latin typeface="Times New Roman"/>
                <a:hlinkClick r:id="rId1"/>
              </a:rPr>
              <a:t>Christian.Skupin@de.bosch.com</a:t>
            </a:r>
            <a:r>
              <a:rPr b="1" lang="en-US" sz="1800" spc="-1" strike="noStrike">
                <a:solidFill>
                  <a:srgbClr val="000000"/>
                </a:solidFill>
                <a:latin typeface="Times New Roman"/>
              </a:rPr>
              <a:t>) on 802.11-2007 regarding 7.1.3.7 (FCS field) and Annex G, specifically tables G.1 and G.14: </a:t>
            </a:r>
            <a:br>
              <a:rPr sz="1800"/>
            </a:br>
            <a:br>
              <a:rPr sz="1800"/>
            </a:br>
            <a:r>
              <a:rPr b="1" lang="en-US" sz="1800" spc="-1" strike="noStrike">
                <a:solidFill>
                  <a:srgbClr val="000000"/>
                </a:solidFill>
                <a:latin typeface="Times New Roman"/>
              </a:rPr>
              <a:t>“During the evaluation process of my 802.11 PHY/MAC implementation I got in doubt with the accuracy of the given FCS (bytes 97-100) in Table G.1. This FCS in Table G.1 corresponds to bits 784-815 in Table G.14. </a:t>
            </a:r>
            <a:br>
              <a:rPr sz="1800"/>
            </a:br>
            <a:br>
              <a:rPr sz="1800"/>
            </a:br>
            <a:r>
              <a:rPr b="1" lang="en-US" sz="1800" spc="-1" strike="noStrike">
                <a:solidFill>
                  <a:srgbClr val="000000"/>
                </a:solidFill>
                <a:latin typeface="Times New Roman"/>
              </a:rPr>
              <a:t>With respect to the FCS calculation instructions in chapter 7.1.3.7 and the given message (bytes 1-96) in Table G.1 my calculations result in the FCS {1110 0110 1100 1100 1000 0100 0110 1101} (msb-left), whereas the given FCS is {0101 1011 1110 1010 1001 1001 1011 0111} (bits 784-815 in Table G.14). </a:t>
            </a:r>
            <a:br>
              <a:rPr sz="1800"/>
            </a:br>
            <a:br>
              <a:rPr sz="1800"/>
            </a:br>
            <a:r>
              <a:rPr b="1" lang="en-US" sz="1800" spc="-1" strike="noStrike">
                <a:solidFill>
                  <a:srgbClr val="000000"/>
                </a:solidFill>
                <a:latin typeface="Times New Roman"/>
              </a:rPr>
              <a:t>In consideration of the fact that my FCS-implementation works with other reference data which I collected by recording 802.11a signals, I assume that the given FCS in Table G.1 is not appropriate.”</a:t>
            </a:r>
            <a:endParaRPr b="1"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C770B8F-0FE1-410D-9A0B-EDE8E2CDDD89}" type="slidenum">
              <a:t>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pretation Response #16</a:t>
            </a:r>
            <a:br>
              <a:rPr sz="3200"/>
            </a:br>
            <a:r>
              <a:rPr b="1" lang="en-US" sz="2000" spc="-1" strike="noStrike">
                <a:solidFill>
                  <a:srgbClr val="000000"/>
                </a:solidFill>
                <a:latin typeface="Times New Roman"/>
              </a:rPr>
              <a:t>(formatted text response contained in 11-09/0042r0)</a:t>
            </a:r>
            <a:endParaRPr b="1" lang="en-US" sz="2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signation Number: 16</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lassification: Unambiguous</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vant Clauses: 7.1.3.7 and Annex G</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sponse:</a:t>
            </a:r>
            <a:br>
              <a:rPr sz="2400"/>
            </a:br>
            <a:br>
              <a:rPr sz="2400"/>
            </a:br>
            <a:r>
              <a:rPr b="1" lang="en-US" sz="2400" spc="-1" strike="noStrike">
                <a:solidFill>
                  <a:srgbClr val="000000"/>
                </a:solidFill>
                <a:latin typeface="Times New Roman"/>
              </a:rPr>
              <a:t>IEEE Std. 802.11-2007 contains an error in the FCS calculation of the sample encoding in Annex G.  This issue will be forwarded to the 802.11 Working Group for consideration in the next revision of the P802.11 standar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5400355-AF12-40AC-A94E-05DC9C7DB508}" type="slidenum">
              <a:t>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80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retation Request IEEE Std. 802.11-2007 #16</a:t>
            </a:r>
            <a:endParaRPr b="1" lang="en-US" sz="1800" spc="-1" strike="noStrike">
              <a:solidFill>
                <a:srgbClr val="000000"/>
              </a:solidFill>
              <a:latin typeface="Times New Roman"/>
            </a:endParaRPr>
          </a:p>
        </p:txBody>
      </p:sp>
      <p:sp>
        <p:nvSpPr>
          <p:cNvPr id="57" name="PlaceHolder 2"/>
          <p:cNvSpPr>
            <a:spLocks noGrp="1"/>
          </p:cNvSpPr>
          <p:nvPr>
            <p:ph/>
          </p:nvPr>
        </p:nvSpPr>
        <p:spPr>
          <a:xfrm>
            <a:off x="685800" y="1066320"/>
            <a:ext cx="7772400" cy="52578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Designation Number: 16</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Document: IEEE Std. 802.11-2007</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Classification: Unambiguous</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evant Clauses: 7.1.3.7 and Annex G</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levant Tables: G.1 and G.14</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pic: FCS sample calculation </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retation Request #16:</a:t>
            </a:r>
            <a:endParaRPr b="1"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During the evaluation process of my 802.11 PHY/MAC implementation I got in doubt with the accuracy of the given FCS (bytes 97-100) in Table G.1. This FCS in Table G.1 corresponds to bits 784-815 in Table G.14.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ith respect to the FCS calculation instructions in chapter 7.1.3.7 and the given message (bytes 1-96) in Table G.1 my calculations result in the FCS {1110 0110 1100 1100 1000 0100 0110 1101} (msb-left), whereas the given FCS is {0101 1011 1110 1010 1001 1001 1011 0111} (bits 784-815 in Table G.14). </a:t>
            </a:r>
            <a:endParaRPr b="0" lang="en-US" sz="16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n consideration of the fact that my FCS-implementation works with other reference data which I collected by recording 802.11a signals, I assume that the given FCS in Table G.1 is not appropriate. </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erpretation Response #16</a:t>
            </a:r>
            <a:endParaRPr b="1" lang="en-US" sz="1800" spc="-1" strike="noStrike">
              <a:solidFill>
                <a:srgbClr val="000000"/>
              </a:solidFill>
              <a:latin typeface="Times New Roman"/>
            </a:endParaRPr>
          </a:p>
          <a:p>
            <a:pPr lvl="1" marL="743040" indent="-28584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EEE Std. 802.11-2007 contains an error in the FCS calculation of the sample encoding in Annex G.  This issue will be forwarded to the 802.11 Working Group for consideration in the next revision of the P802.11 standard.</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8B3C593-8A7B-454A-9003-8A6EA22870F1}" type="slidenum">
              <a:t>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800"/>
            <a:ext cx="60199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 LMSC Resolution </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523880"/>
            <a:ext cx="7772400" cy="4572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by Kraemer    Seconded by: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approve the IEEE 802.11 WG response to Interpretation Request for IEEE std. 802.11-2007 #16 as documented in 11-09-0042r0 as the official 802 response and request approval to report and publish as appropriate.</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G vote to approve response: 9-0-0</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G vote to approve response: 39-0-2</a:t>
            </a:r>
            <a:endParaRPr b="1" lang="en-US" sz="2000" spc="-1" strike="noStrike">
              <a:solidFill>
                <a:srgbClr val="000000"/>
              </a:solidFill>
              <a:latin typeface="Times New Roman"/>
            </a:endParaRPr>
          </a:p>
        </p:txBody>
      </p:sp>
      <p:sp>
        <p:nvSpPr>
          <p:cNvPr id="60" name=""/>
          <p:cNvSpPr/>
          <p:nvPr/>
        </p:nvSpPr>
        <p:spPr>
          <a:xfrm>
            <a:off x="6934320" y="762120"/>
            <a:ext cx="144756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da#: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 3-13-09</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D0A2612-1FF2-4A23-B81A-507E2C00124C}" type="slidenum">
              <a:t>6</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9:18:42Z</dcterms:created>
  <dc:creator>Jon Rosdahl</dc:creator>
  <dc:description/>
  <dc:language>en-US</dc:language>
  <cp:lastModifiedBy>jr05</cp:lastModifiedBy>
  <cp:lastPrinted>1998-02-10T13:28:06Z</cp:lastPrinted>
  <dcterms:modified xsi:type="dcterms:W3CDTF">2009-03-12T02:02:53Z</dcterms:modified>
  <cp:revision>5</cp:revision>
  <dc:subject/>
  <dc:title>EC Motion to approve Response to Interpreation Request</dc:title>
</cp:coreProperties>
</file>