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9DECED-DF7F-4C65-8C24-DB55CF87B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Header Placeholder 3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7/209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70056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4957560" y="8985240"/>
            <a:ext cx="172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dad Perahia (Int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375BBF-1A40-467A-AEF0-300FD2C6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4C2-3092-468A-9EDA-846D8B40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DB1-944E-46C3-9053-312F6AE8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671-9366-41F3-BBD9-E24A8E8F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BE9-4D97-4BE1-8922-CC498C06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63C-6C1C-47C0-84CA-8D31A98D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477-1ACF-4A01-9BE6-01DF68D6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9D2-F6FE-49D7-BF75-9295A4C5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280-959C-4457-9787-8D51CDFB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C6E-8BCD-41B4-BF05-EA7EAE5B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BFD-8611-4647-B6E4-5CA3DA9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D63-227E-4594-9DC1-51EB8FCB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EB4-01F2-4354-BCAB-51CD954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04C892-C873-44B9-8804-E5E8E412D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08/0814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file/07/11-07-2587-00-0vht-vht-applications.ppt" TargetMode="External"/><Relationship Id="rId2" Type="http://schemas.openxmlformats.org/officeDocument/2006/relationships/hyperlink" Target="https://mentor.ieee.org/802.11/file/07/11-07-2605-00-0vht-vht-options.ppt" TargetMode="External"/><Relationship Id="rId3" Type="http://schemas.openxmlformats.org/officeDocument/2006/relationships/hyperlink" Target="https://mentor.ieee.org/802.11/file/07/11-07-2780-01-0vht-multi-band-modulation-coding-and-medium-access-control.ppt" TargetMode="External"/><Relationship Id="rId4" Type="http://schemas.openxmlformats.org/officeDocument/2006/relationships/hyperlink" Target="https://mentor.ieee.org/802.11/file/07/11-07-2790-00-0vht-what-is-happening-in-60-ghz.ppt" TargetMode="External"/><Relationship Id="rId5" Type="http://schemas.openxmlformats.org/officeDocument/2006/relationships/hyperlink" Target="https://mentor.ieee.org/802.11/file/07/11-07-2793-00-0vht-60ghz-vs-5ghz-propagation-discussion.ppt" TargetMode="External"/><Relationship Id="rId6" Type="http://schemas.openxmlformats.org/officeDocument/2006/relationships/hyperlink" Target="https://mentor.ieee.org/802.11/file/08/11-08-0130-01-0vht-vht-par-direction.ppt" TargetMode="External"/><Relationship Id="rId7" Type="http://schemas.openxmlformats.org/officeDocument/2006/relationships/hyperlink" Target="https://mentor.ieee.org/802.11/file/08/11-08-0349-01-0vht-potential-benefits-of-dual-radio-vht-systems.ppt" TargetMode="External"/><Relationship Id="rId8" Type="http://schemas.openxmlformats.org/officeDocument/2006/relationships/hyperlink" Target="https://mentor.ieee.org/802.11/file/08/11-08-0364-01-0vht-wlan-overlay-with-60ghz-channels.ppt" TargetMode="External"/><Relationship Id="rId9" Type="http://schemas.openxmlformats.org/officeDocument/2006/relationships/hyperlink" Target="https://mentor.ieee.org/802.11/file/07/11-07-2988-04-0000-liaison-from-wi-fi-alliance-to-802-11-regarding-wfa-vht-study-group-consolidation-of-usage-models.ppt" TargetMode="External"/><Relationship Id="rId10" Type="http://schemas.openxmlformats.org/officeDocument/2006/relationships/hyperlink" Target="https://mentor.ieee.org/802.11/file/08/11-08-0451-00-0vht-mapping-wfa-usage-models-to-operating-bands.ppt" TargetMode="Externa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HT60 Tutor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08-07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2286000"/>
          <a:ext cx="7996320" cy="248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799632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5FE-8166-4BD1-A4FB-B27156917B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 VHT SG is proposing a PAR for a TG to create an amendment to 802.11 in the 60 GHz b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 requires an increase in throughput to at least 1 Gbps, well beyond that of 802.11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cted PHY modif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802.11 clause for 60 GHz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cted MAC modif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ing necessary changes to the channel access mechanism specific to the PHY and operating band (directional antennas in 60 G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-band 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cy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B48-EA68-4F5B-B2EA-C0A5836677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Driv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Oval 6"/>
          <p:cNvGrpSpPr/>
          <p:nvPr/>
        </p:nvGrpSpPr>
        <p:grpSpPr>
          <a:xfrm>
            <a:off x="3060720" y="3402000"/>
            <a:ext cx="2511360" cy="1419120"/>
            <a:chOff x="3060720" y="3402000"/>
            <a:chExt cx="2511360" cy="1419120"/>
          </a:xfrm>
        </p:grpSpPr>
        <p:pic>
          <p:nvPicPr>
            <p:cNvPr id="64" name="Oval 6" descr=""/>
            <p:cNvPicPr/>
            <p:nvPr/>
          </p:nvPicPr>
          <p:blipFill>
            <a:blip r:embed="rId1"/>
            <a:stretch/>
          </p:blipFill>
          <p:spPr>
            <a:xfrm>
              <a:off x="3060720" y="3402000"/>
              <a:ext cx="251136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41840" y="3584520"/>
              <a:ext cx="1508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ed for Higher TPT stand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Oval 7"/>
          <p:cNvGrpSpPr/>
          <p:nvPr/>
        </p:nvGrpSpPr>
        <p:grpSpPr>
          <a:xfrm>
            <a:off x="85680" y="1725480"/>
            <a:ext cx="2743200" cy="1419480"/>
            <a:chOff x="85680" y="1725480"/>
            <a:chExt cx="2743200" cy="1419480"/>
          </a:xfrm>
        </p:grpSpPr>
        <p:pic>
          <p:nvPicPr>
            <p:cNvPr id="67" name="Oval 7" descr=""/>
            <p:cNvPicPr/>
            <p:nvPr/>
          </p:nvPicPr>
          <p:blipFill>
            <a:blip r:embed="rId2"/>
            <a:stretch/>
          </p:blipFill>
          <p:spPr>
            <a:xfrm>
              <a:off x="85680" y="1725480"/>
              <a:ext cx="27432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03160" y="1908000"/>
              <a:ext cx="1670040" cy="7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Wired equiva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" name="Straight Arrow Connector 9"/>
          <p:cNvCxnSpPr/>
          <p:nvPr/>
        </p:nvCxnSpPr>
        <p:spPr>
          <a:xfrm>
            <a:off x="2666520" y="2666520"/>
            <a:ext cx="1143720" cy="83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12"/>
          <p:cNvSpPr/>
          <p:nvPr/>
        </p:nvSpPr>
        <p:spPr>
          <a:xfrm>
            <a:off x="685800" y="28195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gE is widely deploy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GigE is emer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Oval 13"/>
          <p:cNvGrpSpPr/>
          <p:nvPr/>
        </p:nvGrpSpPr>
        <p:grpSpPr>
          <a:xfrm>
            <a:off x="4280040" y="1573200"/>
            <a:ext cx="4492440" cy="1419120"/>
            <a:chOff x="4280040" y="1573200"/>
            <a:chExt cx="4492440" cy="1419120"/>
          </a:xfrm>
        </p:grpSpPr>
        <p:pic>
          <p:nvPicPr>
            <p:cNvPr id="72" name="Oval 13" descr=""/>
            <p:cNvPicPr/>
            <p:nvPr/>
          </p:nvPicPr>
          <p:blipFill>
            <a:blip r:embed="rId3"/>
            <a:stretch/>
          </p:blipFill>
          <p:spPr>
            <a:xfrm>
              <a:off x="4280040" y="1573200"/>
              <a:ext cx="449244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251320" y="1755720"/>
              <a:ext cx="2908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aster CP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rger and Faster 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D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791320" y="266688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SD Growing 2x a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80 GB iPOD  and camco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VD Capacity growing 8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 Ray– 50 GB dua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Straight Arrow Connector 17"/>
          <p:cNvCxnSpPr/>
          <p:nvPr/>
        </p:nvCxnSpPr>
        <p:spPr>
          <a:xfrm flipH="1">
            <a:off x="5180760" y="2742120"/>
            <a:ext cx="83916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21"/>
          <p:cNvCxnSpPr/>
          <p:nvPr/>
        </p:nvCxnSpPr>
        <p:spPr>
          <a:xfrm>
            <a:off x="3047760" y="2209320"/>
            <a:ext cx="14482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77" name="Oval 23"/>
          <p:cNvGrpSpPr/>
          <p:nvPr/>
        </p:nvGrpSpPr>
        <p:grpSpPr>
          <a:xfrm>
            <a:off x="165240" y="4853160"/>
            <a:ext cx="2749320" cy="1414440"/>
            <a:chOff x="165240" y="4853160"/>
            <a:chExt cx="2749320" cy="1414440"/>
          </a:xfrm>
        </p:grpSpPr>
        <p:pic>
          <p:nvPicPr>
            <p:cNvPr id="78" name="Oval 23" descr=""/>
            <p:cNvPicPr/>
            <p:nvPr/>
          </p:nvPicPr>
          <p:blipFill>
            <a:blip r:embed="rId4"/>
            <a:stretch/>
          </p:blipFill>
          <p:spPr>
            <a:xfrm>
              <a:off x="165240" y="4853160"/>
              <a:ext cx="2749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79480" y="5032440"/>
              <a:ext cx="1670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9144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petitive environment driving Proprietary 11n exten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" name="Straight Arrow Connector 24"/>
          <p:cNvCxnSpPr/>
          <p:nvPr/>
        </p:nvCxnSpPr>
        <p:spPr>
          <a:xfrm flipV="1">
            <a:off x="2819520" y="4419000"/>
            <a:ext cx="7624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28"/>
          <p:cNvSpPr/>
          <p:nvPr/>
        </p:nvSpPr>
        <p:spPr>
          <a:xfrm>
            <a:off x="304920" y="5943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rietary modes fragment the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Straight Arrow Connector 30"/>
          <p:cNvCxnSpPr/>
          <p:nvPr/>
        </p:nvCxnSpPr>
        <p:spPr>
          <a:xfrm>
            <a:off x="3048120" y="5409720"/>
            <a:ext cx="21340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3" name="Straight Arrow Connector 33"/>
          <p:cNvCxnSpPr/>
          <p:nvPr/>
        </p:nvCxnSpPr>
        <p:spPr>
          <a:xfrm flipV="1">
            <a:off x="8379000" y="2666520"/>
            <a:ext cx="3600" cy="2207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4" name="Straight Arrow Connector 36"/>
          <p:cNvCxnSpPr/>
          <p:nvPr/>
        </p:nvCxnSpPr>
        <p:spPr>
          <a:xfrm flipH="1" flipV="1">
            <a:off x="5257440" y="4419000"/>
            <a:ext cx="91512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5" name="Oval 29"/>
          <p:cNvGrpSpPr/>
          <p:nvPr/>
        </p:nvGrpSpPr>
        <p:grpSpPr>
          <a:xfrm>
            <a:off x="4962600" y="5005440"/>
            <a:ext cx="3821040" cy="957240"/>
            <a:chOff x="4962600" y="5005440"/>
            <a:chExt cx="3821040" cy="957240"/>
          </a:xfrm>
        </p:grpSpPr>
        <p:pic>
          <p:nvPicPr>
            <p:cNvPr id="86" name="Oval 29" descr=""/>
            <p:cNvPicPr/>
            <p:nvPr/>
          </p:nvPicPr>
          <p:blipFill>
            <a:blip r:embed="rId5"/>
            <a:stretch/>
          </p:blipFill>
          <p:spPr>
            <a:xfrm>
              <a:off x="4962600" y="5005440"/>
              <a:ext cx="38210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835600" y="5118120"/>
              <a:ext cx="24256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igher Capa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Box 12"/>
          <p:cNvSpPr/>
          <p:nvPr/>
        </p:nvSpPr>
        <p:spPr>
          <a:xfrm>
            <a:off x="5943600" y="572436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gabit nano-cells free capacity for normal network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7160" y="5867280"/>
            <a:ext cx="1284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-08/130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26F-90BB-4407-8FDB-DA427B1DFD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 discussed in the study group include (many are enhancements of 802.11n application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Wi-Fi Alliance liaison repo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Home Distribution of HDTV and other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pid Upload and Download of large files to/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haul Traffic (e.g. Mesh, Point-to-Poi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mpus / Auditorium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ing Floor Auto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age models from other submis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ireless local area network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gh speed cable re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ireless d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nc and 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406-B116-4E3D-8755-ACD1EAFBCF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(1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-band as opposed to multi-mo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frequencies for higher level MC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session transfer between PH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6 GHz assists 60 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ain the network architecture of the 802.11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se and maintain backward compatibility to 802.11 management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86200" y="2209680"/>
            <a:ext cx="4952520" cy="3124440"/>
            <a:chOff x="3886200" y="2209680"/>
            <a:chExt cx="4952520" cy="3124440"/>
          </a:xfrm>
        </p:grpSpPr>
        <p:sp>
          <p:nvSpPr>
            <p:cNvPr id="95" name=""/>
            <p:cNvSpPr/>
            <p:nvPr/>
          </p:nvSpPr>
          <p:spPr>
            <a:xfrm>
              <a:off x="4523760" y="2209680"/>
              <a:ext cx="310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6GHz  transmission r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3886200" y="2332080"/>
            <a:ext cx="4952520" cy="300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2332080"/>
                      <a:ext cx="4952520" cy="30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4844880" y="4599000"/>
              <a:ext cx="21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0GHz directional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30680" y="2454480"/>
              <a:ext cx="3530160" cy="1286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813120" y="3809880"/>
            <a:ext cx="1284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-08/349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DE3-D0C1-42E9-9901-4240F52723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(2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 GHz transceiver system with directional antennas can achieve 1 Gbps with ranges exceeding 10 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648320" cy="333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108400" y="4495680"/>
            <a:ext cx="1360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-07/2790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632040" cy="107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9040" y="5105520"/>
            <a:ext cx="1360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-07/2790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ABD-A067-4F28-BF1E-31305C8602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HT 60 GHz PAR Scop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60 GHz ISM band provides the opportunity for much wider band channels than in &lt;6 GHz enabling single link throughputs greater than 1 Gbp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wo aspects of the PAR ensure distinct identity from 802.15.3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able fast session transfer between PHY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ain the 802.11 user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st session transfer provides seamless rate fall back between VHT and 802.11n for multi-band devic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ides expected WLAN coverage from combo 60 + 2.4/5 GHz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mandate multi-band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 an amendment to 802.11, VHT maintains the 802.11 user experien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aining the network architecture of the 802.11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infrastructure basic service set, extended service set, access point,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use and maintain backward compatibility to 802.11 management 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sociation, authentication, security, measurement, capability exchange, M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existence of various systems in the 60 GHz band is an important issue to VHT demonstrated by being explicitly called out in the PAR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rthermore, the task group will produce a coexistence assurance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F76-830D-4D94-BC28-6D03927035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ed Submi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HT Applications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11-07/2587r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Gal Basson, Wilo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-User Data Rate, Band and Bandwidth Options for VHT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11-07/2605r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Jason Trachewsky, Broad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-band Modulation, Coding, and Medium Access Control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11-07/2780r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Robert Daniels, The University of Texas at Austi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at Is Happening In 60 GHz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11-07/2790r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Sheung Li, SiBEA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 GHz vs. 5 GHz Propagation Discussion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11-07/2793r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Vinko Erceg, Broad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HT PAR Direction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11-08/0130r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Gal Basson, Wilo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tential Benefits of Dual-radio VHT Systems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11-08/0349r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Harkirat Singh, Samsu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LAN Overlay with 60 GHz Channels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11-08/0364r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John Barr, Motorol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ifications to the 60GHz PAR &amp; 5 C’s Proposal, 11-08/498r0, Eldad Perahia, Int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HT 60 GHz Channel Model Recommendation, 11-08/632r0, Vinko Erceg, Broad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 to 802.15.3c Questions, 11-08/724r0, Eldad Perahia, Int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-Fi Alliance (WFA) VHT Study Group Usage Models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11-07/2988r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Rolf de Vegt, Qualcomm, Chair WFA VHT Study Group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ping WFA Usage Models to Operating Bands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11-08/451r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Eldad Perahia, Int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 GHz PAR &amp; 5C’s, 11-08/806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810-E61A-47F6-8C89-ADF532BC29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ldad Perahia</dc:creator>
  <dc:description/>
  <dc:language>en-US</dc:language>
  <cp:lastModifiedBy>Eldad Perahia</cp:lastModifiedBy>
  <cp:lastPrinted>1998-02-10T13:28:06Z</cp:lastPrinted>
  <dcterms:modified xsi:type="dcterms:W3CDTF">2008-07-14T17:59:37Z</dcterms:modified>
  <cp:revision>449</cp:revision>
  <dc:subject/>
  <dc:title>VHT60 Tutorial</dc:title>
</cp:coreProperties>
</file>