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F0077-7696-4E42-972B-072214C8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FC09-D8FD-4EF8-A71F-F8E67693C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A539E-F0DF-4DEC-A8CC-E0F1FB2C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33ABE-77B3-4700-985F-EE7682CE8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03A19-8EDB-40C3-ADA7-989B97D7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9344-9554-4874-95CA-AF49741FB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B01B3-794A-4808-B71F-764DE1F7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A1DC-00AD-45F1-889A-94837B909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426B6-8CBD-462A-8F14-0704BB9D1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7499-4180-469C-9174-28E29CCC6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575B-FFE5-4332-AB08-7DCA18AA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3AA9-7F86-4F21-9DFD-A6F8D2A98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2</a:t>
            </a:r>
            <a:r>
              <a:rPr b="1"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00800"/>
            <a:ext cx="312408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J. Edney, H. Haverinen, J-P Honkanen, P. Orava, Noki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2BA607F-1929-460C-9FD0-8C0293008D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109r1</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7800" y="6477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es for Anonymity</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n Edney, Henry Haverinen, J-P Honkanen, Pekko Orav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E8EF59-5D41-4808-B070-A3D0FAE65E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IE</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ne new information element, </a:t>
            </a:r>
            <a:r>
              <a:rPr b="0" i="1" lang="en-GB" sz="1800" spc="-1" strike="noStrike">
                <a:solidFill>
                  <a:srgbClr val="000000"/>
                </a:solidFill>
                <a:latin typeface="Times New Roman"/>
                <a:ea typeface="Times New Roman"/>
              </a:rPr>
              <a:t>Temporary MAC Address IE</a:t>
            </a:r>
            <a:r>
              <a:rPr b="0" lang="en-GB" sz="1800" spc="-1" strike="noStrike">
                <a:solidFill>
                  <a:srgbClr val="000000"/>
                </a:solidFill>
                <a:latin typeface="Times New Roman"/>
                <a:ea typeface="Times New Roman"/>
              </a:rPr>
              <a:t>, is defin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formation elements required are implemented as subtypes to the Temporary MAC Address IE saving IEEE802.11 information element IDs.</a:t>
            </a:r>
            <a:endParaRPr b="0" lang="en-US" sz="1800" spc="-1" strike="noStrike">
              <a:solidFill>
                <a:srgbClr val="000000"/>
              </a:solidFill>
              <a:latin typeface="Times New Roman"/>
            </a:endParaRPr>
          </a:p>
        </p:txBody>
      </p:sp>
      <p:sp>
        <p:nvSpPr>
          <p:cNvPr id="73" name=""/>
          <p:cNvSpPr/>
          <p:nvPr/>
        </p:nvSpPr>
        <p:spPr>
          <a:xfrm>
            <a:off x="1481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593640" y="4191120"/>
            <a:ext cx="8153640" cy="2049480"/>
          </a:xfrm>
          <a:prstGeom prst="rect">
            <a:avLst/>
          </a:prstGeom>
          <a:ln w="0">
            <a:noFill/>
          </a:ln>
        </p:spPr>
      </p:pic>
      <p:sp>
        <p:nvSpPr>
          <p:cNvPr id="75" name=""/>
          <p:cNvSpPr/>
          <p:nvPr/>
        </p:nvSpPr>
        <p:spPr>
          <a:xfrm>
            <a:off x="2562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76" name=""/>
          <p:cNvGraphicFramePr/>
          <p:nvPr/>
        </p:nvGraphicFramePr>
        <p:xfrm>
          <a:off x="1676520" y="3060720"/>
          <a:ext cx="5562360" cy="749160"/>
        </p:xfrm>
        <a:graphic>
          <a:graphicData uri="http://schemas.openxmlformats.org/presentationml/2006/ole">
            <p:oleObj r:id="rId2" spid="">
              <p:embed/>
              <p:pic>
                <p:nvPicPr>
                  <p:cNvPr id="77" name="" descr=""/>
                  <p:cNvPicPr/>
                  <p:nvPr/>
                </p:nvPicPr>
                <p:blipFill>
                  <a:blip r:embed="rId3"/>
                  <a:stretch/>
                </p:blipFill>
                <p:spPr>
                  <a:xfrm>
                    <a:off x="1676520" y="3060720"/>
                    <a:ext cx="5562360" cy="749160"/>
                  </a:xfrm>
                  <a:prstGeom prst="rect">
                    <a:avLst/>
                  </a:prstGeom>
                  <a:ln w="0">
                    <a:noFill/>
                  </a:ln>
                </p:spPr>
              </p:pic>
            </p:oleObj>
          </a:graphicData>
        </a:graphic>
      </p:graphicFrame>
      <p:sp>
        <p:nvSpPr>
          <p:cNvPr id="4" name="PlaceHolder 3"/>
          <p:cNvSpPr>
            <a:spLocks noGrp="1"/>
          </p:cNvSpPr>
          <p:nvPr>
            <p:ph type="sldNum" idx="3"/>
          </p:nvPr>
        </p:nvSpPr>
        <p:spPr/>
        <p:txBody>
          <a:bodyPr/>
          <a:p>
            <a:fld id="{75DEE016-F698-4A18-9C70-242530EE8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passive scanning to learn which networks support the temporary MAC addresses based on Beacons that have the "MAC Anonymity" capability bit set.</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active scanning when the station does not have valid temporary station address:</a:t>
            </a:r>
            <a:endParaRPr b="0" lang="en-US" sz="18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Station selects a temporary probe address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Station sends Probe Request(s) using the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Access points send Probe Response frames as a response to received Probe Requests. The "MAC Anonymity" capability bit shall be set if the access point and the network supports temporary MAC addresses.</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Station sends Acknowledgement control frames for correctly received Probe Responses using the TPA.</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oints that support temporary MAC addresses shall advertise the feature in Beacon and Probe Response management frames by setting the "MAC Anonymity" capability bit to 1.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152280" y="457200"/>
            <a:ext cx="883944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covery of Temporary Address Support</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7DF8E79-BA5F-4665-AEC0-42E1F8749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of Temporary MAC Addres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lowing procedure is used for allocating a new temporary station address:</a:t>
            </a:r>
            <a:endParaRPr b="0" lang="en-US" sz="18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and a random Request ID.</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t>
            </a:r>
            <a:r>
              <a:rPr b="0" i="1" lang="en-US" sz="1600" spc="-1" strike="noStrike">
                <a:solidFill>
                  <a:srgbClr val="000000"/>
                </a:solidFill>
                <a:latin typeface="Times New Roman"/>
              </a:rPr>
              <a:t>Assoc Req</a:t>
            </a:r>
            <a:r>
              <a:rPr b="0" lang="en-US" sz="1600" spc="-1" strike="noStrike">
                <a:solidFill>
                  <a:srgbClr val="000000"/>
                </a:solidFill>
                <a:latin typeface="Times New Roman"/>
              </a:rPr>
              <a:t> containing Temporary MAC Address IE of subtype </a:t>
            </a:r>
            <a:r>
              <a:rPr b="0" i="1" lang="en-US" sz="1600" spc="-1" strike="noStrike">
                <a:solidFill>
                  <a:srgbClr val="000000"/>
                </a:solidFill>
                <a:latin typeface="Times New Roman"/>
              </a:rPr>
              <a:t>New Address Request</a:t>
            </a:r>
            <a:r>
              <a:rPr b="0" lang="en-US" sz="1600" spc="-1" strike="noStrike">
                <a:solidFill>
                  <a:srgbClr val="000000"/>
                </a:solidFill>
                <a:latin typeface="Times New Roman"/>
              </a:rPr>
              <a:t> to the target AP. The information element indicates that the station is requesting a new temporary MAC addres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allocates a temporary MAC address that is unique within the ESS and D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n Assoc Resp to the STA using TPA. The response includes the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new TSA and the Lease period. The Request ID value of the request is copied to the response.</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compares the Request ID value of the response with the ID selected at the step 1. If the values match the station continues to the next step. If not, the station has detected a TPA collision and proceeds to step 1.</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 starts to use new TSA after sending Acknowledgement frame (sent with the TPA) as a response to the Association Response frame.</a:t>
            </a:r>
            <a:endParaRPr b="0" lang="en-US" sz="16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52955EE-D660-4BE3-8631-8F31509CA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newal of Temporary MAC Addres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mporary station address remains allocated to a station only for the duration of the lease time.</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wants to hold the address for a longer period, following renewal procedure is to be used:</a:t>
            </a:r>
            <a:endParaRPr b="0" lang="en-US" sz="18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efore the lease period expires, the STA transmits Assoc or Reassoc Req frame that contains Temporary MAC address IE of subtype Renew Request to an AP.</a:t>
            </a:r>
            <a:endParaRPr b="0" lang="en-US" sz="16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On reception of a renewal request, the AP shall transmit Assoc or Reassoc Resp frame with Temporary MAC address IE of subtype Address Grant in case of successful renewal of an allocated TSA. The information element carries the TSA and the new lease period.</a:t>
            </a:r>
            <a:endParaRPr b="0" lang="en-US" sz="16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unallocated or invalid address.</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54CFC5E-6B2E-4D00-85E9-6590DC4A1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laiming of Temporary MAC Addres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6000"/>
          </a:bodyPr>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has been unable to renew the lease for some reason and the lease has expired, the station may use the following procedure for attempting to reclaim the same TSA:</a:t>
            </a:r>
            <a:endParaRPr b="0" lang="en-US" sz="18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for use during the reclaim process.</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ssoc Req carrying IE of subtype </a:t>
            </a:r>
            <a:r>
              <a:rPr b="0" i="1" lang="en-US" sz="1600" spc="-1" strike="noStrike">
                <a:solidFill>
                  <a:srgbClr val="000000"/>
                </a:solidFill>
                <a:latin typeface="Times New Roman"/>
              </a:rPr>
              <a:t>Reclaim Request</a:t>
            </a:r>
            <a:r>
              <a:rPr b="0" lang="en-US" sz="1600" spc="-1" strike="noStrike">
                <a:solidFill>
                  <a:srgbClr val="000000"/>
                </a:solidFill>
                <a:latin typeface="Times New Roman"/>
              </a:rPr>
              <a:t>. The information element contains the TSA to be reclaimed.</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checks that the requested TSA is unallocated and that the temporary address is valid. Validness check shall at least include the checking of the temporary address prefix against the ESS prefix.</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ssoc Resp frame with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TSA and the new lease period.</a:t>
            </a:r>
            <a:endParaRPr b="0" lang="en-US" sz="16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allocated or invalid address.</a:t>
            </a:r>
            <a:endParaRPr b="0" lang="en-US" sz="18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3E69309-F172-49FB-9207-6716223E1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oaming</a:t>
            </a:r>
            <a:endParaRPr b="0" lang="en-US" sz="3600" spc="-1" strike="noStrike">
              <a:solidFill>
                <a:srgbClr val="000000"/>
              </a:solidFill>
              <a:latin typeface="Times New Roman"/>
            </a:endParaRPr>
          </a:p>
        </p:txBody>
      </p:sp>
      <p:sp>
        <p:nvSpPr>
          <p:cNvPr id="87" name="PlaceHolder 2"/>
          <p:cNvSpPr>
            <a:spLocks noGrp="1"/>
          </p:cNvSpPr>
          <p:nvPr>
            <p:ph/>
          </p:nvPr>
        </p:nvSpPr>
        <p:spPr>
          <a:xfrm>
            <a:off x="609480" y="2361960"/>
            <a:ext cx="7772400" cy="2438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keeps same MAC address when roa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assumes same SSID is on same 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does </a:t>
            </a:r>
            <a:r>
              <a:rPr b="1" lang="en-GB" sz="2800" spc="-1" strike="noStrike">
                <a:solidFill>
                  <a:srgbClr val="000000"/>
                </a:solidFill>
                <a:latin typeface="Times New Roman"/>
              </a:rPr>
              <a:t>not</a:t>
            </a:r>
            <a:r>
              <a:rPr b="0" lang="en-GB" sz="2800" spc="-1" strike="noStrike">
                <a:solidFill>
                  <a:srgbClr val="000000"/>
                </a:solidFill>
                <a:latin typeface="Times New Roman"/>
              </a:rPr>
              <a:t> send “address” el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sociation handled as for normal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EB18E7-DBAD-436B-8A39-820529EBC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89" name="PlaceHolder 2"/>
          <p:cNvSpPr>
            <a:spLocks noGrp="1"/>
          </p:cNvSpPr>
          <p:nvPr>
            <p:ph/>
          </p:nvPr>
        </p:nvSpPr>
        <p:spPr>
          <a:xfrm>
            <a:off x="1066680" y="1676520"/>
            <a:ext cx="73850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MAC addresses impose a serious privacy breach on public access WLAN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posal presents a way to use temporary MAC addresses to improve priva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berate "stealing" of MAC addresses is equally easy with static and temporary MAC addresses. The current level of security in "MAC address ownership" is mainta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s entirely optional and no implementation changes are needed for systems that do not use temporary MAC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0B5EB-B4A2-4522-9FCA-6D96F11E7E6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0720"/>
            <a:ext cx="7772400" cy="2971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presentation proposes a method to separate the MAC address of a station from its ident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eans that you can’t find out who a station is by looking at the MAC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9C6167-A899-43DA-A531-EE5F88AC22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LAN MAC address is visible in all WLAN packet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t>
            </a:r>
            <a:r>
              <a:rPr b="0" lang="en-US" sz="2400" spc="-1" strike="noStrike">
                <a:solidFill>
                  <a:srgbClr val="000000"/>
                </a:solidFill>
                <a:latin typeface="Times New Roman"/>
              </a:rPr>
              <a:t>This enables an observer to trace the movements of users and to collect history and profile data</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a serious privacy breach especially in public access network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ilar problems have caused bad press for cellular operators.</a:t>
            </a:r>
            <a:endParaRPr b="0" lang="en-US" sz="1800" spc="-1" strike="noStrike">
              <a:solidFill>
                <a:srgbClr val="000000"/>
              </a:solidFill>
              <a:latin typeface="Times New Roman"/>
            </a:endParaRPr>
          </a:p>
        </p:txBody>
      </p:sp>
      <p:sp>
        <p:nvSpPr>
          <p:cNvPr id="51" name=""/>
          <p:cNvSpPr/>
          <p:nvPr/>
        </p:nvSpPr>
        <p:spPr>
          <a:xfrm>
            <a:off x="762120" y="1973160"/>
            <a:ext cx="739116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7D4329-D074-4DDE-BB65-C441FE33FF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olution Requirements</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676520"/>
            <a:ext cx="7543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changes to IEEE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as normal after the address selection phase.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only need to be locally uniq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cal” is defined to be within the ESS and distribution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so work where DS from multiple ESSs share same wiring pl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is openly visible once chosen – no special security provis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97CB8C-0653-43E3-965A-F4A307BD57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asic Approach to Solution</a:t>
            </a:r>
            <a:endParaRPr b="0" lang="en-US" sz="3600" spc="-1" strike="noStrike">
              <a:solidFill>
                <a:srgbClr val="000000"/>
              </a:solidFill>
              <a:latin typeface="Times New Roman"/>
            </a:endParaRPr>
          </a:p>
        </p:txBody>
      </p:sp>
      <p:sp>
        <p:nvSpPr>
          <p:cNvPr id="55" name="PlaceHolder 2"/>
          <p:cNvSpPr>
            <a:spLocks noGrp="1"/>
          </p:cNvSpPr>
          <p:nvPr>
            <p:ph/>
          </p:nvPr>
        </p:nvSpPr>
        <p:spPr>
          <a:xfrm>
            <a:off x="914040" y="1980720"/>
            <a:ext cx="7620120" cy="304812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requests the MAC address from network</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delivers the address to the st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guarantees unique MAC addresse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 requests use a random addres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 address can be different for each new associ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Static” MAC address never used nor reveal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76D0B5-F20D-478B-B4E1-486591944C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Concept of the Proposed Approach</a:t>
            </a:r>
            <a:endParaRPr b="0" lang="en-US" sz="3600" spc="-1" strike="noStrike">
              <a:solidFill>
                <a:srgbClr val="000000"/>
              </a:solidFill>
              <a:latin typeface="Times New Roman"/>
            </a:endParaRPr>
          </a:p>
        </p:txBody>
      </p:sp>
      <p:sp>
        <p:nvSpPr>
          <p:cNvPr id="57" name="PlaceHolder 2"/>
          <p:cNvSpPr>
            <a:spLocks noGrp="1"/>
          </p:cNvSpPr>
          <p:nvPr>
            <p:ph/>
          </p:nvPr>
        </p:nvSpPr>
        <p:spPr>
          <a:xfrm>
            <a:off x="1171080" y="1676160"/>
            <a:ext cx="7363080" cy="41317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advertises the feature using a capability bit in beacons and probe respon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 must confirm AP has capability before trying to Associa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random address is used before obtaining a network assigned temporary station MAC addres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Elements are added to association request / response frames to indicate address related action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mporary station MAC address is selected during initial association procedure from locally administered IEEE MAC addres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Point delivers unique MAC address to S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me supports expiry, renewal and reclaim of the address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9DEA78-1A2B-4881-A393-EE59FF3FC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Form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cally administered unicast MAC addresses are used as temporary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in part of the temporary address is divided into two parts: temporary address prefix and station specific pa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ddress prefix differentiates temporary address types and multiple ESS’s that share one DS or WM.</a:t>
            </a:r>
            <a:endParaRPr b="0" lang="en-US" sz="2000" spc="-1" strike="noStrike">
              <a:solidFill>
                <a:srgbClr val="000000"/>
              </a:solidFill>
              <a:latin typeface="Times New Roman"/>
            </a:endParaRPr>
          </a:p>
        </p:txBody>
      </p:sp>
      <p:sp>
        <p:nvSpPr>
          <p:cNvPr id="60" name=""/>
          <p:cNvSpPr/>
          <p:nvPr/>
        </p:nvSpPr>
        <p:spPr>
          <a:xfrm>
            <a:off x="1924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1" name=""/>
          <p:cNvGraphicFramePr/>
          <p:nvPr/>
        </p:nvGraphicFramePr>
        <p:xfrm>
          <a:off x="457200" y="4038480"/>
          <a:ext cx="8001000" cy="819360"/>
        </p:xfrm>
        <a:graphic>
          <a:graphicData uri="http://schemas.openxmlformats.org/presentationml/2006/ole">
            <p:oleObj r:id="rId1" spid="">
              <p:embed/>
              <p:pic>
                <p:nvPicPr>
                  <p:cNvPr id="62" name="" descr=""/>
                  <p:cNvPicPr/>
                  <p:nvPr/>
                </p:nvPicPr>
                <p:blipFill>
                  <a:blip r:embed="rId2"/>
                  <a:stretch/>
                </p:blipFill>
                <p:spPr>
                  <a:xfrm>
                    <a:off x="457200" y="4038480"/>
                    <a:ext cx="8001000" cy="819360"/>
                  </a:xfrm>
                  <a:prstGeom prst="rect">
                    <a:avLst/>
                  </a:prstGeom>
                  <a:ln w="0">
                    <a:noFill/>
                  </a:ln>
                </p:spPr>
              </p:pic>
            </p:oleObj>
          </a:graphicData>
        </a:graphic>
      </p:graphicFrame>
      <p:sp>
        <p:nvSpPr>
          <p:cNvPr id="63" name=""/>
          <p:cNvSpPr/>
          <p:nvPr/>
        </p:nvSpPr>
        <p:spPr>
          <a:xfrm>
            <a:off x="609480" y="541008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S prefix:</a:t>
            </a:r>
            <a:r>
              <a:rPr b="0" lang="en-GB" sz="1800" spc="-1" strike="noStrike">
                <a:solidFill>
                  <a:srgbClr val="000000"/>
                </a:solidFill>
                <a:latin typeface="Times New Roman"/>
              </a:rPr>
              <a:t> Address prefix for temporary station defined in each ESS. To prevent temporary MAC address collisions, the ESS prefix shall be unique for each ESS sharing one DS or W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D607AF-9CC1-4D78-A697-9FB28081D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65"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mporary Probe Address (TPA):</a:t>
            </a:r>
            <a:r>
              <a:rPr b="0" lang="en-GB" sz="2000" spc="-1" strike="noStrike">
                <a:solidFill>
                  <a:srgbClr val="000000"/>
                </a:solidFill>
                <a:latin typeface="Times New Roman"/>
                <a:ea typeface="Times New Roman"/>
              </a:rPr>
              <a:t> Temporary MAC address used for communication with the access point before </a:t>
            </a:r>
            <a:r>
              <a:rPr b="0" lang="en-US" sz="2000" spc="-1" strike="noStrike">
                <a:solidFill>
                  <a:srgbClr val="000000"/>
                </a:solidFill>
                <a:latin typeface="Times New Roman"/>
                <a:ea typeface="Times New Roman"/>
              </a:rPr>
              <a:t>station has been assigned a Temporary Station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PA may only be used by the station for issuing Probe and Assoc Reqs and may only be used by the access point to issue Probe and Assoc R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TPAs have temporary address prefix 255.</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tion specific part of the address is randomly chosen by ST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mporary Station Address (TSA):</a:t>
            </a:r>
            <a:r>
              <a:rPr b="0" lang="en-US" sz="2000" spc="-1" strike="noStrike">
                <a:solidFill>
                  <a:srgbClr val="000000"/>
                </a:solidFill>
                <a:latin typeface="Times New Roman"/>
                <a:ea typeface="Times New Roman"/>
              </a:rPr>
              <a:t> Temporary MAC address assigned by the network to a station for a limited period of ti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uses its own ESS prefix as the temporary address prefix for all TSAs it assigns. Station specific part of the address is unique to ESS and is chosen by a method out of the scope of the standar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A9E97DF-A82B-42B6-9060-BC8E85F4DE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Address Lifecycle</a:t>
            </a:r>
            <a:endParaRPr b="0" lang="en-US" sz="3600" spc="-1" strike="noStrike">
              <a:solidFill>
                <a:srgbClr val="000000"/>
              </a:solidFill>
              <a:latin typeface="Times New Roman"/>
            </a:endParaRPr>
          </a:p>
        </p:txBody>
      </p:sp>
      <p:sp>
        <p:nvSpPr>
          <p:cNvPr id="67" name="PlaceHolder 2"/>
          <p:cNvSpPr>
            <a:spLocks noGrp="1"/>
          </p:cNvSpPr>
          <p:nvPr>
            <p:ph/>
          </p:nvPr>
        </p:nvSpPr>
        <p:spPr>
          <a:xfrm>
            <a:off x="533520" y="1981080"/>
            <a:ext cx="45720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1 - Unallocated:</a:t>
            </a:r>
            <a:r>
              <a:rPr b="0" lang="en-US" sz="2000" spc="-1" strike="noStrike">
                <a:solidFill>
                  <a:srgbClr val="000000"/>
                </a:solidFill>
                <a:latin typeface="Times New Roman"/>
              </a:rPr>
              <a:t> The station has no valid temporary MAC address allocated by the access point.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2 - Allocated:</a:t>
            </a:r>
            <a:r>
              <a:rPr b="0" lang="en-US" sz="2000" spc="-1" strike="noStrike">
                <a:solidFill>
                  <a:srgbClr val="000000"/>
                </a:solidFill>
                <a:latin typeface="Times New Roman"/>
              </a:rPr>
              <a:t> The station has valid </a:t>
            </a:r>
            <a:r>
              <a:rPr b="0" i="1" lang="en-US" sz="2000" spc="-1" strike="noStrike">
                <a:solidFill>
                  <a:srgbClr val="000000"/>
                </a:solidFill>
                <a:latin typeface="Times New Roman"/>
              </a:rPr>
              <a:t>Temporary Station Address</a:t>
            </a:r>
            <a:r>
              <a:rPr b="0" lang="en-US" sz="2000" spc="-1" strike="noStrike">
                <a:solidFill>
                  <a:srgbClr val="000000"/>
                </a:solidFill>
                <a:latin typeface="Times New Roman"/>
              </a:rPr>
              <a:t> allocated by the networ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3 - Unallocated:</a:t>
            </a:r>
            <a:r>
              <a:rPr b="0" lang="en-US" sz="2000" spc="-1" strike="noStrike">
                <a:solidFill>
                  <a:srgbClr val="000000"/>
                </a:solidFill>
                <a:latin typeface="Times New Roman"/>
              </a:rPr>
              <a:t> The address allocated for the station has expired.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 for attempting to reclaim the previously allocated address.</a:t>
            </a:r>
            <a:endParaRPr b="0" lang="en-US" sz="2000" spc="-1" strike="noStrike">
              <a:solidFill>
                <a:srgbClr val="000000"/>
              </a:solidFill>
              <a:latin typeface="Times New Roman"/>
            </a:endParaRPr>
          </a:p>
        </p:txBody>
      </p:sp>
      <p:sp>
        <p:nvSpPr>
          <p:cNvPr id="68" name=""/>
          <p:cNvSpPr/>
          <p:nvPr/>
        </p:nvSpPr>
        <p:spPr>
          <a:xfrm>
            <a:off x="29005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9" name=""/>
          <p:cNvGraphicFramePr/>
          <p:nvPr/>
        </p:nvGraphicFramePr>
        <p:xfrm>
          <a:off x="4952880" y="2260440"/>
          <a:ext cx="4267440" cy="3149640"/>
        </p:xfrm>
        <a:graphic>
          <a:graphicData uri="http://schemas.openxmlformats.org/presentationml/2006/ole">
            <p:oleObj r:id="rId1" spid="">
              <p:embed/>
              <p:pic>
                <p:nvPicPr>
                  <p:cNvPr id="70" name="" descr=""/>
                  <p:cNvPicPr/>
                  <p:nvPr/>
                </p:nvPicPr>
                <p:blipFill>
                  <a:blip r:embed="rId2"/>
                  <a:stretch/>
                </p:blipFill>
                <p:spPr>
                  <a:xfrm>
                    <a:off x="4952880" y="2260440"/>
                    <a:ext cx="4267440" cy="3149640"/>
                  </a:xfrm>
                  <a:prstGeom prst="rect">
                    <a:avLst/>
                  </a:prstGeom>
                  <a:ln w="0">
                    <a:noFill/>
                  </a:ln>
                </p:spPr>
              </p:pic>
            </p:oleObj>
          </a:graphicData>
        </a:graphic>
      </p:graphicFrame>
      <p:sp>
        <p:nvSpPr>
          <p:cNvPr id="4" name="PlaceHolder 3"/>
          <p:cNvSpPr>
            <a:spLocks noGrp="1"/>
          </p:cNvSpPr>
          <p:nvPr>
            <p:ph type="sldNum" idx="3"/>
          </p:nvPr>
        </p:nvSpPr>
        <p:spPr/>
        <p:txBody>
          <a:bodyPr/>
          <a:p>
            <a:fld id="{C4435514-66B6-495A-834C-2804E4DDBE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4:46:40Z</dcterms:created>
  <dc:creator>Jon Edney, Henry Haverinen, J-P Honkanen, Pekko Orava</dc:creator>
  <dc:description/>
  <dc:language>en-US</dc:language>
  <cp:lastModifiedBy>at&amp;t user</cp:lastModifiedBy>
  <dcterms:modified xsi:type="dcterms:W3CDTF">2002-07-09T15:46:38Z</dcterms:modified>
  <cp:revision>144</cp:revision>
  <dc:subject/>
  <dc:title>Temporary MAC Addresses for Anonym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5106191</vt:r8>
  </property>
  <property fmtid="{D5CDD505-2E9C-101B-9397-08002B2CF9AE}" pid="3" name="_AuthorEmail">
    <vt:lpwstr>jon.edney@ntlworld.com</vt:lpwstr>
  </property>
  <property fmtid="{D5CDD505-2E9C-101B-9397-08002B2CF9AE}" pid="4" name="_AuthorEmailDisplayName">
    <vt:lpwstr>Jon Edney</vt:lpwstr>
  </property>
  <property fmtid="{D5CDD505-2E9C-101B-9397-08002B2CF9AE}" pid="5" name="_EmailSubject">
    <vt:lpwstr>MAC Address Hiding</vt:lpwstr>
  </property>
</Properties>
</file>