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B532-EF67-4891-854A-2694A3A6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5E9E-5F89-4DC2-A02B-241B4AFC8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AF712-344D-4CF4-A6B8-682AEF1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9EDBA-CF7D-49BD-B413-5B06395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8F1F8-0066-45B1-BA80-30F11BCE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C5CC4-04B0-4622-BFD8-3CD8492E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C6CFB-E6EC-449E-94B4-9857C969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44912-E80B-403E-8C42-C035290C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F54AA-2A7A-4206-A3BD-40F434B6D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D35FD5-3F91-48D7-A086-68807888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EE1F-590B-4921-84BB-E76C22D0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A165-C57D-4FFF-BCE8-AAA57F2E4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3E7F-7CFD-478D-B868-E946FEA5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8D0BA-2165-44FC-A4B6-C0C61707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EEAE3-747A-400E-9654-48A491FE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B9EB0-55AB-4FC1-8222-D28A8F3B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85C95D-25CF-4262-99E1-C2C303E8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18FC84-5AF6-4A16-85AD-6E9D791B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A7E8DA-E57E-4991-96F3-BF93CECE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B75144-23AB-4535-89BB-4C15299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DEEA2-F0D4-4A9C-AABD-6FCF164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44323-5A6E-4BC1-B17E-D8596337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A9A2AB-594E-4DFA-8EDB-DC5F1293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8AC-8026-4B1D-8CAC-89EC9EF8A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90C2F-8D69-49B1-A845-73861D22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D5C-00D2-4C8A-9338-D2ECEFF3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AB3E-5537-44D6-B221-1A18D0A6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F294-A30C-4118-9676-03EE561A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2D09-6D89-4248-897A-1D2C603E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5CDA-E436-49D1-9A2A-1F18F78A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E6503-6AEA-43D8-9319-427297E2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F8B3-EB52-452F-8E63-9642515D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2E7-47D1-40B2-98D9-F7010835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2066-31CA-451A-91C7-491BDB26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E294-5230-4933-BE68-07EE5B72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1E95-5A94-466D-BC03-1DC2169A4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5CA2-B646-41A5-BDC7-F6991B27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19C2-65BB-4CAF-822A-96D7AE76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6E19-E58E-406F-84CF-CFDFA095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1FD96-65B7-4968-A986-F7E1DB17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A4C69-9274-48FA-A10C-71B658DC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DB0CF-77E3-4804-A66E-5721735F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DF854-5BEC-4E22-B8BB-38C7AB3D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BFB-B23D-42DD-A136-188FFEBA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0526F-CDDA-4610-BA8B-1FAFE38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FCFF1-A78D-48AB-A07A-1AB9FDE8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B8C97-4B38-4A69-9712-F8334E16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F537C-0A78-46A6-9170-F2B403B2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A4AE-6A5A-40B3-9C9D-39B540DF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A94E-C0D3-4C8D-B5BC-C61E11FB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D87C0-8161-4AD1-934D-86630DA12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4FE24-3F51-4166-81CF-987807E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7BF52-6B79-44DE-958E-612E34CE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DE2F0-A14E-4FAC-9650-E8AF2BB9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8734-D1C1-40ED-BAAC-598110EF0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0CE83-0C68-4B59-B974-721D4812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248DC-13AF-465E-B5DF-42ED852B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A0BA-5409-4AF6-9300-5F2060F5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4A7F-6FA6-4E27-8358-70339C7D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C1CA-19F0-4F7D-8C5B-C9EB3B0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94E22-DBF7-4510-88D7-5DAC9B80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C2F4A-A356-4F4C-82EF-E9DD46B3F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6FB32-0AC1-4DB8-9131-8664CC0CB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45DE-16D2-4326-89C4-29D0AFDE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8545-E8A2-4CD5-8BEB-C55EFF1A4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AA8-5C6D-4353-89A5-DBF56441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B1B99-04E0-4BE0-9CA0-21078FC89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997E-E70E-482B-AD79-349C0B45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73D9-C937-47E3-A5C4-642F8BCCB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DB78E-EEE4-4C5B-9AE6-4D6CC7E9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4FC6A-81DE-4309-AF9D-D7967EAC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D5071-EF56-4426-9FC3-103709EF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AEC17-2FF0-4064-99DF-26A12391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70262-67FD-4AB1-8240-21F63E5F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D27A-4058-4105-9D89-48645A8B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0DFFD-04AE-451B-8E53-E5351877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4C6-DFAC-4E27-AFDE-4279A5D7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2438-98AF-4670-B418-66C948AB3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2B20E-6EC5-40EF-9129-6CDC1EED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16520-7407-4CEB-AE4E-458C6220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7A434-88B7-47F7-A9B8-C91C39A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8821F-A70D-4513-8B5D-35A8084C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C5A9D-08EE-4FB3-AB6D-4EA2AAA4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DBC96-4FFF-4940-9E35-37B48C8A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39D25-7FAE-437D-A1CF-70E3A2C7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68E9-5183-4260-8563-44A1C4F6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1355A-E9EA-49F5-B5D4-FEF3229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C5D-3214-4573-B367-BA71FD46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A31FE-00F3-40D9-80F2-A65554D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7A733-312D-421A-B2BE-F9CDCB99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959B9-615D-47B0-874E-18E43BC59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897490-EA6A-41E6-8174-2B3137D50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386D1-8F53-4B14-B3BA-D603522B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47799-295C-4AC0-AF53-CA3D65F4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B2583-9A36-47ED-BFE4-CB3654CA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072A56-FC16-49D1-BAA0-871F2B69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4E6E6-E970-450C-9485-1EA28454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0C8F-4837-4589-B483-FF385B8A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747B-8EAA-4E86-8CDF-8AAC633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F7CF8-12C3-4A69-8DF6-441B2EFE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4F0C8-2D56-4F7F-A017-7071FC58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4DDF6-94BA-4E79-B897-322A1362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4BE60-BA64-43F2-B101-1214EEE51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9691C-554E-47D0-954E-D98040BE1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5BF39-FA51-42CD-9C11-3AAB9B593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3FF1E-7FE9-4350-84DA-E9C00D6D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F76E7-D937-4D8E-A2FD-45D68FC5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6A0EE6-B6DA-4671-A748-97CCAEA9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B276F-1507-420B-B1B4-7009E8FD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E51-0669-4002-88E8-45238AA8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1FDF4-C7C2-4989-89B5-9855E1B62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9641F-259C-4182-A150-C2F7D860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BC633-7B72-474A-8F56-ED240E7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BA268-471A-406D-98F8-5A32B7B9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209AE3-D5D5-4E5B-BF50-9CD1D2C4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7378C-D104-4058-8D44-7A5C87D2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69775D-3C6E-4E03-9051-DD7B4CBA6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FD5CD-40B7-453F-AD7C-74DCF2C6F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BACF09-C29F-4B98-8025-1180F73F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90FE3-588F-4E7E-AA6C-2424281B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90805BFA-F96A-4027-A8A6-45E7FDBD0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8AAF-4C63-4C9A-8AA6-25DCEC8BF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167-EAF5-4D68-A592-EEDFB426E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F9B2F-1CAD-477F-8411-860E87862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40B-7E20-40F2-9F20-794BC1E78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B541-3DCD-4FF8-9CAD-D2F53367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8875-D6F4-4690-8F0D-92E609CBA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45B9-BD5E-4804-ADED-283780E36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940-A21D-4643-B9EB-4B9A50452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A595-EBC6-44A2-8783-A3D8658AD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sur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-11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337A-84D2-46F9-95C4-6A899125B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FEA6-6C12-4EC0-B73A-4853029C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2489040" y="2577960"/>
          <a:ext cx="4165920" cy="1703520"/>
        </p:xfrm>
        <a:graphic>
          <a:graphicData uri="http://schemas.openxmlformats.org/drawingml/2006/table">
            <a:tbl>
              <a:tblPr/>
              <a:tblGrid>
                <a:gridCol w="2675160"/>
                <a:gridCol w="1490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ession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61,73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705,168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67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67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Net Worth Chang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7C0D-59DC-458A-B4DF-E5D64170A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340000" y="2222640"/>
          <a:ext cx="4464000" cy="2412720"/>
        </p:xfrm>
        <a:graphic>
          <a:graphicData uri="http://schemas.openxmlformats.org/drawingml/2006/table">
            <a:tbl>
              <a:tblPr/>
              <a:tblGrid>
                <a:gridCol w="2711520"/>
                <a:gridCol w="1752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,706.3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8,887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67.8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90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11,580.3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5,771.7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Reserv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ABEE-9B94-4FDF-A38C-F52810A09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104840" y="2860560"/>
          <a:ext cx="6934320" cy="1136880"/>
        </p:xfrm>
        <a:graphic>
          <a:graphicData uri="http://schemas.openxmlformats.org/drawingml/2006/table">
            <a:tbl>
              <a:tblPr/>
              <a:tblGrid>
                <a:gridCol w="2362320"/>
                <a:gridCol w="1600200"/>
                <a:gridCol w="1447920"/>
                <a:gridCol w="1523880"/>
              </a:tblGrid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5,771.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21,603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5,771.7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21,603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4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11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DAE3-02F8-4881-A3A5-2C77B20DB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22640" y="2577960"/>
          <a:ext cx="4698720" cy="1703520"/>
        </p:xfrm>
        <a:graphic>
          <a:graphicData uri="http://schemas.openxmlformats.org/drawingml/2006/table">
            <a:tbl>
              <a:tblPr/>
              <a:tblGrid>
                <a:gridCol w="2793960"/>
                <a:gridCol w="1904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ession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73,564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40,21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3,35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3,35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4 T2 Session Results Estima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d as of 2024-11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es Not Include GST Rebate or Commiss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0081-462A-48BF-99C1-F78A4A017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2413080" y="2577960"/>
          <a:ext cx="4317840" cy="1703520"/>
        </p:xfrm>
        <a:graphic>
          <a:graphicData uri="http://schemas.openxmlformats.org/drawingml/2006/table">
            <a:tbl>
              <a:tblPr/>
              <a:tblGrid>
                <a:gridCol w="2725560"/>
                <a:gridCol w="15922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ession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51,937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494,224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7,712.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,394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9,107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Advanced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B50-33D9-4EF4-82B7-02799A140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486080" y="2160720"/>
          <a:ext cx="6172200" cy="3406680"/>
        </p:xfrm>
        <a:graphic>
          <a:graphicData uri="http://schemas.openxmlformats.org/drawingml/2006/table">
            <a:tbl>
              <a:tblPr/>
              <a:tblGrid>
                <a:gridCol w="4876560"/>
                <a:gridCol w="129564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Site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,859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11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7-07 Site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997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,107.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Depos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A8F3-3822-4836-A678-55A03FB14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1523880" y="2293920"/>
          <a:ext cx="6096240" cy="2270160"/>
        </p:xfrm>
        <a:graphic>
          <a:graphicData uri="http://schemas.openxmlformats.org/drawingml/2006/table">
            <a:tbl>
              <a:tblPr/>
              <a:tblGrid>
                <a:gridCol w="4724640"/>
                <a:gridCol w="13716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3 Atlanta hotel deposit (2020-03-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7,5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11 Bangkok hotel deposit (2024-11-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7,244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6-11 Bangkok hotel deposit (2024-11-0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0,262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5,006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inancial Fore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7EF77-4F9B-4A75-8A46-2DDC94997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adb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F3C-934D-483A-B251-D0082094DD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5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se individuals are in arrears on meeting f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320760" y="1627200"/>
            <a:ext cx="83343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Until payment is made IEEE 802 rules mandate that they not attend meetings during any 802 plenary session, cannot complete registration for a meeting, voting rights are rescinded, and attendance credit is reset as if no meetings had been attend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488880" y="5103720"/>
            <a:ext cx="80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THROUGH November 2024 802 Plenary(INCLUSIVE), and payment activity through 2024-11-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514A8624-716F-4C64-834F-C2CBF0A7B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628560" y="2362320"/>
            <a:ext cx="7886880" cy="26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iannual: IEEE 802 LMSC financial year naturally splits into three four-month periods aligned with the sessions: January-April, May – August, September – December.  For budgeting purposes, these are referred to as triannuals, with shorthand of T1, T2, and T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ecast: first budget developed far in advance by the Executive Secretary and the Meeting Administrator, usually from the signed contract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: budget updated during the session, usually on a daily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: the final budget once all the numbers have been finaliz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B893-A034-426C-8033-D1762FA4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Results 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25F2-3EF5-49A1-9C63-F436D4E90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A382-BE75-40A0-A470-BF2D3FFCE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Net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0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7D90-611D-4281-BBC9-C4D5F8EC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935000" y="2138400"/>
          <a:ext cx="5274000" cy="3448080"/>
        </p:xfrm>
        <a:graphic>
          <a:graphicData uri="http://schemas.openxmlformats.org/drawingml/2006/table">
            <a:tbl>
              <a:tblPr/>
              <a:tblGrid>
                <a:gridCol w="3581640"/>
                <a:gridCol w="16923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748.5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9,166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810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75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10.2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,222.7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1,037.2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835280"/>
                <a:gridCol w="167004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6,418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1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25AA-8D4A-4683-9B20-F71B28370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3F5F-BFF4-4D1E-9C2A-ABD7C9472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2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7A76-339F-4BE4-9126-DDE18A657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1409760" y="2138400"/>
          <a:ext cx="6324480" cy="3448080"/>
        </p:xfrm>
        <a:graphic>
          <a:graphicData uri="http://schemas.openxmlformats.org/drawingml/2006/table">
            <a:tbl>
              <a:tblPr/>
              <a:tblGrid>
                <a:gridCol w="3962520"/>
                <a:gridCol w="2361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0,777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,420.4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25.5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692.0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8,731.0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71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501.3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AA6B-9703-4DBB-AE7F-C745C17C7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609480" y="2727360"/>
          <a:ext cx="7925040" cy="227160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44792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,79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730.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7FC9-D20D-4DA2-9A95-CD7DD050F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3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8409-684C-49FA-B2A4-5F29F518E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1866960" y="2023920"/>
          <a:ext cx="5410080" cy="3448080"/>
        </p:xfrm>
        <a:graphic>
          <a:graphicData uri="http://schemas.openxmlformats.org/drawingml/2006/table">
            <a:tbl>
              <a:tblPr/>
              <a:tblGrid>
                <a:gridCol w="3579840"/>
                <a:gridCol w="183024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2,180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8,865.5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444.5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32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0,609.4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137.7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6,9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083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AEDB-07CC-4F59-AF51-BC2DF5F60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524240"/>
                <a:gridCol w="1600200"/>
                <a:gridCol w="1904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9,102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835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3-07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2A30-E319-404B-8D60-3A4FFABF5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27200" y="2719440"/>
          <a:ext cx="4089600" cy="1419120"/>
        </p:xfrm>
        <a:graphic>
          <a:graphicData uri="http://schemas.openxmlformats.org/drawingml/2006/table">
            <a:tbl>
              <a:tblPr/>
              <a:tblGrid>
                <a:gridCol w="2667240"/>
                <a:gridCol w="1422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8,8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71,47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BE4F-03B6-4858-A4A0-05F02E5B3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4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3B61-3411-4441-A71A-DEDAADA30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76520" y="2023920"/>
          <a:ext cx="5790960" cy="3448080"/>
        </p:xfrm>
        <a:graphic>
          <a:graphicData uri="http://schemas.openxmlformats.org/drawingml/2006/table">
            <a:tbl>
              <a:tblPr/>
              <a:tblGrid>
                <a:gridCol w="3951000"/>
                <a:gridCol w="1839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03,975.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521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20.4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775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4,562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5,3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45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5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5,238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E9F9-A6AE-4EF5-B5F5-DF30929AD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571680" y="2727360"/>
          <a:ext cx="800100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600200"/>
                <a:gridCol w="160020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9,066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3,238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610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0,581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4,753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7AC1-B225-4901-B58F-4B2ECA2D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508-BE15-458F-96DF-BDFE74E2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3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611520"/>
                <a:gridCol w="18748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5,343.8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481.1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7,180.8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18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8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605.7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74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1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609480" y="2359080"/>
          <a:ext cx="7848720" cy="2270160"/>
        </p:xfrm>
        <a:graphic>
          <a:graphicData uri="http://schemas.openxmlformats.org/drawingml/2006/table">
            <a:tbl>
              <a:tblPr/>
              <a:tblGrid>
                <a:gridCol w="3200400"/>
                <a:gridCol w="1606680"/>
                <a:gridCol w="144144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926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4,61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4,144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67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A97A-8FF1-4185-9E55-2D9273FA4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EA63-7CC8-4001-9820-41904E8AD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A872-6523-44C3-ABD0-DB0E7E7F9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700440"/>
                <a:gridCol w="1785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,423.7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130.9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,417.4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207.5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57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851.5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4,7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838080" y="2362320"/>
          <a:ext cx="7543800" cy="2270160"/>
        </p:xfrm>
        <a:graphic>
          <a:graphicData uri="http://schemas.openxmlformats.org/drawingml/2006/table">
            <a:tbl>
              <a:tblPr/>
              <a:tblGrid>
                <a:gridCol w="3048120"/>
                <a:gridCol w="1523880"/>
                <a:gridCol w="144792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2,239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0,83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8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783F-8292-4C8A-A9C6-04A34E387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8EA5-2E2C-48BC-B767-C87C6BE4D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2 Session Results Prelim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liminary as of 2023-03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x Refund Check received!  In CAD, thoug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55C3-0889-4806-BA81-0E03B6ECA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413080" y="2719440"/>
          <a:ext cx="4317840" cy="1419120"/>
        </p:xfrm>
        <a:graphic>
          <a:graphicData uri="http://schemas.openxmlformats.org/drawingml/2006/table">
            <a:tbl>
              <a:tblPr/>
              <a:tblGrid>
                <a:gridCol w="2870280"/>
                <a:gridCol w="14475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5,325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84,376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0,948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646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8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43CAB-05A9-42A9-BDF7-B948594F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714680" y="2197080"/>
          <a:ext cx="5715000" cy="3103560"/>
        </p:xfrm>
        <a:graphic>
          <a:graphicData uri="http://schemas.openxmlformats.org/drawingml/2006/table">
            <a:tbl>
              <a:tblPr/>
              <a:tblGrid>
                <a:gridCol w="3751200"/>
                <a:gridCol w="1963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0,595.2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9,629.4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319.7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73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301.3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799.8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2,35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28B8-DD38-4D61-B1F3-D33BB39AE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3" name=""/>
          <p:cNvGraphicFramePr/>
          <p:nvPr/>
        </p:nvGraphicFramePr>
        <p:xfrm>
          <a:off x="685800" y="2727360"/>
          <a:ext cx="7772400" cy="227160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44756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4,480.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42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0,079.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9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0D3E-08F6-477A-AF79-940639D45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837A-ED28-4048-9A10-E12FD5738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1905120" y="2197080"/>
          <a:ext cx="5333760" cy="3103560"/>
        </p:xfrm>
        <a:graphic>
          <a:graphicData uri="http://schemas.openxmlformats.org/drawingml/2006/table">
            <a:tbl>
              <a:tblPr/>
              <a:tblGrid>
                <a:gridCol w="3581280"/>
                <a:gridCol w="1752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,04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,288.2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020.2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,149.3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,523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,777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6140-3955-4DAB-9B75-492A73F18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828800"/>
                <a:gridCol w="1447920"/>
                <a:gridCol w="16761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38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872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,242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AA02-B3F9-4B97-A418-13899CD17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1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6559-3EE1-489C-848D-6736ED85B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2133720" y="2541600"/>
          <a:ext cx="4876560" cy="2414520"/>
        </p:xfrm>
        <a:graphic>
          <a:graphicData uri="http://schemas.openxmlformats.org/drawingml/2006/table">
            <a:tbl>
              <a:tblPr/>
              <a:tblGrid>
                <a:gridCol w="2819160"/>
                <a:gridCol w="20574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05.3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7,316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615.4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,830.8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,425.0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2,815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EEA8-66F2-4D39-BB33-DBAFF8920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952560" y="3011400"/>
          <a:ext cx="7238880" cy="170352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152388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8,504.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,806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10,132.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395.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8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000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8E27-F259-49B3-BFB6-B258179B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107A-5AD0-40AF-AE13-8AB22AC54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290680" y="2541600"/>
          <a:ext cx="4572000" cy="2414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284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188.1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581.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6,561.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25DB-C807-4395-8B61-54B179895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able 1" descr=""/>
          <p:cNvPicPr/>
          <p:nvPr/>
        </p:nvPicPr>
        <p:blipFill>
          <a:blip r:embed="rId1"/>
          <a:stretch/>
        </p:blipFill>
        <p:spPr>
          <a:xfrm>
            <a:off x="2389320" y="2646360"/>
            <a:ext cx="437184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DC8-5D64-4975-B5C3-BBAAC334E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06668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416320"/>
                <a:gridCol w="1558800"/>
                <a:gridCol w="1557360"/>
                <a:gridCol w="1325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3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526E-66EA-40D6-A152-A895E3452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225520" y="2541600"/>
          <a:ext cx="4692960" cy="2414520"/>
        </p:xfrm>
        <a:graphic>
          <a:graphicData uri="http://schemas.openxmlformats.org/drawingml/2006/table">
            <a:tbl>
              <a:tblPr/>
              <a:tblGrid>
                <a:gridCol w="2787840"/>
                <a:gridCol w="190512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446.2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,89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54.6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,297.8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9B9A8-4B91-43D5-9C9B-2839A50E2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1028880" y="3295800"/>
          <a:ext cx="7086600" cy="113508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6002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6489-6361-4227-9AF7-FD772B75A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Net Worth Chang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0B0-43C3-4148-9779-0F5874B6B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86000" y="2222640"/>
          <a:ext cx="4572000" cy="2412720"/>
        </p:xfrm>
        <a:graphic>
          <a:graphicData uri="http://schemas.openxmlformats.org/drawingml/2006/table">
            <a:tbl>
              <a:tblPr/>
              <a:tblGrid>
                <a:gridCol w="2971800"/>
                <a:gridCol w="16002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4,250.1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266.1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557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Reserv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2BEA-FF0C-446B-9CBB-E2803AD79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21932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514600"/>
                <a:gridCol w="1371600"/>
                <a:gridCol w="13716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5E99-AAA8-4E99-BA5E-76DBD5354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able 1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2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E7B4-B896-42C3-B864-0E3E8026AE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Table 2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02:38Z</dcterms:created>
  <dc:creator>c.chaplin</dc:creator>
  <dc:description/>
  <dc:language>en-US</dc:language>
  <cp:lastModifiedBy>Clint Chaplin</cp:lastModifiedBy>
  <cp:lastPrinted>2013-11-15T06:10:00Z</cp:lastPrinted>
  <dcterms:modified xsi:type="dcterms:W3CDTF">2024-11-11T15:54:05Z</dcterms:modified>
  <cp:revision>350</cp:revision>
  <dc:subject/>
  <dc:title>Treasurer’s Report</dc:title>
</cp:coreProperties>
</file>