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B900-450A-4B87-AF94-5AF6B23F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40FE-3F21-470F-92FF-AE4A63AE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C7534-302B-47FC-BBEF-8C6F0EA7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8D0AB3-8A58-4A70-9544-75FFAB65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C444B-0ADE-4208-B0AD-705B3F59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E8A234-E173-4582-A7AA-199B7354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CE6642-B4FD-4A2C-90D2-D293CA8C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CE815-D92B-4363-BF15-F958D382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5F11C-E76E-4944-9464-2F5962AC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42F3A-8267-49E0-87E9-0AAC03DEB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2B2E2-19F9-4A01-933B-09EDF87A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A516A-6347-4BA2-B1FA-E1035869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E5CC-D3F3-4243-8A37-C0CA11255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6D7CB-16ED-4B5D-89F1-D39A0507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24180-A98C-481B-A7E4-A67831CD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70A05-95C2-48EA-ACE8-56AACA26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22159-0BF9-4962-9CFD-BABB9E1C7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32D3B5-BD01-4681-BBC1-C8635C03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1D5CD8-8D4B-4AE7-812E-D313AB70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764C23-15A4-40D0-A64F-3B0BE16A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8D720-6ED0-4DE1-BB12-B8D3CC9F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A231D-EDC2-4742-9286-148C39FE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6F392-898C-4CE6-A089-7B4B8587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A45-121E-42F5-BAF5-6D827FB8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DA26E9-CB21-430F-8366-73062DD92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FA00-E3BE-48F6-90B2-B3A381AF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6E1B-29A2-4BE9-A5A6-013F8E01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D8EC-0B1A-489B-8F62-6CD9EDFF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4309-DF89-42AD-86EF-2CD0145B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3AE0-347C-43FC-844B-BF014B0B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89B67-5792-4AA9-81F9-1DBE8DD8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8411-1B02-4FAB-9083-1C691EE7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BCA-1E19-4874-9B58-041BF39C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C76F-C1A8-4C82-AEB1-9C1E4E0E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338B-C8BE-48BE-9D02-AA43B6B6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BCB4-2955-43CB-8CF2-AE1E9BA9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226C-E740-4E80-A660-2C5973A0B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4595-73B7-499F-A034-9A155CAB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B0F06-64DE-473E-8A05-14022E13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AE60-4893-42FC-B1A2-76D411B5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A13D5-AD7E-4B87-AD0B-38675612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7405D-58C4-47CB-A84D-D604A8C3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8F0A-15BA-40D6-BF35-07644491B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AB9-707F-43C5-9E4F-DF4875FF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4961E-2791-46D8-BC4D-1EC5A300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C8A64-8E43-467D-B15C-43754279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23D30-ABAB-47B1-A856-94C89D001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96D3-217D-4906-B3A3-46637136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EC55D-B7C4-4E3B-96FF-A114CDDE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191D-36D2-49AD-AB31-E921E5335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1183-9A96-4B1E-89A6-47F56E1A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D8F43-AABB-41B0-9462-672CB1C6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55233-075C-4F4A-821A-A7BC9BA9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BDB7-6532-431E-A32C-2181AC81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BC9-FDC9-4CAE-9C3A-84A94FC7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F4084-2441-4015-BF3F-D0E2E668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5AE9-40BF-4D40-8CD5-9DF4574E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90B20-51B7-478D-81FB-D20886E4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4CBB-745A-41D3-B2D4-48B1E3FE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56E9C-A034-4E2D-835B-05CE13AE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C86CC-5E01-4C28-97BD-CDAFB92F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62BC5-87BA-4F7B-AACF-8CDEB4179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01057-C3FC-4902-BC72-020E6B586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33A8-070D-48AD-B177-FA3F96B3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5976C-5DD6-48E2-8B31-9EB4114A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82DA-CA2E-4807-B032-A7B6B5E6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1C8C8-820B-4D1E-AF40-54F4A9A0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0D4A9-FF6C-4D8A-8C6C-F51D701F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3DD36-D32C-4128-B342-265B2C4C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8F361-6896-45A3-BC4B-8418CCE2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D2576-CFAB-4567-B8E2-7F90F3AF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D5332-5D30-412D-A3C2-5707B72F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F7733-A71C-449A-8CFD-6C50BE50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1FCB7-AD52-46A1-BD7B-85CA4AB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8F3B3-0E47-46C3-BFB3-9CF9DF0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9007F-14A8-4B33-8F92-3BADE0BD0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6B52-67E1-40C8-B232-70866EA0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AB51D-455E-4D98-A5E4-9D997711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C3B1C-8768-4F10-A63E-C74E17084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6487C-F0DA-495D-9208-A4DE891E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8CF60-CC0B-4A2E-944D-09327C1B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722D9-A846-4BF0-B18F-C7E9D853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2F739-5C29-4B09-B65A-AB5A6567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8C9A9-98B4-461D-8EE4-79228ACC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9A83D-10F6-47B2-9F91-3B23BBDD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8CBB5-D684-456B-99D1-C821490C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DC468-8F85-4A0D-908B-8F970912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28C1-3E72-4B2E-BCEB-A0747C4D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2D3B5-D460-4D23-9336-90461FB5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75F44-DE0E-4A23-B66B-12ED3FF9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F2ED-62E1-4172-A255-305D4BE2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2CAB7-9A15-4EBB-852A-D3A64C70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0E5C1-6965-4F9B-9E5E-21305798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07A40-04C9-4EC3-BF15-B4F6ED22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2DC77-130E-4B4A-9755-C602A7EA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2CDF7-CCA1-4057-AB88-2CC63C32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C7231-00EA-4113-ABE8-5E2C23B5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40ECF-7BE1-4DEC-A026-5958FF6B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1AC-E269-48F6-9E2B-61A518FE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8D837-1514-42EE-BD51-3B0D75E1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9C66B-692A-4536-AB9B-8E433284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336E5-1856-4D61-AB0B-0E3E11A8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E7C5C-D3B6-4AC5-B96B-C23D28BD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C1924-8540-4FA4-973C-EC5C9DADB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6978B-CEC7-4F40-804C-61D55F59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66054-6F6C-40B9-865D-AF72F703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EFE4E-BA24-4925-BC86-B6518A73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AF09D-6D66-48D9-AD02-7CD202AF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1A57C-C3E7-465F-8B32-9B49E478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50C-0F8E-48EA-BFD0-A4800B87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73E2D-B41C-4C25-9F23-FF8DF306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7071D5-A602-4BC3-A364-26465EE9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018CE-CBAC-4007-84C3-3F13AF7A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DDF9B-B61A-4E69-851E-8B5AB145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661F5-D203-420A-AE76-EF07AB2C5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EFFCD6-2ADB-4DE0-9121-E9A877E1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6128F-E869-4B8E-844A-669053C8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9D184-0DB0-4849-B3FF-8D973B3D1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CCA1B7-EC43-473F-AF8F-7ECDB89A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FE13B-C192-4057-A38D-0C802C75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8993FC31-8D45-4322-AA38-B78AA139B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A71C-8092-410B-90ED-8FF75A39A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A811-9526-4DB8-8093-8D16619B9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53970-8C23-41B5-88B5-EB8813EF5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E296-F486-40A7-8409-E7701E011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120B-38FF-4CC0-9F88-6A17F070E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059F-071D-4BB6-B8E1-3E632D6E2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F272-D305-413C-8473-F5CEAB1DE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2E37-E2F6-4A51-8F89-435403CBE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72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2362320" y="6244920"/>
            <a:ext cx="4419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58000" y="6244920"/>
            <a:ext cx="1828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7E54-0131-47B8-A9B7-FC52D06C8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easury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4-07-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CF8C-20A4-4A11-9A8E-FE81C7765D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T3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ED72-CB5B-4D07-8B39-5C4EDA906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Table 1" descr=""/>
          <p:cNvPicPr/>
          <p:nvPr/>
        </p:nvPicPr>
        <p:blipFill>
          <a:blip r:embed="rId1"/>
          <a:stretch/>
        </p:blipFill>
        <p:spPr>
          <a:xfrm>
            <a:off x="2176560" y="2646360"/>
            <a:ext cx="479736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Net Worth Change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B213-8E76-4C99-A3D2-5F9408B28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2111400" y="2222640"/>
          <a:ext cx="4921200" cy="2412720"/>
        </p:xfrm>
        <a:graphic>
          <a:graphicData uri="http://schemas.openxmlformats.org/drawingml/2006/table">
            <a:tbl>
              <a:tblPr/>
              <a:tblGrid>
                <a:gridCol w="2940120"/>
                <a:gridCol w="19810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2,706.3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8,887.5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,568.0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90.5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452.1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804.5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Reserve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5251-627E-4EE2-B749-8C9E6A376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028880" y="2724120"/>
          <a:ext cx="7086600" cy="1409760"/>
        </p:xfrm>
        <a:graphic>
          <a:graphicData uri="http://schemas.openxmlformats.org/drawingml/2006/table">
            <a:tbl>
              <a:tblPr/>
              <a:tblGrid>
                <a:gridCol w="2290680"/>
                <a:gridCol w="1503360"/>
                <a:gridCol w="1616040"/>
                <a:gridCol w="1676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804.5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735,635.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804.5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735,635.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4 T1 Session Results Prelim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liminary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2D91-0E34-4CF7-8D80-4AF0395D6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340000" y="2719440"/>
          <a:ext cx="4470480" cy="1419120"/>
        </p:xfrm>
        <a:graphic>
          <a:graphicData uri="http://schemas.openxmlformats.org/drawingml/2006/table">
            <a:tbl>
              <a:tblPr/>
              <a:tblGrid>
                <a:gridCol w="2717640"/>
                <a:gridCol w="175284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73,564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650,212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3,35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3,35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tted Reserves: Advanced Pay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9F26-E1A0-44C7-98D9-443315E46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371600" y="2160720"/>
          <a:ext cx="6400800" cy="3406680"/>
        </p:xfrm>
        <a:graphic>
          <a:graphicData uri="http://schemas.openxmlformats.org/drawingml/2006/table">
            <a:tbl>
              <a:tblPr/>
              <a:tblGrid>
                <a:gridCol w="4952880"/>
                <a:gridCol w="14479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Reserves: advanc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11 Site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080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11 Registration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11 Face to Face services (2022-03-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3 Face to Face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25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7 Face to Face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25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7 Site Surve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,859.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11 Face to Face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mmitted Reserves: advance pay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8,54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itted Reserves: Depos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03B6-AA39-49EF-BA4A-05A588FF2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523880" y="2293920"/>
          <a:ext cx="6096240" cy="2270160"/>
        </p:xfrm>
        <a:graphic>
          <a:graphicData uri="http://schemas.openxmlformats.org/drawingml/2006/table">
            <a:tbl>
              <a:tblPr/>
              <a:tblGrid>
                <a:gridCol w="4572000"/>
                <a:gridCol w="152424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itted Reserves: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5-03 Atlanta hotel deposit (2020-03-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7,5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4-11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436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mmitted Reserves: depos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0,936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4 T2 Session Results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stimate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es not include GST reb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1490-D313-4C92-BC0B-976225BA1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2324160" y="2577960"/>
          <a:ext cx="4495680" cy="1703520"/>
        </p:xfrm>
        <a:graphic>
          <a:graphicData uri="http://schemas.openxmlformats.org/drawingml/2006/table">
            <a:tbl>
              <a:tblPr/>
              <a:tblGrid>
                <a:gridCol w="2819520"/>
                <a:gridCol w="16761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Session 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71,38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568,925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455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,42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,875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Financial Forec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8BAF-5F30-479C-BDBE-8AA66C756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Results 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9E1E-E399-4F90-93AE-7B48EF297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BF13-698B-4701-8BD4-AC85B77B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iannual: IEEE 802 LMSC financial year naturally splits into three four-month periods aligned with the sessions: January-April, May – August, September – December.  For budgeting purposes, these are referred to as triannuals, with shorthand of T1, T2, and T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ecast: first budget developed far in advance by the Executive Secretary and the Meeting Administrator, usually from the signed contract numb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stimate: budget updated during the session, usually on a daily bas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: the final budget once all the numbers have been finaliz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6F7E7-4316-4513-B9B1-61454B681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1 Net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99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A5E8-3011-4A63-8367-B655B8242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1935000" y="2138400"/>
          <a:ext cx="5274000" cy="3448080"/>
        </p:xfrm>
        <a:graphic>
          <a:graphicData uri="http://schemas.openxmlformats.org/drawingml/2006/table">
            <a:tbl>
              <a:tblPr/>
              <a:tblGrid>
                <a:gridCol w="3581640"/>
                <a:gridCol w="16923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,748.5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9,166.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3,810.4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755.0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7,210.2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,222.7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752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61,037.2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1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33520" y="2727360"/>
          <a:ext cx="8076960" cy="2271600"/>
        </p:xfrm>
        <a:graphic>
          <a:graphicData uri="http://schemas.openxmlformats.org/drawingml/2006/table">
            <a:tbl>
              <a:tblPr/>
              <a:tblGrid>
                <a:gridCol w="3047760"/>
                <a:gridCol w="1835280"/>
                <a:gridCol w="1670040"/>
                <a:gridCol w="15238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68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6,062.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68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6,062.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70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6,062.4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4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2,481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2,48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70,377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6,418.5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6,79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0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63CB-82BC-456C-BFD8-2E0A9F15E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9476-AF90-4002-B95B-B1A6BC070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2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12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B4CE-2FA9-40FB-93DB-CB4BD5F6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409760" y="2138400"/>
          <a:ext cx="6324480" cy="3448080"/>
        </p:xfrm>
        <a:graphic>
          <a:graphicData uri="http://schemas.openxmlformats.org/drawingml/2006/table">
            <a:tbl>
              <a:tblPr/>
              <a:tblGrid>
                <a:gridCol w="3962520"/>
                <a:gridCol w="23619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0,777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,420.4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,125.5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,692.0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8,731.0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,771.7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52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3,501.3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2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C07B-660A-498F-AFC5-380AB1B37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609480" y="2727360"/>
          <a:ext cx="7925040" cy="2271600"/>
        </p:xfrm>
        <a:graphic>
          <a:graphicData uri="http://schemas.openxmlformats.org/drawingml/2006/table">
            <a:tbl>
              <a:tblPr/>
              <a:tblGrid>
                <a:gridCol w="3124440"/>
                <a:gridCol w="1752480"/>
                <a:gridCol w="144792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1,521.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2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1,521.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14,31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1,521.0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2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2,481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3,790.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6,27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6,79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,730.8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9,064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D628-2002-4E1E-9543-7E184C199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3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2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53CCB-7739-4099-9708-17C384E1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866960" y="2023920"/>
          <a:ext cx="5410080" cy="3448080"/>
        </p:xfrm>
        <a:graphic>
          <a:graphicData uri="http://schemas.openxmlformats.org/drawingml/2006/table">
            <a:tbl>
              <a:tblPr/>
              <a:tblGrid>
                <a:gridCol w="3579840"/>
                <a:gridCol w="183024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2,180.3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8,865.5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,444.5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132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0,609.4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,137.76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6,9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,689.9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52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3,083.4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3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3DCC-134C-48ED-ABBB-C693AAEC6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33520" y="2727360"/>
          <a:ext cx="8076960" cy="2271600"/>
        </p:xfrm>
        <a:graphic>
          <a:graphicData uri="http://schemas.openxmlformats.org/drawingml/2006/table">
            <a:tbl>
              <a:tblPr/>
              <a:tblGrid>
                <a:gridCol w="3047760"/>
                <a:gridCol w="1524240"/>
                <a:gridCol w="1600200"/>
                <a:gridCol w="19047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9,102.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91,69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8,627.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8,627.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0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525.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0,318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32,793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525.3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2,318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6,271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,689.9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0,581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9,064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3,835.4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32,900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5C70-6F56-4C90-BD07-B8AF463CA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4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38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77A3-0E99-4A2D-81A6-56D07F24F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676520" y="2023920"/>
          <a:ext cx="5790960" cy="3448080"/>
        </p:xfrm>
        <a:graphic>
          <a:graphicData uri="http://schemas.openxmlformats.org/drawingml/2006/table">
            <a:tbl>
              <a:tblPr/>
              <a:tblGrid>
                <a:gridCol w="3951000"/>
                <a:gridCol w="18399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03,975.7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521.3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7,220.4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4.9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4,775.4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4,562.7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65,3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,145.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reci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85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05,238.2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T1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3-07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9DDE-F0D9-4E3F-A460-644C66776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27200" y="2719440"/>
          <a:ext cx="4089600" cy="1419120"/>
        </p:xfrm>
        <a:graphic>
          <a:graphicData uri="http://schemas.openxmlformats.org/drawingml/2006/table">
            <a:tbl>
              <a:tblPr/>
              <a:tblGrid>
                <a:gridCol w="2667240"/>
                <a:gridCol w="14223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28,8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71,471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7,328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7,328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4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9CAC-8762-4B59-A60B-5BBF2BB84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571680" y="2727360"/>
          <a:ext cx="8001000" cy="2271600"/>
        </p:xfrm>
        <a:graphic>
          <a:graphicData uri="http://schemas.openxmlformats.org/drawingml/2006/table">
            <a:tbl>
              <a:tblPr/>
              <a:tblGrid>
                <a:gridCol w="3124080"/>
                <a:gridCol w="1600200"/>
                <a:gridCol w="1600200"/>
                <a:gridCol w="1676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91,691.0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9,066.4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50,757.5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8,627.8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93,238.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4,610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0,318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34,172.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6,146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62,318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34,172.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70,581.2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70,581.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32,900.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04,753.2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D5DF-7B3E-4601-8A30-9A82CB5EA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5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5D47-06F0-4B02-B7E4-5CBDA31D9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1828800" y="2023920"/>
          <a:ext cx="5486400" cy="3448080"/>
        </p:xfrm>
        <a:graphic>
          <a:graphicData uri="http://schemas.openxmlformats.org/drawingml/2006/table">
            <a:tbl>
              <a:tblPr/>
              <a:tblGrid>
                <a:gridCol w="3611520"/>
                <a:gridCol w="18748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5,343.8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4,481.1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97,180.88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8,185.7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83.6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,605.7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74.7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29,1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5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609480" y="2359080"/>
          <a:ext cx="7848720" cy="2270160"/>
        </p:xfrm>
        <a:graphic>
          <a:graphicData uri="http://schemas.openxmlformats.org/drawingml/2006/table">
            <a:tbl>
              <a:tblPr/>
              <a:tblGrid>
                <a:gridCol w="3200400"/>
                <a:gridCol w="1606680"/>
                <a:gridCol w="144144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50,757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926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0,684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24,610.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4,144.1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9,533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6,14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0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028,14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4,070.7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57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B5FC-FF93-4C15-ADC9-1D1B25493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9B6A-CBD3-4E7D-A66C-F2DB92730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6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0743-D31B-4F12-85E7-C2EE5113F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1828800" y="2023920"/>
          <a:ext cx="5486400" cy="3448080"/>
        </p:xfrm>
        <a:graphic>
          <a:graphicData uri="http://schemas.openxmlformats.org/drawingml/2006/table">
            <a:tbl>
              <a:tblPr/>
              <a:tblGrid>
                <a:gridCol w="3700440"/>
                <a:gridCol w="178596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6,423.76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130.9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,417.4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,207.53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57.3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,851.5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4,70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6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838080" y="2362320"/>
          <a:ext cx="7543800" cy="2270160"/>
        </p:xfrm>
        <a:graphic>
          <a:graphicData uri="http://schemas.openxmlformats.org/drawingml/2006/table">
            <a:tbl>
              <a:tblPr/>
              <a:tblGrid>
                <a:gridCol w="3048120"/>
                <a:gridCol w="1523880"/>
                <a:gridCol w="1447920"/>
                <a:gridCol w="15238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0,684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2,239.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02,923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9,533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0,830.9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0,36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0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3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302,217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3,070.4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7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7CFE-38A2-477E-B5A3-03864BD26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93C6-D6B7-4754-A68F-2D0BD26F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7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F25B-0AEE-4833-9D0C-CACB3C47A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14680" y="2197080"/>
          <a:ext cx="5715000" cy="3103560"/>
        </p:xfrm>
        <a:graphic>
          <a:graphicData uri="http://schemas.openxmlformats.org/drawingml/2006/table">
            <a:tbl>
              <a:tblPr/>
              <a:tblGrid>
                <a:gridCol w="3751200"/>
                <a:gridCol w="19638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50,595.2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79,629.4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4,319.7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,735.7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4,301.3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,799.86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2,35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7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0D09-0012-41A7-9072-F590D210C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685800" y="2727360"/>
          <a:ext cx="7772400" cy="2271600"/>
        </p:xfrm>
        <a:graphic>
          <a:graphicData uri="http://schemas.openxmlformats.org/drawingml/2006/table">
            <a:tbl>
              <a:tblPr/>
              <a:tblGrid>
                <a:gridCol w="3048120"/>
                <a:gridCol w="1600200"/>
                <a:gridCol w="1447560"/>
                <a:gridCol w="1676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202,923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84,480.6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8,442.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30,36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10,079.2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0,285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3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38,728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8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635,288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4,559.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8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58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T2 Session Results Prelimin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eliminary as of 2023-03-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issing Tax Ref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0EE7-725A-4E4E-B0AF-9078C2831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413080" y="2719440"/>
          <a:ext cx="4317840" cy="1419120"/>
        </p:xfrm>
        <a:graphic>
          <a:graphicData uri="http://schemas.openxmlformats.org/drawingml/2006/table">
            <a:tbl>
              <a:tblPr/>
              <a:tblGrid>
                <a:gridCol w="2870280"/>
                <a:gridCol w="14475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65,325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$384,376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80,948.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hi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1,646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Session Surplus/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2,595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E6D9-AD42-4C49-8FA7-9F26D202F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8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7DDC-3D8F-45A9-BA60-A09180D6D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905120" y="2197080"/>
          <a:ext cx="5333760" cy="3103560"/>
        </p:xfrm>
        <a:graphic>
          <a:graphicData uri="http://schemas.openxmlformats.org/drawingml/2006/table">
            <a:tbl>
              <a:tblPr/>
              <a:tblGrid>
                <a:gridCol w="3581280"/>
                <a:gridCol w="17524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48,042.1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1,288.2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020.2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3,149.32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1,523.24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9,777.39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Venue Set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in Foreign Currenc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8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F29E-C246-4C3F-8222-B3CEA5D89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"/>
          <p:cNvGraphicFramePr/>
          <p:nvPr/>
        </p:nvGraphicFramePr>
        <p:xfrm>
          <a:off x="533520" y="2727360"/>
          <a:ext cx="8076960" cy="2271600"/>
        </p:xfrm>
        <a:graphic>
          <a:graphicData uri="http://schemas.openxmlformats.org/drawingml/2006/table">
            <a:tbl>
              <a:tblPr/>
              <a:tblGrid>
                <a:gridCol w="3124080"/>
                <a:gridCol w="1828800"/>
                <a:gridCol w="1447920"/>
                <a:gridCol w="167616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18,438.4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4,872.2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3,310.7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20,285.1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4,242.8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4,528.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38,723.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7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+ 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3.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ore Funds US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40,723.6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9,115.0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CA83-A63B-4409-ABDB-89B6E49A7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9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03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CB37-EECA-4FBD-A3D3-68E0D5B39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5" name=""/>
          <p:cNvGraphicFramePr/>
          <p:nvPr/>
        </p:nvGraphicFramePr>
        <p:xfrm>
          <a:off x="2133720" y="2541600"/>
          <a:ext cx="4876560" cy="2414520"/>
        </p:xfrm>
        <a:graphic>
          <a:graphicData uri="http://schemas.openxmlformats.org/drawingml/2006/table">
            <a:tbl>
              <a:tblPr/>
              <a:tblGrid>
                <a:gridCol w="2819160"/>
                <a:gridCol w="20574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8,705.3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97,316.4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6,615.4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1,830.83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4,425.0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2,815.7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50,636.3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19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4D6C-63E3-4BB4-91BA-B05E8FAC3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952560" y="3011400"/>
          <a:ext cx="7238880" cy="1703520"/>
        </p:xfrm>
        <a:graphic>
          <a:graphicData uri="http://schemas.openxmlformats.org/drawingml/2006/table">
            <a:tbl>
              <a:tblPr/>
              <a:tblGrid>
                <a:gridCol w="2514600"/>
                <a:gridCol w="1600200"/>
                <a:gridCol w="152388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3,310.7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8,504.1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04,806.5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54,528.0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10,132.1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395.85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 + 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7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48,636.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ty 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00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,000.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499,838.76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50,636.3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4CC1-0893-490D-BD73-AF9C36F0C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0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1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DA3DB-8B28-4539-B3B2-B6D2B4040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2290680" y="2541600"/>
          <a:ext cx="4572000" cy="2414520"/>
        </p:xfrm>
        <a:graphic>
          <a:graphicData uri="http://schemas.openxmlformats.org/drawingml/2006/table">
            <a:tbl>
              <a:tblPr/>
              <a:tblGrid>
                <a:gridCol w="2743200"/>
                <a:gridCol w="18288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73,284.1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6,188.1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5,000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581.2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66,561.12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3,452.11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0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113E-4A6A-4DF9-A8D7-34506C316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1066680" y="2894040"/>
          <a:ext cx="6858000" cy="1135080"/>
        </p:xfrm>
        <a:graphic>
          <a:graphicData uri="http://schemas.openxmlformats.org/drawingml/2006/table">
            <a:tbl>
              <a:tblPr/>
              <a:tblGrid>
                <a:gridCol w="2416320"/>
                <a:gridCol w="1558800"/>
                <a:gridCol w="1557360"/>
                <a:gridCol w="132552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3,452.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149,202.3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193,452.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1 Net Worth Ch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26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7522-C217-40B0-A825-1CFA50BB9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2225520" y="2541600"/>
          <a:ext cx="4692960" cy="2414520"/>
        </p:xfrm>
        <a:graphic>
          <a:graphicData uri="http://schemas.openxmlformats.org/drawingml/2006/table">
            <a:tbl>
              <a:tblPr/>
              <a:tblGrid>
                <a:gridCol w="2787840"/>
                <a:gridCol w="190512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25,000.00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446.2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9,895.0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,154.6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$3,297.85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5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198.0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T3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105B-BC85-4F39-B41F-99CD45E53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Table 1" descr=""/>
          <p:cNvPicPr/>
          <p:nvPr/>
        </p:nvPicPr>
        <p:blipFill>
          <a:blip r:embed="rId1"/>
          <a:stretch/>
        </p:blipFill>
        <p:spPr>
          <a:xfrm>
            <a:off x="2389320" y="2646360"/>
            <a:ext cx="437184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1 Rese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D1B8-7473-4D84-8E41-0C2C90F58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3" name=""/>
          <p:cNvGraphicFramePr/>
          <p:nvPr/>
        </p:nvGraphicFramePr>
        <p:xfrm>
          <a:off x="1028880" y="3295800"/>
          <a:ext cx="7086600" cy="1135080"/>
        </p:xfrm>
        <a:graphic>
          <a:graphicData uri="http://schemas.openxmlformats.org/drawingml/2006/table">
            <a:tbl>
              <a:tblPr/>
              <a:tblGrid>
                <a:gridCol w="2438280"/>
                <a:gridCol w="1447920"/>
                <a:gridCol w="160020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198.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55,750.2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4,198.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F145-4E45-4E57-BABB-8017DFFEA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Net Worth Change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146B-FE22-49FE-931B-47FF67884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1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2286000" y="2222640"/>
          <a:ext cx="4572000" cy="2412720"/>
        </p:xfrm>
        <a:graphic>
          <a:graphicData uri="http://schemas.openxmlformats.org/drawingml/2006/table">
            <a:tbl>
              <a:tblPr/>
              <a:tblGrid>
                <a:gridCol w="2971800"/>
                <a:gridCol w="160020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7,328.94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92,595.5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Sess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54,250.19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m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,266.11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5,557.77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Expense Oth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Ch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5,882.97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2 Reserve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Courier New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2EB2-777D-42F9-9CF9-21E963AC5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219320" y="2894040"/>
          <a:ext cx="6858000" cy="1135080"/>
        </p:xfrm>
        <a:graphic>
          <a:graphicData uri="http://schemas.openxmlformats.org/drawingml/2006/table">
            <a:tbl>
              <a:tblPr/>
              <a:tblGrid>
                <a:gridCol w="2514600"/>
                <a:gridCol w="1371600"/>
                <a:gridCol w="1371600"/>
                <a:gridCol w="160020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D General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5,882.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A Reser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0.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Reser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999,948.3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5,882.97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,505,831.2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T1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stimate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DC4F-7231-4985-99AE-8AE34DDF9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Table 1" descr=""/>
          <p:cNvPicPr/>
          <p:nvPr/>
        </p:nvPicPr>
        <p:blipFill>
          <a:blip r:embed="rId1"/>
          <a:stretch/>
        </p:blipFill>
        <p:spPr>
          <a:xfrm>
            <a:off x="2328840" y="2646360"/>
            <a:ext cx="4492800" cy="16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23 T2 Session Results A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tual as of 2024-07-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6858000" y="624528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D17A-2A14-449E-A081-4BE839BA6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oter Placeholder 2"/>
          <p:cNvSpPr/>
          <p:nvPr/>
        </p:nvSpPr>
        <p:spPr>
          <a:xfrm>
            <a:off x="2362320" y="6245280"/>
            <a:ext cx="441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4-07-19 Treasury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Table 2" descr=""/>
          <p:cNvPicPr/>
          <p:nvPr/>
        </p:nvPicPr>
        <p:blipFill>
          <a:blip r:embed="rId1"/>
          <a:stretch/>
        </p:blipFill>
        <p:spPr>
          <a:xfrm>
            <a:off x="2328840" y="2646360"/>
            <a:ext cx="449280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8:02:38Z</dcterms:created>
  <dc:creator>c.chaplin</dc:creator>
  <dc:description/>
  <dc:language>en-US</dc:language>
  <cp:lastModifiedBy>Clint Chaplin</cp:lastModifiedBy>
  <cp:lastPrinted>2013-11-15T06:10:00Z</cp:lastPrinted>
  <dcterms:modified xsi:type="dcterms:W3CDTF">2024-07-19T15:07:04Z</dcterms:modified>
  <cp:revision>343</cp:revision>
  <dc:subject/>
  <dc:title>Treasurer’s Report</dc:title>
</cp:coreProperties>
</file>