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B371-0963-4655-98C9-56DE8764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037-73C9-4D80-801B-5476972A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EF84A-3765-4876-A922-73DDC3E6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4564A-DE46-4DAF-AE2E-2A3021528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522E4-16FA-4646-A409-2E16AE8C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1F261-E534-4C83-B499-B931A240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23E8F5-7F17-4AFF-9278-9F62CA14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6D813-647C-4BD5-8D55-9CBB355B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DDE12-E4C3-4BBA-BE0E-A4193B8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A6565-4490-490A-B43A-F44CA5FA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C1814-4DF0-4A65-B199-3A3C1D18C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D7D41B-96E8-4CE6-8EFC-93F5E066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94A-10AF-4943-B459-0FF5954F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D1E05-EAF3-4703-8845-11A6F29B2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984B4-AD7B-4EBC-B4F3-84ECEBAB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1D19C-E822-46AF-A528-647888C1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C76CB-0F07-4475-A269-09370A04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9219A-C4B6-4545-862A-1AE67DEE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94950-5425-4024-A189-4023AA9A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0E4ED-55E5-4B71-9CEF-8E392149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8C0E5E-842B-4DF0-9057-08DE68D8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1DD3B-58D4-4A02-8871-AF3ED2BB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AF1314-DA06-45DA-BA86-E87E8E51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F5E-EA90-4C38-99AF-7178E6CC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550931-907E-4A79-A9F0-CE55CD648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B7D-3134-4395-BF2D-0F367C96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7B45-5475-4395-AC15-0F464F9E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EF90-F9D4-46B7-A118-70FF6ED7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1D95-BC9D-4983-8B1E-9C3A67A3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066F-5978-43B3-9E57-3525755E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EC39-9B7B-4129-9F2F-4FFDC87D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30D1B-CB6F-4D69-AE3F-BE610A1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6D4F-7182-4C39-B9F4-3D375C03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CEF3-1EC6-4E48-98F2-1886B5DE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A4DD-79C7-44A4-AED4-28242E34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84C1-1618-455C-B5F6-D5288C9A7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A193-98EA-40AB-B2DD-A3626F626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FAEC-C6E1-488E-941F-248EFA3E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44A07-2493-47F7-AF51-AC0EB1DD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867A-6313-4F2A-9952-B268CCF9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1E1F-F9A0-41BF-84B5-C6461F36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E7FA3-2516-4B9E-AEA9-82660241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02DD2-EAC3-4CFD-9C29-B0D265BA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C7EE-C523-4891-84C7-24A155FC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28F6-2381-43A4-ACA9-88AAB65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C0C2-A546-4936-9196-5651ED38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8B8BA-B84B-4603-9BD3-8DAE10D2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392E5-81A9-487F-B7A4-BC6B4EDEC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6D4D8-E39F-433E-871D-760E915D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B59AC-1F0E-4B60-8EA5-6F8615326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7CFA-301D-41E2-8820-83FC784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D5FF-C378-4E5D-BD2F-A1E79338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9421-6A1F-46C9-9AC1-30BD2295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5B28-0BB6-43DC-94D8-701D8D95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EABB-5AC3-471D-B03F-313E5D82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453AA-2BBE-4AF8-B234-48A0D7AC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49BCE-4519-4069-8B90-4622C3AFB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B08C8-2DE0-4671-8889-428BC60D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2639C-3D10-4FF5-8DD5-5314F8E7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BA18E-5F3F-458B-94D0-78F9E4EB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9C74A-A054-4AE3-9649-8D23119A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37AD6-CC02-41F3-83DA-C15280EE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E1A7A-B842-4487-AB67-E43249EA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90610-F325-42A1-BBC6-2AB516AC1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31174-083B-475A-95D8-D7056ECE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4C2D-E03E-4110-B985-195A2849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21FBC-6D1A-4020-9B0E-5943A750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B6FF3-1C90-4B5A-A4F2-10136EC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0D7F2-9219-48F8-841A-68E886FD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96888-F4F4-4F68-B86F-FA570779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E1685-6598-4CBF-8B32-88662EC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F85A0-BCF5-46A3-A07F-A8A0548C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0296-81E2-471A-8737-1DA18BA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CE5CB-16FD-4CA9-97DC-8114CEAE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96495-B9C4-4FEF-A7F1-52A9271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8C7B-F3FF-4512-AAFA-E950745DE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B94-7E3B-4226-BA55-815AE24A7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A48C6-BA3F-4AF2-B489-72BCD125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8D084-8488-416D-88B4-F76FA367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6B77E-53EF-4D10-B505-732741A5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5BA9D-DF23-4D9C-BB84-C769A8A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16F53-3CF2-4CD3-BC1A-F9304331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CF6F-4356-4489-AEC4-B85B14E0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07DFC-0CAF-47D2-AD80-7F69A8E5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D9AD0-D6D4-4E9A-A927-6DDCC911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1F08F-9401-4F29-A376-77F24CBE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176AD-B6B0-4ADB-B12C-9610B951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00A5-5FBA-4D14-93C3-1C40C933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817D4-9400-4748-A39E-B3D98E4E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DC8EF-2C7A-48BC-9534-AEAD5BAC5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379C1-4BF7-45D4-97B4-B228FC45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4F5F7-E6B6-4DBE-A515-3E3A66FEF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902B8-E63C-4A0C-834A-4157C074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67AF7-91A0-4B0F-8CB6-547DAE57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1CE3D-6282-4AC7-97DE-AA7BE323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74B9D-0F6E-4D64-8046-0AF63223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E4608-CD34-4F57-A089-1B8E396F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B5816-EB5A-4F76-B126-4104CA3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2163-5BA2-4000-86DA-4362E90B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DA961-CA6B-48F4-92E4-51368537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48770-AC95-4F6D-A2D9-D0B567C9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AF08-D751-4ACC-9769-19706EB2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54099-8E6A-46D7-A121-AC632760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AB06E-ABC6-4B41-BE14-A17CA1FC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1EC18-097B-4281-9F50-229C57F3B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3A24C-7C1A-4BD4-A2AC-B919DB47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DDD0A3-0126-4671-B1E1-D6035E71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377BA-8838-4D04-A70C-D65AD649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E4E2C-686B-4A3D-AF4B-58AD420B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AF0-49CD-4855-82DC-942D60E0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7F4A-56B7-4788-AC48-083F6C8EA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94A4A-F057-4F51-A455-5EE208B8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973AB-9302-4BC4-8426-516188CC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ACA61-3091-42B0-A856-09B3D711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F8CC56-1BCA-4EE1-AF84-D31E4AFB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E1D46-0A95-4547-A59D-E88CD2FED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DFA8D-0D47-4FE9-B065-3D67554A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7E9A1-5728-4DC1-868E-17DFB197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15638-C5B0-4ABA-B04D-A94FABC2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477F7-8AF2-4331-BD88-BA0191FE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EDCC83-4096-4D52-BDB7-6BFD9E57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6DE-D680-437A-BD7E-6EB2535B2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CEDB-544B-4608-A298-D295FA2AD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009F-999F-46A2-9ADA-6DFE56EEF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DA1A-E27E-4E9C-8DEA-5674D72AF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8F03-064E-47F9-8541-D0EA15FAF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540C-FC03-404E-BBC5-FADB8225D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5CB5-9EC7-458C-9760-D41359F51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E5A9-3619-491E-9339-0DD2A8E7D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3849-7AB7-424B-8C2B-E342FCBDE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sury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-07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-07-10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5FBE-DC41-4ABB-AF6E-84E6FE41E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3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36BF-0642-4FE6-A7DA-6BF4F90FC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Table 1" descr=""/>
          <p:cNvPicPr/>
          <p:nvPr/>
        </p:nvPicPr>
        <p:blipFill>
          <a:blip r:embed="rId1"/>
          <a:stretch/>
        </p:blipFill>
        <p:spPr>
          <a:xfrm>
            <a:off x="2176560" y="2646360"/>
            <a:ext cx="4797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Net Worth Change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289B-D551-4158-AFA2-CE24944D7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2111400" y="2222640"/>
          <a:ext cx="4921200" cy="2412720"/>
        </p:xfrm>
        <a:graphic>
          <a:graphicData uri="http://schemas.openxmlformats.org/drawingml/2006/table">
            <a:tbl>
              <a:tblPr/>
              <a:tblGrid>
                <a:gridCol w="2940120"/>
                <a:gridCol w="19810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,706.3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8,887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568.0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90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52.1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804.5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Reserve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5178-E69F-4306-8281-D48D10441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028880" y="2724120"/>
          <a:ext cx="7086600" cy="1409760"/>
        </p:xfrm>
        <a:graphic>
          <a:graphicData uri="http://schemas.openxmlformats.org/drawingml/2006/table">
            <a:tbl>
              <a:tblPr/>
              <a:tblGrid>
                <a:gridCol w="2290680"/>
                <a:gridCol w="1503360"/>
                <a:gridCol w="161604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804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735,635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804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735,635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4 T1 Session Results Prelim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liminary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C40D1-9932-4F17-9CFC-4EEE9BD2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Table 2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89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d Reserves: Advanced 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4B0E-2131-4E1E-8333-7AA91DA4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371600" y="2160720"/>
          <a:ext cx="6400800" cy="3404880"/>
        </p:xfrm>
        <a:graphic>
          <a:graphicData uri="http://schemas.openxmlformats.org/drawingml/2006/table">
            <a:tbl>
              <a:tblPr/>
              <a:tblGrid>
                <a:gridCol w="4952880"/>
                <a:gridCol w="14479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Reserves: advanc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Site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08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Registration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Face to Face services (2022-03-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3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25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7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25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7 Site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,859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11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itted Reserves: advanc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,5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d Reserves: Depos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E263-32AC-4477-B2AB-17F7A1BB8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23880" y="2293920"/>
          <a:ext cx="6096240" cy="2270160"/>
        </p:xfrm>
        <a:graphic>
          <a:graphicData uri="http://schemas.openxmlformats.org/drawingml/2006/table">
            <a:tbl>
              <a:tblPr/>
              <a:tblGrid>
                <a:gridCol w="4572000"/>
                <a:gridCol w="152424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Reserves: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3 Atlanta hotel deposit (2020-03-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7,5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436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itted Reserves: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0,936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inancial Fore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920C-E43C-49AC-8769-FCB28CD2F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Results 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86CDD-D3ED-4E4B-A7B6-0D7A9E8B6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3E9F-48C0-4F92-90D1-144CE6F8B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 Net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9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EF76-CB76-4D0C-B6DC-E82ADFA40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1935000" y="2138400"/>
          <a:ext cx="5274000" cy="3448080"/>
        </p:xfrm>
        <a:graphic>
          <a:graphicData uri="http://schemas.openxmlformats.org/drawingml/2006/table">
            <a:tbl>
              <a:tblPr/>
              <a:tblGrid>
                <a:gridCol w="3581640"/>
                <a:gridCol w="16923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,748.5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9,166.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,810.4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755.0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7,210.2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,222.7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61,037.2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iannual: IEEE 802 LMSC financial year naturally splits into three four-month periods aligned with the sessions: January-April, May – August, September – December.  For budgeting purposes, these are referred to as triannuals, with shorthand of T1, T2, and T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ecast: first budget developed far in advance by the Executive Secretary and the Meeting Administrator, usually from the signed contract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: budget updated during the session, usually on a daily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: the final budget once all the numbers have been finaliz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E0E7-4C4A-44F8-B494-AD9E1C856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047760"/>
                <a:gridCol w="1835280"/>
                <a:gridCol w="1670040"/>
                <a:gridCol w="15238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8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8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70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4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70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6,418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6,79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0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B8AD-AD41-4819-9F2B-F3E4F511B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1EEC-266D-448F-9C0A-7EC27614E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2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0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68EE-C13D-490B-AD66-DF3530E4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1409760" y="2138400"/>
          <a:ext cx="6324480" cy="3448080"/>
        </p:xfrm>
        <a:graphic>
          <a:graphicData uri="http://schemas.openxmlformats.org/drawingml/2006/table">
            <a:tbl>
              <a:tblPr/>
              <a:tblGrid>
                <a:gridCol w="3962520"/>
                <a:gridCol w="2361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0,777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,420.4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,125.5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692.0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8,731.0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771.7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3,501.3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2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8BBD-44F4-4518-AAD6-DD72E28AE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609480" y="2727360"/>
          <a:ext cx="7925040" cy="227160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44792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4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2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,79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6,27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6,79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730.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9,064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982F-30E5-4F81-9AAE-FB876D72D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3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2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3814-0779-410C-99A8-76F77A274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1866960" y="2023920"/>
          <a:ext cx="5410080" cy="3448080"/>
        </p:xfrm>
        <a:graphic>
          <a:graphicData uri="http://schemas.openxmlformats.org/drawingml/2006/table">
            <a:tbl>
              <a:tblPr/>
              <a:tblGrid>
                <a:gridCol w="3579840"/>
                <a:gridCol w="183024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2,180.3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8,865.5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,444.5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32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0,609.4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137.7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6,9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,689.9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3,083.4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3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878A9-EC8C-4186-8842-163F437D7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047760"/>
                <a:gridCol w="1524240"/>
                <a:gridCol w="1600200"/>
                <a:gridCol w="1904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9,102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1,69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525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0,318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2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525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2,318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6,27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,689.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0,58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9,064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3,835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32,90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CAF7-7D49-4761-83B5-1147CA3CD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4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3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B99B-20CA-4EF6-A81B-E71B0F8F1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676520" y="2023920"/>
          <a:ext cx="5790960" cy="3448080"/>
        </p:xfrm>
        <a:graphic>
          <a:graphicData uri="http://schemas.openxmlformats.org/drawingml/2006/table">
            <a:tbl>
              <a:tblPr/>
              <a:tblGrid>
                <a:gridCol w="3951000"/>
                <a:gridCol w="1839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03,975.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521.3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7,220.4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4.9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775.4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4,562.7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5,3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,145.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85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05,238.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4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A05F-C5EC-4114-84A8-3F8968534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571680" y="2727360"/>
          <a:ext cx="8001000" cy="2271600"/>
        </p:xfrm>
        <a:graphic>
          <a:graphicData uri="http://schemas.openxmlformats.org/drawingml/2006/table">
            <a:tbl>
              <a:tblPr/>
              <a:tblGrid>
                <a:gridCol w="3124080"/>
                <a:gridCol w="1600200"/>
                <a:gridCol w="160020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1,691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9,066.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,757.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93,238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4,610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0,318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34,172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6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2,318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34,172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0,581.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70,581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32,900.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04,753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3-07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A1A2-5C59-4378-8A09-19AFCFA97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27200" y="2719440"/>
          <a:ext cx="4089600" cy="1419120"/>
        </p:xfrm>
        <a:graphic>
          <a:graphicData uri="http://schemas.openxmlformats.org/drawingml/2006/table">
            <a:tbl>
              <a:tblPr/>
              <a:tblGrid>
                <a:gridCol w="2667240"/>
                <a:gridCol w="14223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8,8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71,47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0C21-05C2-4318-9F14-DC4C5B66E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5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0666-1F47-4CDB-819B-CF9683369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828800" y="2023920"/>
          <a:ext cx="5486400" cy="3448080"/>
        </p:xfrm>
        <a:graphic>
          <a:graphicData uri="http://schemas.openxmlformats.org/drawingml/2006/table">
            <a:tbl>
              <a:tblPr/>
              <a:tblGrid>
                <a:gridCol w="3611520"/>
                <a:gridCol w="18748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5,343.8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481.1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97,180.8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,185.7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8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605.7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74.7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1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5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609480" y="2359080"/>
          <a:ext cx="7848720" cy="2270160"/>
        </p:xfrm>
        <a:graphic>
          <a:graphicData uri="http://schemas.openxmlformats.org/drawingml/2006/table">
            <a:tbl>
              <a:tblPr/>
              <a:tblGrid>
                <a:gridCol w="3200400"/>
                <a:gridCol w="1606680"/>
                <a:gridCol w="144144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,75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926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0,684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4,61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4,144.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9,53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6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0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52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24FE-193F-4E81-BAB8-421277276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5586-5C4A-499B-BBE2-30B32E9A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6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0679-54F1-422D-9A2A-EE84A5AD7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828800" y="2023920"/>
          <a:ext cx="5486400" cy="3448080"/>
        </p:xfrm>
        <a:graphic>
          <a:graphicData uri="http://schemas.openxmlformats.org/drawingml/2006/table">
            <a:tbl>
              <a:tblPr/>
              <a:tblGrid>
                <a:gridCol w="3700440"/>
                <a:gridCol w="1785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,423.7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130.9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,417.4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,207.5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57.3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851.5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4,7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6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838080" y="2362320"/>
          <a:ext cx="7543800" cy="2270160"/>
        </p:xfrm>
        <a:graphic>
          <a:graphicData uri="http://schemas.openxmlformats.org/drawingml/2006/table">
            <a:tbl>
              <a:tblPr/>
              <a:tblGrid>
                <a:gridCol w="3048120"/>
                <a:gridCol w="1523880"/>
                <a:gridCol w="1447920"/>
                <a:gridCol w="15238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0,684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2,239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02,92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9,53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0,83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0,36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0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3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6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6B4F-A857-4AC6-980F-B09773F31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8BFE-BC31-4A75-8F80-7B23511FA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7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57D2-C425-4734-BB9F-4FFE7E37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714680" y="2197080"/>
          <a:ext cx="5715000" cy="3103560"/>
        </p:xfrm>
        <a:graphic>
          <a:graphicData uri="http://schemas.openxmlformats.org/drawingml/2006/table">
            <a:tbl>
              <a:tblPr/>
              <a:tblGrid>
                <a:gridCol w="3751200"/>
                <a:gridCol w="19638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0,595.2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79,629.4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4,319.7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735.7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301.3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799.8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2,35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EB84-1C3C-4C80-89E6-6E6D120E7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685800" y="2727360"/>
          <a:ext cx="7772400" cy="227160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44756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02,92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4,480.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8,442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0,36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10,079.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285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3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38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7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D1E-455C-47B6-9FD5-FA9027028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2 Session Results Prelim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liminary as of 2023-03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issing Tax Ref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0C78-8D65-4051-A01D-3646C46E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413080" y="2719440"/>
          <a:ext cx="4317840" cy="1419120"/>
        </p:xfrm>
        <a:graphic>
          <a:graphicData uri="http://schemas.openxmlformats.org/drawingml/2006/table">
            <a:tbl>
              <a:tblPr/>
              <a:tblGrid>
                <a:gridCol w="2870280"/>
                <a:gridCol w="14475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5,325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84,376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0,948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646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2,595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8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60E9-6B1E-4AB2-BAAA-373689BCD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905120" y="2197080"/>
          <a:ext cx="5333760" cy="3103560"/>
        </p:xfrm>
        <a:graphic>
          <a:graphicData uri="http://schemas.openxmlformats.org/drawingml/2006/table">
            <a:tbl>
              <a:tblPr/>
              <a:tblGrid>
                <a:gridCol w="3581280"/>
                <a:gridCol w="17524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8,042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,288.2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020.2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,149.3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1,523.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9,777.3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0362-14E0-4CF6-8D26-1A48C2066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124080"/>
                <a:gridCol w="1828800"/>
                <a:gridCol w="1447920"/>
                <a:gridCol w="16761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8,438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872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3,310.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285.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,242.8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4,528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38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7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C394-B51D-4711-ABD8-0AEBE8A6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9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9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5018-9591-4E63-8D15-12BC827F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2133720" y="2541600"/>
          <a:ext cx="4876560" cy="2414520"/>
        </p:xfrm>
        <a:graphic>
          <a:graphicData uri="http://schemas.openxmlformats.org/drawingml/2006/table">
            <a:tbl>
              <a:tblPr/>
              <a:tblGrid>
                <a:gridCol w="2819160"/>
                <a:gridCol w="20574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705.3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97,316.4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6,615.4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,830.8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4,425.0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2,815.7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50,636.3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9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C48C-D171-44EC-A488-2E988BE03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952560" y="3011400"/>
          <a:ext cx="7238880" cy="1703520"/>
        </p:xfrm>
        <a:graphic>
          <a:graphicData uri="http://schemas.openxmlformats.org/drawingml/2006/table">
            <a:tbl>
              <a:tblPr/>
              <a:tblGrid>
                <a:gridCol w="2514600"/>
                <a:gridCol w="1600200"/>
                <a:gridCol w="152388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3,310.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8,504.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4,806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4,528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10,132.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395.8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7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48,636.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000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50,636.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5022-BC53-4646-BEAD-CA233ACEA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0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1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46DE-F1ED-44A6-8D6C-20DCD570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90680" y="2541600"/>
          <a:ext cx="4572000" cy="2414520"/>
        </p:xfrm>
        <a:graphic>
          <a:graphicData uri="http://schemas.openxmlformats.org/drawingml/2006/table">
            <a:tbl>
              <a:tblPr/>
              <a:tblGrid>
                <a:gridCol w="2743200"/>
                <a:gridCol w="18288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3,284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6,188.1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5,000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581.2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66,561.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0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16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E482-2A44-42B8-AF10-7669B2044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066680" y="2894040"/>
          <a:ext cx="6858000" cy="1135080"/>
        </p:xfrm>
        <a:graphic>
          <a:graphicData uri="http://schemas.openxmlformats.org/drawingml/2006/table">
            <a:tbl>
              <a:tblPr/>
              <a:tblGrid>
                <a:gridCol w="2416320"/>
                <a:gridCol w="1558800"/>
                <a:gridCol w="1557360"/>
                <a:gridCol w="1325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1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2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30B0-45CB-4BE0-ABDC-B66B961DC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2225520" y="2541600"/>
          <a:ext cx="4692960" cy="2414520"/>
        </p:xfrm>
        <a:graphic>
          <a:graphicData uri="http://schemas.openxmlformats.org/drawingml/2006/table">
            <a:tbl>
              <a:tblPr/>
              <a:tblGrid>
                <a:gridCol w="2787840"/>
                <a:gridCol w="190512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5,000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446.2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,895.0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54.6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,297.8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1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BA38-1530-4F9B-8BF4-6DCFBC1CA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028880" y="3295800"/>
          <a:ext cx="7086600" cy="113508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60020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3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D222-8396-4E84-82FF-DF359310F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Table 1" descr=""/>
          <p:cNvPicPr/>
          <p:nvPr/>
        </p:nvPicPr>
        <p:blipFill>
          <a:blip r:embed="rId1"/>
          <a:stretch/>
        </p:blipFill>
        <p:spPr>
          <a:xfrm>
            <a:off x="2389320" y="2646360"/>
            <a:ext cx="437184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21AD-32AE-4CFE-887D-352135248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Net Worth Change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AB0D-6062-4B95-888A-B2026F003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286000" y="2222640"/>
          <a:ext cx="4572000" cy="2412720"/>
        </p:xfrm>
        <a:graphic>
          <a:graphicData uri="http://schemas.openxmlformats.org/drawingml/2006/table">
            <a:tbl>
              <a:tblPr/>
              <a:tblGrid>
                <a:gridCol w="2971800"/>
                <a:gridCol w="16002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2,595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4,250.1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266.1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557.7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Reserve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7DF3-3924-46ED-BE92-8D4E130B2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1-11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219320" y="2894040"/>
          <a:ext cx="6858000" cy="1135080"/>
        </p:xfrm>
        <a:graphic>
          <a:graphicData uri="http://schemas.openxmlformats.org/drawingml/2006/table">
            <a:tbl>
              <a:tblPr/>
              <a:tblGrid>
                <a:gridCol w="2514600"/>
                <a:gridCol w="1371600"/>
                <a:gridCol w="137160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1285-7160-4AD6-92D8-85005BA2B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able 1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28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2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D3DDA-FAF1-4309-8ADD-CBA12188F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2-11-14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Table 2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28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8:02:38Z</dcterms:created>
  <dc:creator>c.chaplin</dc:creator>
  <dc:description/>
  <dc:language>en-US</dc:language>
  <cp:lastModifiedBy>Clint Chaplin</cp:lastModifiedBy>
  <cp:lastPrinted>2013-11-15T06:10:00Z</cp:lastPrinted>
  <dcterms:modified xsi:type="dcterms:W3CDTF">2024-07-19T13:58:17Z</dcterms:modified>
  <cp:revision>340</cp:revision>
  <dc:subject/>
  <dc:title>Treasurer’s Report</dc:title>
</cp:coreProperties>
</file>