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B6D3-4F01-492E-AE47-8574BB54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F0D7-677F-4E2A-BC7E-9C82AF58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C7B99-41DC-4F22-9E93-BC4518BA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76920-931F-4A42-9AA3-CB4A898E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54A31-2B1E-4589-9222-2337CE99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99BC0-E2A7-4330-93DA-6270D75C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A748-6A74-4720-9DA2-7FECBDC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54406-E9C9-47CF-808C-A6A1FDEA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DB21-64E6-4928-8262-A7B0BC4B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C25EC-23E0-4D48-81AE-21CBE5902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C4924-6908-46C0-B7E3-9B4F5949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02C5FD-364F-4435-835A-FE2FA7B83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CE8-33C3-4C3B-A040-0155C76F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816AF-A0B5-468A-A337-159916B9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D3FB4-013A-4272-92B2-80F7D89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C93FB-A22C-4D45-8FE7-B4FCF182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9A836-8404-4D16-82BC-9162EA4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35964-E839-4F0D-BE3F-35A0B648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FE18-1F19-475F-9AB1-263E637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55CE9-FAAD-4065-80E3-AD5C7FA0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0BBB1E-9A06-4BFF-A503-0C640FBF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24F4FB-F2DA-4901-B212-0295477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0760F-C81F-439C-BC1F-15C5D18A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3BAC-ACDB-4DB2-8A25-3180DF22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6F4D3-B7DE-45C0-A65B-03FCC0C6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3A7152-0DCA-4978-B10A-17CCB1E0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695318-7121-4176-8C4D-B513F7F0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ABB62-47B9-4D69-A17E-0C25DAC6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AF5AC-A386-4F2E-8E4D-C9FFD065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F925C-F34B-4762-9095-773EFC27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724F61-9FA5-44FB-BE26-CAFEC9E8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EF01F-7D05-4D83-9994-9DAC7AA1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E8216-5908-44E2-8912-BB4798A9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C025A8-3EC4-4283-B078-112C8D8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E4F2-10F6-45D2-8085-33AD10DA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A5A2B-8A24-4B05-8061-09AE6F3D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9FCB6-70B2-4C7B-90D2-EA546AA34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384B8-72B6-4F41-9EC1-0D087963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1DF31-FD15-4DCF-B472-F37E7E17F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7FACC-E267-44F4-985A-1579256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31BC2-B7C0-437E-B325-58EBE9EE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E76AE-BBCA-4F32-B100-25337BA9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79D8C-7D14-4D8B-BCBA-B96F95E4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43E46-8729-4103-872F-0DD8BE04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A6DB2-4D45-4028-8982-059B20CE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AF11-FBF9-478F-A9D9-10230426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FBEB3-6E4F-401E-B042-24A2D1CA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5EB89-7B44-4450-A427-666CB48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EF504-9C49-469D-837E-22164178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1D424-84D0-47F8-BE5A-8EAE82A75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BC363F-2587-4E90-B4F5-3A9CA882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78DE-6403-4768-BB5D-0DC9A82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FF8A-91A7-4B66-8084-31A341E0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2061-D2E3-4CEB-B409-F6C46A0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490E9-10AE-48BA-B68F-EE07FE33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6CE-1DB4-43BF-A24B-0BBC20AF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CB70-DF15-47EE-B263-DEB1ABAD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4D0C5-B8AE-4A8F-BA4D-310CB32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811B-546B-4DA1-B6E2-C351B263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2F504-506B-4567-9372-EAABA3BA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844E-BA5C-43B3-92F9-B1663CE0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AEE7-11F0-4E5C-88D7-6640692F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1C8D-8C30-443F-9123-100A5BD8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074E-DA9E-474D-9C6A-026234E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51A5-E459-43E0-BA45-F7650376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070C-B840-436D-8315-DE5BC616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382B7-6794-439B-BECD-8E06DA1A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F924-4748-427E-922F-1C185FF5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81A8-AD5D-4E25-9DB1-FE909B8A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ECAC8-4262-4D22-BA54-4489C841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4AC31-B741-4D34-AC93-0EBFF9E5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5B75-53D5-46EE-A839-460182C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DEE96-AB65-41F1-9217-081C7A2F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A49A4-4272-4417-BB41-D05D0CEE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A560B-2B39-4301-8923-E7FC13DC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E9F8B-6EC8-4271-AB45-1FC2BF3E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2414-6CC3-4959-877E-46EC19D2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247B-6DB8-458A-B97E-6CB5229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E6F-F702-46A0-A6A2-379B538F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52581-B157-421C-A610-965CC09B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BDC03-BA07-4C59-87D1-1109A6A8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D3517-F4ED-4B03-A5B3-5D476772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36EF8-A6B5-44FF-8937-7E11F2B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5A9F-FAF2-41AA-974A-3AD099F0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E0D5E-9987-4924-AF31-A7F9FA6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3175-3139-4535-B5DF-4B76D37F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1A0BA-BF93-4CDB-B243-2C69E36E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427F6-7623-4216-99F4-F46E065A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6CD14-1F70-497F-A4F2-3190529CF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DDE7-A288-43F1-B4CA-BA4BC336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4E133-1177-4FDB-8595-D3B3DD1E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8FC0-DF5E-44E8-A636-E9AC01B9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6738B-F676-4635-8E68-47BBCEA58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E4629-A16D-44A2-BEA9-48946059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22D41-D262-45FE-8539-E865FB49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E9AC5-F97C-482E-806A-4B72E67E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FF9F5-B29F-46A4-A87D-2D6E1461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8D1AC-49F1-4A2C-B842-C3A3BB6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C9767-570E-45F6-90AD-C49F91FF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D29FD-2850-458E-BF47-C1E1F91E1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AC38-27CB-4027-8A22-7F4B9070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0BEA-9077-48C7-A68A-1D336BC4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5BAE6-F354-4385-9F36-15F9475A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2990E-0B11-4E46-BD10-2B4A961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831BD-E636-4F0C-94BE-AFF52CD8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3D226-4139-4CBD-BD8E-1B8537BE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51744-E85E-4581-9399-2A093C78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AA643-D15F-48D9-B07E-599D9909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AED32-204B-4F44-B236-46047CA7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95067-358E-48B3-A0B3-C595AEA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02227-6990-4CF4-AE85-3267CA418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7A8-7C1F-453D-A8C1-B38E5495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6F70D-BEAB-47A3-A9D4-5C91339A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862BF1-DBD0-4DDF-8619-CD255056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23832-E927-4AB3-98F5-7F730581B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9F99A-C550-46ED-AF64-15992EC2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A2541-DD89-41A4-A90A-9AFE9FD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E306D-B23B-461C-9E1B-702A572E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518D-CB0E-41D4-8F10-78A6003B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52E70-993B-48FE-9E6C-AF4C3B39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22A1-BD94-41B8-9158-25B1383B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6D308-819F-472B-B3AD-6EAA3BFB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FB96-1542-4D4B-BE7F-B0003D8D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62E3A-FFD4-4E96-9A0C-4B71BBA7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8BCC-AD90-4604-8DF8-E6B1E3B8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5C6E4-6308-4D37-A9C9-AB293A92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544BA-EBF3-431F-8D3C-7174954B0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08DB8-DFC4-4D87-9EB6-2004FE62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1C43D-8F07-4F17-96BF-06C8BD90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4169C-97B5-431B-BC18-B1E65EA8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3F1C9-C757-41FB-86AD-0F79A8AB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1D2ED-0B46-4C0E-9550-BB83C19F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A4135B-B866-4E67-ADDA-0DC8D135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778F-BB4B-4FF5-98A3-8249F82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178B6-1831-4624-9571-0A586992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91533-BBEC-4AAD-B523-F86CD3C5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12AC8-AB29-4557-B2DA-92643A64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AD6A-44DB-4A53-95AB-002482BE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00BD-3E4F-4C67-9A02-4E0ADB2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5935D-63E6-435D-BD88-4821E944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3FDD-7135-4A0D-9F63-014A2F26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0CC732-8379-4634-9285-F3D357AE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4CAE8-1C3B-476C-BE89-A38F7D3A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B94F1-642A-47CA-B0EA-36041E79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20-13-16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3D90140-AB5E-4F48-B108-4BB4BAE26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BF05-8BC2-4E8C-A420-E020E6F9F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C7D6-FF09-416B-8631-65A07F658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A38D-EFA2-4921-BA0A-B94830D66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9F3ACAA-967E-4A43-A3C9-2D8576299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253C924-714A-49BD-959D-FB325443C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CD6F-3D91-4FA5-A569-004C3C0E5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1528-34F1-4C50-B1C5-6DE8ABDE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D008-5BD7-4857-BDAE-5B49417E0D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C7F-7874-480B-8FB2-605264BCF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8389-DFF1-4A3F-B63C-5F10557B6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8CBE-CC04-40F3-9999-6D3BC0BC9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sur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-07-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E12-C4BC-4734-9214-70EE4421D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EEE SA Finan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 of about a year ago, all IEEE standards group budgets and financials are incorporated into the IEEE SA budget and finan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7ACC-BB80-4825-ACDB-AA6ECB0BB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Manuals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Meeting Fees shall be used only for IEEE meeting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Future revision to the manual will incorporate a new separate document documenting what can and cannot be paid using meeting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EEE is worried about retaining their 501c(3) non-profi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Expenses not part of a meeting cannot be paid using meeting f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ifts, distribution of yearly standards, celebrations, workshops, joint sessions, attendee family social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4D67-2081-457D-B574-B08034E9B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s in Manuals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ll applicable taxes shall be collected when collecting Meeting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ales taxes, VAT, G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vent allegedly can do this for 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G interims will have to ensure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7F1DE-2433-4261-8B10-B4A9E98D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5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02:38Z</dcterms:created>
  <dc:creator>c.chaplin</dc:creator>
  <dc:description/>
  <dc:language>en-US</dc:language>
  <cp:lastModifiedBy>Clint Chaplin</cp:lastModifiedBy>
  <cp:lastPrinted>2013-11-15T06:10:00Z</cp:lastPrinted>
  <dcterms:modified xsi:type="dcterms:W3CDTF">2024-07-15T11:36:20Z</dcterms:modified>
  <cp:revision>337</cp:revision>
  <dc:subject/>
  <dc:title>Treasurer’s Report</dc:title>
</cp:coreProperties>
</file>