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803160" y="4893840"/>
            <a:ext cx="64152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hdr"/>
          </p:nvPr>
        </p:nvSpPr>
        <p:spPr>
          <a:xfrm>
            <a:off x="-360" y="-360"/>
            <a:ext cx="3481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6"/>
          </p:nvPr>
        </p:nvSpPr>
        <p:spPr>
          <a:xfrm>
            <a:off x="4540320" y="-360"/>
            <a:ext cx="34797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7"/>
          </p:nvPr>
        </p:nvSpPr>
        <p:spPr>
          <a:xfrm>
            <a:off x="-360" y="9789840"/>
            <a:ext cx="3481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8"/>
          </p:nvPr>
        </p:nvSpPr>
        <p:spPr>
          <a:xfrm>
            <a:off x="4540320" y="9789840"/>
            <a:ext cx="34797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6E72-966C-4D69-8A8A-1D3EC674733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Img"/>
          </p:nvPr>
        </p:nvSpPr>
        <p:spPr>
          <a:xfrm>
            <a:off x="1196280" y="712080"/>
            <a:ext cx="4684680" cy="35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9873-17D0-4C82-AE20-3FC82F67AB1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4724-5896-4366-AA17-D56CB1DBD5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A283-48DA-47BA-BDB6-BAF56698A3D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1BFE-7FE9-46BB-9284-9AC750F464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40EA-450D-48CC-9A76-624E6BDDA6B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FE7D-4BDA-4333-91A4-913F8C9DE2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4961-3929-4532-978C-F4999D2343A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2CC1-C979-41FE-A486-41741545E5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364-62F9-4759-893A-088A1638353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C8FEB-11BB-483C-AB5C-846F1FF8ED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C9C7-5D7F-473A-A5F1-A681DD56676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FFA8-0027-461E-A105-712BD0DDA1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1BC92-10B9-4F88-862E-59378A479DF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D6A8-A681-4241-9095-19F94B5ABC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085B-1234-456A-8C8D-F98F1EECD24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1CC2-2B61-4FC1-AFC0-591120DB2E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C2A0-19A9-4E4D-A8D3-5B2D580CF11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4322-6791-4FFF-A080-B3926EA4C9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9152-E607-4180-BF91-86CD15FE870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3B86-9356-4EEB-AE0D-2A96078C4D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EF60-9F14-4844-9688-0D02A175604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3294-D71F-4101-B2F7-AC10340B86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8A42-C899-4F5D-BCB6-F49BB024DB7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7B02-ADBE-4A77-BF42-9CB4E3F910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D777-6433-428C-885F-D176AC9F52D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8D0C-8419-4B5D-8F2A-43DD6D1F75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D0B3-FA23-4E1D-8F80-3F2CEA09408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D684-D888-4AFE-BEFE-A49B26D9B33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D647C-5ED1-4EA7-90A3-032DFF2A083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A2DC-B794-44F4-97B7-9C63480EBB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0C92-2348-4ADF-AD92-0F3F347C9EC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1E03-4994-4618-8397-1376D3CF31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9B00-ADD1-4E05-B84D-7D1B6B7354A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A8E8-B2FF-4275-AEA5-0285DB9167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should show the linked slides as part of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F9CA-5B5B-4CE9-9556-9D5CF6A3888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4B1F-F46D-406A-A9E6-2FE717CB70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FC1-90E2-4D64-AFDF-6EAF4407AC1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50A3-D45B-43CE-9690-AB98F6C869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5F0C-2EEB-48F4-AC88-CB92DDAC3A6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6849-D218-4730-B5D9-28827459E4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128C-F17D-48FE-811D-B1A92D1EF14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57D5-F0C6-4A65-BB36-3CB833A46C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4E26-80DF-45F2-A5E7-889B0AF42B8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BB0F-D60D-4551-B242-35AAE0025D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D401-7BF5-4117-9B17-BB56D49AD80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27A4-EC8F-4E6E-B81D-6471A5F274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8672-EAFC-47A3-B464-A1A18F8DCF3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7B88-A3F2-4003-9C73-7482C7D2EB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F886-2DD4-4EBC-AF3D-E4A64E175A5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8FEC-82E7-4BC3-939B-D4C76BDEC6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6E64-481B-409F-AC50-34F043356AB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FD01-E5D8-411E-AA71-7D3BA171C5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72BC-D2CA-4833-9847-2662B4A37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DC6C5-1B4E-4978-960C-B3006050B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9563-333C-4BDA-991B-E71F064BF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09A9-62D8-4D14-856B-E67738159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0789D-7312-47DA-8C78-3C30EBA4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BA44E-7784-4F06-95A7-DA721D7D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A5DF3-8089-4A23-BEDD-8CA9C0CE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EBBB8-5D00-4F9C-A0D9-DB19570A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5DDE4-3BD0-499F-A5FE-F9B684EFF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2880"/>
            <a:ext cx="7315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E3467-C70E-40FB-A60B-628B03F6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AF77A-8E42-4BFC-B994-BAE80ED3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7B4C-29A6-41E9-8F41-BD910D7A1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9C732C-1D71-451C-9BF9-A8DB27FD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8D3B8-FC69-4893-9703-C1F3112E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B0275-878F-47D9-ADFB-CDE701C0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5208B-D023-4597-BDE1-181E5F96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084A5F-EA0B-43C5-9C82-43DEEC48E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C4DEFB-04AB-48D6-BA86-0C03772CA8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499F3-BE25-4723-91A3-924BC09DBA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12C676-AB02-443B-BEB9-44369EDBD2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39AC18-BEBC-42D6-BA60-13C2708595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C1F39-106C-4566-A8AB-B77DDF720A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A2C1-9F08-486A-BD12-9ABCF9AB83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272880"/>
            <a:ext cx="7315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531D0-4DB8-4414-BF60-407546799B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A0ED6-154E-4944-9033-19B07D871D7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9B71D-AB9A-4D2F-847C-CF80F629891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A3933-4D30-4288-9843-7AC9B67975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FFEA6-5585-40F7-B5DB-4A54EAF8EB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5AFA4-1926-4CEC-9E87-3B08A4EB646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306766-D4F8-48AE-86A4-AB38F9A0C9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056D-F40F-4553-9153-BBFD3A02A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B2CD-B24C-4140-A629-A268CF1D6D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2880"/>
            <a:ext cx="7315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913E-999C-40EE-A41E-FB903DA7D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E1684-DCFA-4817-A693-81CE23A16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6EC1-4AAB-465B-8906-6ECC4D46B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C8FC-C185-4A5B-896E-5201F301A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CustomShap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CBF9-734F-402F-A039-F92F8566AE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C:\Users\pthaler\802\802exec\IEEE-802-Logo\IEEE 802 Logo RGB-03.png"/>
          <p:cNvPicPr/>
          <p:nvPr/>
        </p:nvPicPr>
        <p:blipFill>
          <a:blip r:embed="rId2"/>
          <a:stretch/>
        </p:blipFill>
        <p:spPr>
          <a:xfrm>
            <a:off x="363600" y="380880"/>
            <a:ext cx="1008000" cy="1009800"/>
          </a:xfrm>
          <a:prstGeom prst="rect">
            <a:avLst/>
          </a:prstGeom>
          <a:ln w="0">
            <a:noFill/>
          </a:ln>
        </p:spPr>
      </p:pic>
      <p:sp>
        <p:nvSpPr>
          <p:cNvPr id="6" name="TextBox 2"/>
          <p:cNvSpPr/>
          <p:nvPr/>
        </p:nvSpPr>
        <p:spPr>
          <a:xfrm>
            <a:off x="2743200" y="64008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-17-0106-02-00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EC-17-0106-02-00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94E6-0E13-4E5A-9823-B8B1DF6EE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ustomShap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stomShap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8" descr="C:\Users\pthaler\802\802exec\IEEE-802-Logo\IEEE 802 Logo RGB-03.png"/>
          <p:cNvPicPr/>
          <p:nvPr/>
        </p:nvPicPr>
        <p:blipFill>
          <a:blip r:embed="rId2"/>
          <a:stretch/>
        </p:blipFill>
        <p:spPr>
          <a:xfrm>
            <a:off x="363600" y="380880"/>
            <a:ext cx="1008000" cy="1009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2743200" y="6400800"/>
            <a:ext cx="36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-17-0106-02-00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5"/>
          </p:nvPr>
        </p:nvSpPr>
        <p:spPr>
          <a:xfrm>
            <a:off x="8153280" y="6400800"/>
            <a:ext cx="53208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5A414-F593-4F76-8C0D-8094143BFDF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tandards.ieee.org/guides/bylaws/sect5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standards.ieee.org/about/sasb/patcom/materials.html" TargetMode="External"/><Relationship Id="rId2" Type="http://schemas.openxmlformats.org/officeDocument/2006/relationships/hyperlink" Target="https://mentor.ieee.org/802-ec/dcn/17/ec-17-0093-05-0PNP-ieee-802-participation-slide-ppt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ustomShape 1"/>
          <p:cNvSpPr/>
          <p:nvPr/>
        </p:nvSpPr>
        <p:spPr>
          <a:xfrm>
            <a:off x="685800" y="990720"/>
            <a:ext cx="77724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  <a:ea typeface="DejaVu Sans"/>
              </a:rPr>
              <a:t>Welcome to IEEE 802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DejaVu Sans"/>
              </a:rPr>
              <a:t>  Newcomer Ori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ustomShape 2"/>
          <p:cNvSpPr/>
          <p:nvPr/>
        </p:nvSpPr>
        <p:spPr>
          <a:xfrm>
            <a:off x="1371600" y="3048120"/>
            <a:ext cx="64008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www.ieee802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CustomShape 3"/>
          <p:cNvSpPr/>
          <p:nvPr/>
        </p:nvSpPr>
        <p:spPr>
          <a:xfrm>
            <a:off x="1371600" y="380988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DejaVu Sans"/>
              </a:rPr>
              <a:t>IEEE 802 Plenary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DejaVu Sans"/>
              </a:rPr>
              <a:t>Last updated, 3 July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4F4D-37AD-4FA9-8F0B-31A6177CB3B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12952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General structure of the we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94"/>
          <p:cNvSpPr/>
          <p:nvPr/>
        </p:nvSpPr>
        <p:spPr>
          <a:xfrm>
            <a:off x="394920" y="6046920"/>
            <a:ext cx="84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heck WG agendas for details – there is some variation between grou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69720" y="1295280"/>
          <a:ext cx="8064720" cy="4703760"/>
        </p:xfrm>
        <a:graphic>
          <a:graphicData uri="http://schemas.openxmlformats.org/drawingml/2006/table">
            <a:tbl>
              <a:tblPr/>
              <a:tblGrid>
                <a:gridCol w="520920"/>
                <a:gridCol w="1332000"/>
                <a:gridCol w="1892160"/>
                <a:gridCol w="914400"/>
                <a:gridCol w="1066680"/>
                <a:gridCol w="1143000"/>
                <a:gridCol w="119556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task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/grou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2 newcomer ori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G opening plenaries (mo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k force/grou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-week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k force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ining WG open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k force/grou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clos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/TG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ing 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o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/TG mt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clos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Slide Number Placeholder 2"/>
          <p:cNvSpPr/>
          <p:nvPr/>
        </p:nvSpPr>
        <p:spPr>
          <a:xfrm>
            <a:off x="8153280" y="6400800"/>
            <a:ext cx="5320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B009-3BDB-4B44-9FD9-06A3BD14D45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CustomShap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standards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16BE-88E0-42A4-AD78-ED14864CD1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Principles of 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Due proces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ocedures are publicly available and followed consist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nsens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equiring agreement of a majority or supermajority – for technical decisions here ≥7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Opennes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nsuring materially interested and affected parties can particip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Balanc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epresentation from all interested parties without overwhelming influence from any one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ight of appe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ocess to ensure du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080D-EF62-4F8E-9589-94F637BBD59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Mor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FI – Call for interest – a brief meeting to outline a topic and determine if there is interest in investigating possibl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tudy Group – a group formed to investigate a project and produce a P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riteria for Standards Development (CSD) – In IEEE 802 the basis for determining whether to forward a P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Five Criteria – a subset of the CS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39C7-5BF4-4739-A459-2EB955AD85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1447920" y="190440"/>
            <a:ext cx="7238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standards development life cycle – par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990720" y="1676520"/>
            <a:ext cx="2133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ll for Inte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CF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990720" y="3352680"/>
            <a:ext cx="2133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udy Group investigates forming a project; produces PAR and CS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134080" y="29718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dequate inter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990720" y="5334120"/>
            <a:ext cx="2133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and EC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5219640" y="1752480"/>
            <a:ext cx="18288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NesCom &amp; Standards Board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0" name="AutoShape 9"/>
          <p:cNvCxnSpPr>
            <a:stCxn id="228" idx="3"/>
            <a:endCxn id="229" idx="1"/>
          </p:cNvCxnSpPr>
          <p:nvPr/>
        </p:nvCxnSpPr>
        <p:spPr>
          <a:xfrm flipV="1">
            <a:off x="3123720" y="2285640"/>
            <a:ext cx="2096280" cy="3620160"/>
          </a:xfrm>
          <a:prstGeom prst="bentConnector3">
            <a:avLst>
              <a:gd name="adj1" fmla="val 6159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Text Box 10"/>
          <p:cNvSpPr/>
          <p:nvPr/>
        </p:nvSpPr>
        <p:spPr>
          <a:xfrm>
            <a:off x="3194640" y="591804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f EC approv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ward PAR to Nes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5029200" y="3657600"/>
            <a:ext cx="22096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art work in Working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3" name="AutoShape 12"/>
          <p:cNvCxnSpPr>
            <a:stCxn id="229" idx="2"/>
            <a:endCxn id="232" idx="0"/>
          </p:cNvCxnSpPr>
          <p:nvPr/>
        </p:nvCxnSpPr>
        <p:spPr>
          <a:xfrm>
            <a:off x="6133680" y="2819520"/>
            <a:ext cx="108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Text Box 13"/>
          <p:cNvSpPr/>
          <p:nvPr/>
        </p:nvSpPr>
        <p:spPr>
          <a:xfrm>
            <a:off x="6327720" y="289548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andards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Straight Arrow Connector 15"/>
          <p:cNvCxnSpPr>
            <a:stCxn id="225" idx="2"/>
            <a:endCxn id="226" idx="0"/>
          </p:cNvCxnSpPr>
          <p:nvPr/>
        </p:nvCxnSpPr>
        <p:spPr>
          <a:xfrm>
            <a:off x="2057040" y="297180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Straight Arrow Connector 18"/>
          <p:cNvCxnSpPr>
            <a:stCxn id="226" idx="2"/>
            <a:endCxn id="228" idx="0"/>
          </p:cNvCxnSpPr>
          <p:nvPr/>
        </p:nvCxnSpPr>
        <p:spPr>
          <a:xfrm>
            <a:off x="2057040" y="4952520"/>
            <a:ext cx="108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AutoShape 12"/>
          <p:cNvCxnSpPr>
            <a:stCxn id="232" idx="2"/>
          </p:cNvCxnSpPr>
          <p:nvPr/>
        </p:nvCxnSpPr>
        <p:spPr>
          <a:xfrm>
            <a:off x="6133680" y="5029200"/>
            <a:ext cx="1080" cy="835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Text Box 5"/>
          <p:cNvSpPr/>
          <p:nvPr/>
        </p:nvSpPr>
        <p:spPr>
          <a:xfrm>
            <a:off x="2144160" y="49528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 &amp; CSD read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8153280" y="6400800"/>
            <a:ext cx="5320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1115-3DB6-4BDB-A3C2-76F7EC49A4B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CustomShape 1"/>
          <p:cNvSpPr/>
          <p:nvPr/>
        </p:nvSpPr>
        <p:spPr>
          <a:xfrm>
            <a:off x="1295280" y="2746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DejaVu Sans"/>
              </a:rPr>
              <a:t>criteria for standards development (CS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roject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naged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existence (for a wireless proj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Five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Broad Market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mpat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Distinct Ide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Technical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conomic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01AE-5F4E-4479-B373-C16C1DED5F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447920" y="190440"/>
            <a:ext cx="7238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standards development life cycle – part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992160" y="1752480"/>
            <a:ext cx="213372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iew 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990720" y="3479760"/>
            <a:ext cx="2133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e and refine dra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2136960" y="47815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raft comple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954000" y="5257800"/>
            <a:ext cx="2210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bal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800600" y="1752480"/>
            <a:ext cx="25146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iew ballot comments, modify draft 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9" name="AutoShape 9"/>
          <p:cNvCxnSpPr>
            <a:stCxn id="247" idx="3"/>
            <a:endCxn id="248" idx="1"/>
          </p:cNvCxnSpPr>
          <p:nvPr/>
        </p:nvCxnSpPr>
        <p:spPr>
          <a:xfrm flipV="1">
            <a:off x="3164040" y="2285280"/>
            <a:ext cx="1637280" cy="3544200"/>
          </a:xfrm>
          <a:prstGeom prst="bentConnector3">
            <a:avLst>
              <a:gd name="adj1" fmla="val 6619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Rectangle 10"/>
          <p:cNvSpPr/>
          <p:nvPr/>
        </p:nvSpPr>
        <p:spPr>
          <a:xfrm>
            <a:off x="6226200" y="3349800"/>
            <a:ext cx="2209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circulate chan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nd disappro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2212920" y="3048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terial select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2" name="AutoShape 13"/>
          <p:cNvCxnSpPr>
            <a:stCxn id="248" idx="3"/>
            <a:endCxn id="250" idx="3"/>
          </p:cNvCxnSpPr>
          <p:nvPr/>
        </p:nvCxnSpPr>
        <p:spPr>
          <a:xfrm>
            <a:off x="7314840" y="2286000"/>
            <a:ext cx="1121400" cy="1635840"/>
          </a:xfrm>
          <a:prstGeom prst="bentConnector3">
            <a:avLst>
              <a:gd name="adj1" fmla="val 1367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AutoShape 14"/>
          <p:cNvCxnSpPr>
            <a:stCxn id="250" idx="1"/>
          </p:cNvCxnSpPr>
          <p:nvPr/>
        </p:nvCxnSpPr>
        <p:spPr>
          <a:xfrm rot="10800000">
            <a:off x="5844600" y="2815560"/>
            <a:ext cx="381600" cy="11055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Text Box 15"/>
          <p:cNvSpPr/>
          <p:nvPr/>
        </p:nvSpPr>
        <p:spPr>
          <a:xfrm>
            <a:off x="7448400" y="1604880"/>
            <a:ext cx="156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Changes or new disappro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6"/>
          <p:cNvSpPr/>
          <p:nvPr/>
        </p:nvSpPr>
        <p:spPr>
          <a:xfrm>
            <a:off x="5410080" y="2819520"/>
            <a:ext cx="1800" cy="2133360"/>
          </a:xfrm>
          <a:custGeom>
            <a:avLst/>
            <a:gdLst>
              <a:gd name="textAreaLeft" fmla="*/ 0 w 1800"/>
              <a:gd name="textAreaRight" fmla="*/ 2160 w 180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1591" h="2133596">
                <a:moveTo>
                  <a:pt x="0" y="0"/>
                </a:moveTo>
                <a:lnTo>
                  <a:pt x="1591" y="2133596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5133960" y="495288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No changes and no ne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isapproves, ≥75% approve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approv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warding to sponsor ballo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AutoShape 14"/>
          <p:cNvCxnSpPr>
            <a:stCxn id="244" idx="2"/>
            <a:endCxn id="245" idx="0"/>
          </p:cNvCxnSpPr>
          <p:nvPr/>
        </p:nvCxnSpPr>
        <p:spPr>
          <a:xfrm rot="5400000">
            <a:off x="1841760" y="3263040"/>
            <a:ext cx="43236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AutoShape 14"/>
          <p:cNvCxnSpPr>
            <a:stCxn id="245" idx="2"/>
            <a:endCxn id="247" idx="0"/>
          </p:cNvCxnSpPr>
          <p:nvPr/>
        </p:nvCxnSpPr>
        <p:spPr>
          <a:xfrm flipH="1" rot="16200000">
            <a:off x="1816560" y="5015160"/>
            <a:ext cx="48348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AutoShape 14"/>
          <p:cNvCxnSpPr>
            <a:endCxn id="244" idx="0"/>
          </p:cNvCxnSpPr>
          <p:nvPr/>
        </p:nvCxnSpPr>
        <p:spPr>
          <a:xfrm rot="5400000">
            <a:off x="1933200" y="1626840"/>
            <a:ext cx="25092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Slide Number Placeholder 1"/>
          <p:cNvSpPr/>
          <p:nvPr/>
        </p:nvSpPr>
        <p:spPr>
          <a:xfrm>
            <a:off x="8153280" y="6400800"/>
            <a:ext cx="5320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D488-2162-4ED0-9B9A-E786C2C53D7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standards development life cycle – part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990720" y="1752480"/>
            <a:ext cx="213336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quest EC approval to forward to sponsor bal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990720" y="3352680"/>
            <a:ext cx="2133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ponsor ballo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4"/>
          <p:cNvSpPr/>
          <p:nvPr/>
        </p:nvSpPr>
        <p:spPr>
          <a:xfrm>
            <a:off x="2057400" y="3048120"/>
            <a:ext cx="1440" cy="304560"/>
          </a:xfrm>
          <a:custGeom>
            <a:avLst/>
            <a:gdLst>
              <a:gd name="textAreaLeft" fmla="*/ 0 w 1440"/>
              <a:gd name="textAreaRight" fmla="*/ 1800 w 1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591" h="304796">
                <a:moveTo>
                  <a:pt x="0" y="0"/>
                </a:moveTo>
                <a:lnTo>
                  <a:pt x="1591" y="304796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990720" y="4800600"/>
            <a:ext cx="2133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iew ballot comments, modif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raft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6"/>
          <p:cNvSpPr/>
          <p:nvPr/>
        </p:nvSpPr>
        <p:spPr>
          <a:xfrm>
            <a:off x="2057400" y="4495680"/>
            <a:ext cx="1440" cy="304920"/>
          </a:xfrm>
          <a:custGeom>
            <a:avLst/>
            <a:gdLst>
              <a:gd name="textAreaLeft" fmla="*/ 0 w 1440"/>
              <a:gd name="textAreaRight" fmla="*/ 1800 w 14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91" h="304796">
                <a:moveTo>
                  <a:pt x="0" y="0"/>
                </a:moveTo>
                <a:lnTo>
                  <a:pt x="1591" y="304796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5257800" y="1752480"/>
            <a:ext cx="25146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quest EC approval  to forward to Rev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8" name="AutoShape 8"/>
          <p:cNvCxnSpPr>
            <a:stCxn id="265" idx="3"/>
            <a:endCxn id="263" idx="3"/>
          </p:cNvCxnSpPr>
          <p:nvPr/>
        </p:nvCxnSpPr>
        <p:spPr>
          <a:xfrm flipV="1">
            <a:off x="3124080" y="3924000"/>
            <a:ext cx="13680" cy="1448640"/>
          </a:xfrm>
          <a:prstGeom prst="bentConnector3">
            <a:avLst>
              <a:gd name="adj1" fmla="val 1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Rectangle 9"/>
          <p:cNvSpPr/>
          <p:nvPr/>
        </p:nvSpPr>
        <p:spPr>
          <a:xfrm>
            <a:off x="5408640" y="3124080"/>
            <a:ext cx="2212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Com appro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11"/>
          <p:cNvSpPr/>
          <p:nvPr/>
        </p:nvSpPr>
        <p:spPr>
          <a:xfrm>
            <a:off x="5489640" y="62974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ublished stand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1" name="AutoShape 12"/>
          <p:cNvCxnSpPr>
            <a:endCxn id="262" idx="0"/>
          </p:cNvCxnSpPr>
          <p:nvPr/>
        </p:nvCxnSpPr>
        <p:spPr>
          <a:xfrm>
            <a:off x="762120" y="1523520"/>
            <a:ext cx="1296000" cy="2293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13"/>
          <p:cNvSpPr/>
          <p:nvPr/>
        </p:nvSpPr>
        <p:spPr>
          <a:xfrm>
            <a:off x="3400560" y="427824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Changes or new disappro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14"/>
          <p:cNvSpPr/>
          <p:nvPr/>
        </p:nvSpPr>
        <p:spPr>
          <a:xfrm>
            <a:off x="3130560" y="5562720"/>
            <a:ext cx="18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No changes and no new disapproves, ≥75% appro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15"/>
          <p:cNvSpPr/>
          <p:nvPr/>
        </p:nvSpPr>
        <p:spPr>
          <a:xfrm>
            <a:off x="5408640" y="4197240"/>
            <a:ext cx="2212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andards Board appro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19"/>
          <p:cNvSpPr/>
          <p:nvPr/>
        </p:nvSpPr>
        <p:spPr>
          <a:xfrm>
            <a:off x="5408640" y="5257800"/>
            <a:ext cx="2212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repare for pub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2365560" y="304812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C approva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7" name="AutoShape 8"/>
          <p:cNvCxnSpPr>
            <a:stCxn id="265" idx="2"/>
            <a:endCxn id="267" idx="0"/>
          </p:cNvCxnSpPr>
          <p:nvPr/>
        </p:nvCxnSpPr>
        <p:spPr>
          <a:xfrm flipH="1" flipV="1" rot="5400000">
            <a:off x="2189520" y="1618560"/>
            <a:ext cx="4191840" cy="4458600"/>
          </a:xfrm>
          <a:prstGeom prst="bentConnector5">
            <a:avLst>
              <a:gd name="adj1" fmla="val -9645"/>
              <a:gd name="adj2" fmla="val 65705"/>
              <a:gd name="adj3" fmla="val 10544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Straight Arrow Connector 29"/>
          <p:cNvCxnSpPr>
            <a:stCxn id="267" idx="2"/>
            <a:endCxn id="269" idx="0"/>
          </p:cNvCxnSpPr>
          <p:nvPr/>
        </p:nvCxnSpPr>
        <p:spPr>
          <a:xfrm>
            <a:off x="6514920" y="2819520"/>
            <a:ext cx="10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Straight Arrow Connector 58"/>
          <p:cNvCxnSpPr>
            <a:stCxn id="269" idx="2"/>
            <a:endCxn id="274" idx="0"/>
          </p:cNvCxnSpPr>
          <p:nvPr/>
        </p:nvCxnSpPr>
        <p:spPr>
          <a:xfrm>
            <a:off x="6514920" y="3886200"/>
            <a:ext cx="1080" cy="311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Straight Arrow Connector 61"/>
          <p:cNvCxnSpPr>
            <a:stCxn id="274" idx="2"/>
            <a:endCxn id="275" idx="0"/>
          </p:cNvCxnSpPr>
          <p:nvPr/>
        </p:nvCxnSpPr>
        <p:spPr>
          <a:xfrm>
            <a:off x="6514920" y="4959000"/>
            <a:ext cx="1080" cy="29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Straight Arrow Connector 64"/>
          <p:cNvCxnSpPr>
            <a:stCxn id="275" idx="2"/>
          </p:cNvCxnSpPr>
          <p:nvPr/>
        </p:nvCxnSpPr>
        <p:spPr>
          <a:xfrm>
            <a:off x="6514920" y="6019560"/>
            <a:ext cx="1080" cy="29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Slide Number Placeholder 1"/>
          <p:cNvSpPr/>
          <p:nvPr/>
        </p:nvSpPr>
        <p:spPr>
          <a:xfrm>
            <a:off x="8153280" y="6400800"/>
            <a:ext cx="5320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1E83-5710-4AA5-B675-9AF116E67E9F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Standards life cycle –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And then there is maintaining the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Keep the standard current by producing amendments and corrigenda (correc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Renew the life of the standard with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When the standard is out of date, withdraw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0899-BD37-49B4-9D60-F3CDEFCDD4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1447920" y="2746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Voting and memb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Voters have responsibility to vote on letter bal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hree levels of review/voting occur in IEEE 802 standards develop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Task force or task group review or ball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equirements vary – consult Working gro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ball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equirements on next 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ponsor ballo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n to all interested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Via IEEE SA-memb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60-day public review runs concurrently with sponsor ballo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1"/>
          <p:cNvSpPr/>
          <p:nvPr/>
        </p:nvSpPr>
        <p:spPr>
          <a:xfrm>
            <a:off x="8153280" y="6400800"/>
            <a:ext cx="5320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71D6-AFA6-453B-9A9C-023157F0CC5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8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standard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Getting mo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4839-97DB-4E54-8042-AEDED4517B3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CustomShape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Acquiring Working Group voting memb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articipating at a meeting = at least 75% pres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or a new Working Group, persons participating in the initial meeting become me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or an existing Working Group, after attending 2 of last 4 plenary sessions or 1 plenary and 1 interim, membership starts at the next plenary atten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pending on Working Group, may require submitting an indication of in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C11A-A31D-4953-8004-3C8CB10890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CustomShape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Retaining Working Group voting memb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articipate in 2 of the last 4 plenary sess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An interim may substitute for one of the 2 plenary ses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turn working Group letter bal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Membership may be lost for failing to respond or responding abstain for reason other than “lack of technical expertise” to 2 of the last 3  ball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1BB4-F1BD-47BE-A4D2-06FE2FD628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CustomShape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Affi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EEE-SA Standards Board By-Laws, Section 5.2.1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DejaVu Sans"/>
                <a:hlinkClick r:id="rId1"/>
              </a:rPr>
              <a:t>http://standards.ieee.org/guides/bylaws/sect5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What is affili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You are "affiliated" with any individual or entity that has been, or will be, financially or materially supporting your participation in a particular IEEE standards activ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.g, an individual or organization supporting your participation and/or an emplo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sclosure of affiliation is requ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very member and participant shall disclose his or her affili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Not excused from compliance with this policy by a conflicting obligation (whether contractual or otherwise) that prohibits disclosure of affili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D2DC-4010-44F0-B7FB-3FBED5E33E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Ground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CustomShape 2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spect … give it, ge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product pit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corporate pit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restrictive notices – presentations must be openly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ilence your cell phone rin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EFC6-0D0B-4A4B-A4CC-AD5B954A18E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CustomShape 1"/>
          <p:cNvSpPr/>
          <p:nvPr/>
        </p:nvSpPr>
        <p:spPr>
          <a:xfrm>
            <a:off x="304920" y="1996920"/>
            <a:ext cx="830556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ejaVu Sans"/>
              </a:rPr>
              <a:t>IEEE Patent policy see the slide set a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standards.ieee.org/about/sasb/patcom/material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ejaVu Sans"/>
              </a:rPr>
              <a:t>IEEE 802 participation see the slide a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s://mentor.ieee.org/802-ec/dcn/17/ec-17-0093-05-0PNP-ieee-802-participation-slide-ppt.p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B1A3-A05E-4A1A-BBF7-E72EBADF99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ustomShap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1F07-47D9-44A7-A0C6-F05505DBD20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CustomShape 2"/>
          <p:cNvSpPr/>
          <p:nvPr/>
        </p:nvSpPr>
        <p:spPr>
          <a:xfrm>
            <a:off x="30492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802 home pag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802 chair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/wgchairs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Links to IEEE and IEEE 802 procedural docum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/devdocs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Links to IEEE 802 WG and TAG p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/dots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Links to these slides and IEEE 802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ieee802.org/orientation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EF57-0C44-4B76-9F1A-599347CB11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CustomShap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8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4A74-DCD8-4C40-9596-BACD51A1680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ustomShape 1"/>
          <p:cNvSpPr/>
          <p:nvPr/>
        </p:nvSpPr>
        <p:spPr>
          <a:xfrm>
            <a:off x="1295280" y="27468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Who we 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CustomShape 2"/>
          <p:cNvSpPr/>
          <p:nvPr/>
        </p:nvSpPr>
        <p:spPr>
          <a:xfrm>
            <a:off x="45720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EEE Project 802 LAN/MAN Standards Committee (aka IEEE 802 or LMS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Develop LAN and MAN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Mainly for link and physical layers of the network 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n operation since March 198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stomShape 3"/>
          <p:cNvSpPr/>
          <p:nvPr/>
        </p:nvSpPr>
        <p:spPr>
          <a:xfrm>
            <a:off x="6781680" y="4876920"/>
            <a:ext cx="167652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ustomShape 4"/>
          <p:cNvSpPr/>
          <p:nvPr/>
        </p:nvSpPr>
        <p:spPr>
          <a:xfrm>
            <a:off x="7010280" y="2057400"/>
            <a:ext cx="12193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ustomShape 5"/>
          <p:cNvSpPr/>
          <p:nvPr/>
        </p:nvSpPr>
        <p:spPr>
          <a:xfrm>
            <a:off x="6783480" y="1371600"/>
            <a:ext cx="157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OSI Refere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ustomShape 6"/>
          <p:cNvSpPr/>
          <p:nvPr/>
        </p:nvSpPr>
        <p:spPr>
          <a:xfrm>
            <a:off x="7075440" y="2133720"/>
            <a:ext cx="1050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ustomShape 7"/>
          <p:cNvSpPr/>
          <p:nvPr/>
        </p:nvSpPr>
        <p:spPr>
          <a:xfrm>
            <a:off x="7010280" y="2535120"/>
            <a:ext cx="1179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CustomShape 8"/>
          <p:cNvSpPr/>
          <p:nvPr/>
        </p:nvSpPr>
        <p:spPr>
          <a:xfrm>
            <a:off x="7194600" y="2938320"/>
            <a:ext cx="812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ustomShape 9"/>
          <p:cNvSpPr/>
          <p:nvPr/>
        </p:nvSpPr>
        <p:spPr>
          <a:xfrm>
            <a:off x="7132680" y="3341520"/>
            <a:ext cx="9349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ustomShape 10"/>
          <p:cNvSpPr/>
          <p:nvPr/>
        </p:nvSpPr>
        <p:spPr>
          <a:xfrm>
            <a:off x="7183440" y="3743280"/>
            <a:ext cx="833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ustomShape 11"/>
          <p:cNvSpPr/>
          <p:nvPr/>
        </p:nvSpPr>
        <p:spPr>
          <a:xfrm>
            <a:off x="7132680" y="4146480"/>
            <a:ext cx="9316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Data Li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CustomShape 12"/>
          <p:cNvSpPr/>
          <p:nvPr/>
        </p:nvSpPr>
        <p:spPr>
          <a:xfrm>
            <a:off x="7178760" y="4549680"/>
            <a:ext cx="842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CustomShape 13"/>
          <p:cNvSpPr/>
          <p:nvPr/>
        </p:nvSpPr>
        <p:spPr>
          <a:xfrm>
            <a:off x="7192800" y="4952880"/>
            <a:ext cx="812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7010280" y="251460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7010280" y="2895480"/>
            <a:ext cx="1219320" cy="1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7010280" y="327672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Line 17"/>
          <p:cNvSpPr/>
          <p:nvPr/>
        </p:nvSpPr>
        <p:spPr>
          <a:xfrm>
            <a:off x="7010280" y="373392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Line 18"/>
          <p:cNvSpPr/>
          <p:nvPr/>
        </p:nvSpPr>
        <p:spPr>
          <a:xfrm>
            <a:off x="7010280" y="411480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Line 19"/>
          <p:cNvSpPr/>
          <p:nvPr/>
        </p:nvSpPr>
        <p:spPr>
          <a:xfrm>
            <a:off x="7010280" y="4495680"/>
            <a:ext cx="1219320" cy="1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Line 20"/>
          <p:cNvSpPr/>
          <p:nvPr/>
        </p:nvSpPr>
        <p:spPr>
          <a:xfrm>
            <a:off x="6095880" y="4114800"/>
            <a:ext cx="838440" cy="1440"/>
          </a:xfrm>
          <a:custGeom>
            <a:avLst/>
            <a:gdLst>
              <a:gd name="textAreaLeft" fmla="*/ 0 w 838440"/>
              <a:gd name="textAreaRight" fmla="*/ 838800 w 838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38203" h="1591">
                <a:moveTo>
                  <a:pt x="0" y="0"/>
                </a:moveTo>
                <a:lnTo>
                  <a:pt x="838203" y="1591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Line 21"/>
          <p:cNvSpPr/>
          <p:nvPr/>
        </p:nvSpPr>
        <p:spPr>
          <a:xfrm>
            <a:off x="6248520" y="5334120"/>
            <a:ext cx="457200" cy="1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7200" h="1591">
                <a:moveTo>
                  <a:pt x="0" y="0"/>
                </a:moveTo>
                <a:lnTo>
                  <a:pt x="457200" y="1591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CustomShape 22"/>
          <p:cNvSpPr/>
          <p:nvPr/>
        </p:nvSpPr>
        <p:spPr>
          <a:xfrm>
            <a:off x="6173640" y="4343400"/>
            <a:ext cx="702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E45C-20C0-4541-819B-BBA0ECDF13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CustomShape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EEE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5030640" cy="5638680"/>
          </a:xfrm>
          <a:prstGeom prst="rect">
            <a:avLst/>
          </a:prstGeom>
          <a:ln w="0">
            <a:noFill/>
          </a:ln>
        </p:spPr>
      </p:pic>
      <p:sp>
        <p:nvSpPr>
          <p:cNvPr id="168" name="CustomShape 2"/>
          <p:cNvSpPr/>
          <p:nvPr/>
        </p:nvSpPr>
        <p:spPr>
          <a:xfrm>
            <a:off x="7315200" y="5334120"/>
            <a:ext cx="1143000" cy="91440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CustomShape 3"/>
          <p:cNvSpPr/>
          <p:nvPr/>
        </p:nvSpPr>
        <p:spPr>
          <a:xfrm>
            <a:off x="839880" y="4800600"/>
            <a:ext cx="2555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EEE 802 is he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 standards committe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m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uter Soci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2819520" y="5029200"/>
            <a:ext cx="4495680" cy="60948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4495803" h="609603">
                <a:moveTo>
                  <a:pt x="0" y="0"/>
                </a:moveTo>
                <a:lnTo>
                  <a:pt x="4495803" y="609603"/>
                </a:lnTo>
              </a:path>
            </a:pathLst>
          </a:custGeom>
          <a:noFill/>
          <a:ln w="28440">
            <a:solidFill>
              <a:srgbClr val="33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CustomShape 5"/>
          <p:cNvSpPr/>
          <p:nvPr/>
        </p:nvSpPr>
        <p:spPr>
          <a:xfrm>
            <a:off x="3049560" y="35053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ka Nes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038480" y="3809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685800" h="152403">
                <a:moveTo>
                  <a:pt x="0" y="0"/>
                </a:moveTo>
                <a:lnTo>
                  <a:pt x="685800" y="152403"/>
                </a:lnTo>
              </a:path>
            </a:pathLst>
          </a:custGeom>
          <a:noFill/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CustomShape 7"/>
          <p:cNvSpPr/>
          <p:nvPr/>
        </p:nvSpPr>
        <p:spPr>
          <a:xfrm>
            <a:off x="7240680" y="342900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ka Rev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Line 8"/>
          <p:cNvSpPr/>
          <p:nvPr/>
        </p:nvSpPr>
        <p:spPr>
          <a:xfrm flipH="1">
            <a:off x="7084440" y="3733920"/>
            <a:ext cx="841320" cy="152280"/>
          </a:xfrm>
          <a:custGeom>
            <a:avLst/>
            <a:gdLst>
              <a:gd name="textAreaLeft" fmla="*/ -360 w 841320"/>
              <a:gd name="textAreaRight" fmla="*/ 841320 w 841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41376" h="152403">
                <a:moveTo>
                  <a:pt x="0" y="0"/>
                </a:moveTo>
                <a:lnTo>
                  <a:pt x="841376" y="152403"/>
                </a:lnTo>
              </a:path>
            </a:pathLst>
          </a:custGeom>
          <a:noFill/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10C3-AB49-4535-9B73-575CDADD40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ndividual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has two types of standards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dividual method or Entity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802’s projects use the Individual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Voter’s are individuals, not entities (e.g. compan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C9A9-D78B-4BE1-AEBE-B54BC002FF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Som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AR – project authorization request – the document that authorizes work on a projec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WG - Working group – responsible for developing standards in an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AG – Technical Advisory Group – experts on a topic area that crosses working grou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ask group or task force – a part of a working group which focuses on a particular pro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0A3A-66A7-4137-B576-A321DAB7F2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All those dots….decoder 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ustomShape 2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    Bridging and Architecture – generally the top of the link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3    Eth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1  Wireless LAN (WL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5  Wireless Specialty Network (WS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6  Broadband Wireless Access (BWA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8  Radio Regulatory TA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9  Coexist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21  Media Independent Handov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22  Wireless Regional Area Networks (WR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24  Vertical Applications T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CustomShape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69F1-5DE9-45F7-AD98-6593A7E762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EEE 802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ustomShape 2"/>
          <p:cNvSpPr/>
          <p:nvPr/>
        </p:nvSpPr>
        <p:spPr>
          <a:xfrm>
            <a:off x="1685880" y="202248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Davi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ustomShape 4"/>
          <p:cNvSpPr/>
          <p:nvPr/>
        </p:nvSpPr>
        <p:spPr>
          <a:xfrm>
            <a:off x="1685880" y="29257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oger Ma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ustomShape 6"/>
          <p:cNvSpPr/>
          <p:nvPr/>
        </p:nvSpPr>
        <p:spPr>
          <a:xfrm>
            <a:off x="3156120" y="201600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Adrian Steph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ustomShape 8"/>
          <p:cNvSpPr/>
          <p:nvPr/>
        </p:nvSpPr>
        <p:spPr>
          <a:xfrm>
            <a:off x="219240" y="202248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High Level Interf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Glenn Pars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CustomShape 10"/>
          <p:cNvSpPr/>
          <p:nvPr/>
        </p:nvSpPr>
        <p:spPr>
          <a:xfrm>
            <a:off x="568440" y="1681200"/>
            <a:ext cx="28130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/TAG Chai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CustomShape 19"/>
          <p:cNvSpPr/>
          <p:nvPr/>
        </p:nvSpPr>
        <p:spPr>
          <a:xfrm>
            <a:off x="6554880" y="2411280"/>
            <a:ext cx="2008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Appointed Offic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CustomShape 20"/>
          <p:cNvSpPr/>
          <p:nvPr/>
        </p:nvSpPr>
        <p:spPr>
          <a:xfrm>
            <a:off x="5105520" y="1301760"/>
            <a:ext cx="1317600" cy="54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Paul Niko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CustomShape 22"/>
          <p:cNvSpPr/>
          <p:nvPr/>
        </p:nvSpPr>
        <p:spPr>
          <a:xfrm>
            <a:off x="1600200" y="1341360"/>
            <a:ext cx="3446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ECUTIVE COMMITTEE (E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CustomShape 23"/>
          <p:cNvSpPr/>
          <p:nvPr/>
        </p:nvSpPr>
        <p:spPr>
          <a:xfrm>
            <a:off x="219240" y="292428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5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S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ob H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CustomShape 25"/>
          <p:cNvSpPr/>
          <p:nvPr/>
        </p:nvSpPr>
        <p:spPr>
          <a:xfrm>
            <a:off x="3156120" y="292572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8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adio Regul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ich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CustomShape 35"/>
          <p:cNvSpPr/>
          <p:nvPr/>
        </p:nvSpPr>
        <p:spPr>
          <a:xfrm>
            <a:off x="219240" y="5486400"/>
            <a:ext cx="6400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Times New Roman"/>
                <a:ea typeface="DejaVu Sans"/>
              </a:rPr>
              <a:t>DISB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2 LLC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4 Token Bus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5 Token  Ring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6 DQDB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7 Broadband TAG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8 Fiber Optic TAG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9 ISLAN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                        802.10 Securit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12 Demand Priority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14 CATV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17 Resilient Packet Ring 802.23 Emergency Services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CustomShape 40"/>
          <p:cNvSpPr/>
          <p:nvPr/>
        </p:nvSpPr>
        <p:spPr>
          <a:xfrm>
            <a:off x="4591080" y="2413080"/>
            <a:ext cx="15112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Hiberna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WG Chai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(non vo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ustomShape 45"/>
          <p:cNvSpPr/>
          <p:nvPr/>
        </p:nvSpPr>
        <p:spPr>
          <a:xfrm>
            <a:off x="6527880" y="5226120"/>
            <a:ext cx="2008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Appointed Offic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(non vo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CustomShape 4"/>
          <p:cNvSpPr/>
          <p:nvPr/>
        </p:nvSpPr>
        <p:spPr>
          <a:xfrm>
            <a:off x="1685880" y="38257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edia indep. hand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ubir 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ustomShape 25"/>
          <p:cNvSpPr/>
          <p:nvPr/>
        </p:nvSpPr>
        <p:spPr>
          <a:xfrm>
            <a:off x="3156120" y="3833640"/>
            <a:ext cx="1349280" cy="7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2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Apurva M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ustomShape 6"/>
          <p:cNvSpPr/>
          <p:nvPr/>
        </p:nvSpPr>
        <p:spPr>
          <a:xfrm>
            <a:off x="4672080" y="324000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B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adhakrish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anch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CustomShape 23"/>
          <p:cNvSpPr/>
          <p:nvPr/>
        </p:nvSpPr>
        <p:spPr>
          <a:xfrm>
            <a:off x="219240" y="472752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Vertical Applic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im Godfr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CustomShape 23"/>
          <p:cNvSpPr/>
          <p:nvPr/>
        </p:nvSpPr>
        <p:spPr>
          <a:xfrm>
            <a:off x="219240" y="382572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oexis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Steve Shellham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ustomShape 6"/>
          <p:cNvSpPr/>
          <p:nvPr/>
        </p:nvSpPr>
        <p:spPr>
          <a:xfrm>
            <a:off x="6164280" y="27655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st VICE 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Pat Tha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CustomShape 6"/>
          <p:cNvSpPr/>
          <p:nvPr/>
        </p:nvSpPr>
        <p:spPr>
          <a:xfrm>
            <a:off x="7656480" y="276552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nd VICE 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James P.K. Gi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ustomShape 6"/>
          <p:cNvSpPr/>
          <p:nvPr/>
        </p:nvSpPr>
        <p:spPr>
          <a:xfrm>
            <a:off x="6164280" y="3618000"/>
            <a:ext cx="135108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EXECUTIVE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Jon Rosd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CustomShape 6"/>
          <p:cNvSpPr/>
          <p:nvPr/>
        </p:nvSpPr>
        <p:spPr>
          <a:xfrm>
            <a:off x="7656480" y="3618000"/>
            <a:ext cx="134928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RECORDING SE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John D’Ambro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6"/>
          <p:cNvSpPr/>
          <p:nvPr/>
        </p:nvSpPr>
        <p:spPr>
          <a:xfrm>
            <a:off x="6164280" y="44719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REASU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lint Chap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CustomShape 6"/>
          <p:cNvSpPr/>
          <p:nvPr/>
        </p:nvSpPr>
        <p:spPr>
          <a:xfrm>
            <a:off x="6883560" y="5757840"/>
            <a:ext cx="13492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EMBER EMERI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Geoff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1"/>
          <p:cNvSpPr/>
          <p:nvPr/>
        </p:nvSpPr>
        <p:spPr>
          <a:xfrm>
            <a:off x="8229600" y="6400800"/>
            <a:ext cx="45576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2102-AECF-4B23-8879-0A7353EFE52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5:50:17Z</dcterms:created>
  <dc:creator>Charlie Perkins</dc:creator>
  <dc:description/>
  <dc:language>en-US</dc:language>
  <cp:lastModifiedBy>John DAmbrosia</cp:lastModifiedBy>
  <cp:lastPrinted>2015-07-01T18:38:20Z</cp:lastPrinted>
  <dcterms:modified xsi:type="dcterms:W3CDTF">2017-07-07T12:49:04Z</dcterms:modified>
  <cp:revision>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63374286</vt:lpwstr>
  </property>
</Properties>
</file>