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803160" y="4893840"/>
            <a:ext cx="64152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hdr"/>
          </p:nvPr>
        </p:nvSpPr>
        <p:spPr>
          <a:xfrm>
            <a:off x="-360" y="-36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3"/>
          </p:nvPr>
        </p:nvSpPr>
        <p:spPr>
          <a:xfrm>
            <a:off x="4540320" y="-36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4"/>
          </p:nvPr>
        </p:nvSpPr>
        <p:spPr>
          <a:xfrm>
            <a:off x="-360" y="9789840"/>
            <a:ext cx="34815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5"/>
          </p:nvPr>
        </p:nvSpPr>
        <p:spPr>
          <a:xfrm>
            <a:off x="4540320" y="9789840"/>
            <a:ext cx="347976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42E-A61C-4F42-A23A-F46250EA4DF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Img"/>
          </p:nvPr>
        </p:nvSpPr>
        <p:spPr>
          <a:xfrm>
            <a:off x="1196280" y="712080"/>
            <a:ext cx="4684680" cy="351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7511-5643-4E5B-8F79-EE750426762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7E57-154C-4140-A6DE-557ABFEBCC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75A4-0B0C-4D59-8555-9D94DF8C612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4863-0436-4016-B369-17C5CB5588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B84EE-D54F-4E6A-BA62-01AF94E2E19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4A81-2E0A-4CA2-9EE1-0B8CE3279F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63F1-D54A-432D-B784-DF2DADF0B17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A35F1-1568-41FD-8D7D-12D0F95C5E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3BD1-7565-4FD5-8738-9D745D151F6F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1F34-B0D7-443E-A11C-D36EB194C3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98980-6ACD-4481-9D33-D4FDB3A391A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3E08-E0D8-42C2-907B-1B21D3D79B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86DF-75D5-4750-AEC2-E3F007442F3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40B1-642B-4DA4-AF9E-532CF6517B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936E-613B-4825-B2AE-FC1E06C9237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0D3C-EFB9-4845-8127-6E06955B12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1753-1280-44B9-9C94-85A7965C136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99CE-1D2C-4658-8C96-8C57414E6A9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1E64-E3AE-48AD-BFAE-A3BB8899AC6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1C6B-A5F1-4ABA-AF79-1E1980811B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4540320" y="9790200"/>
            <a:ext cx="34797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F77B8-E9A8-4287-9E65-D4480E709C2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44E5-2915-4933-9932-40EA48C07C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C97A-FA60-4F2C-A09A-15630B2D7AB0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EDBC-0256-4176-B7A2-0992D2AD6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41A4-9CEF-4BC5-848F-DE7C7846354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BBB-796E-4DAC-8AA0-196E93606A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D40B-C722-4C56-984B-1C81E71C0EC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73A1-10E6-4996-BAAF-8921041359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7AD2-FFC9-4F5F-83E6-4274E951D0D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4DF2-9E85-4DD8-9D9F-DEB2E44F44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586-1AC5-4807-A93A-07B22F42922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6DCC-3B03-4CFF-9FBF-A4182D13A1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9661-0791-4F04-BAB2-E6BDA124F5B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2367-5893-4992-9560-F1AEB5161C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er should show the linked slides as part of this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29E7-5148-4515-A318-79AC267FA00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8CEA-299C-46AD-AC4B-AE67EC4264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3FDD-E970-40D3-A0FD-E46AF07C1F5D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EB89-D2E1-4F64-9067-F701C78550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E4AC-18D1-4044-8DEE-D245358A0659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BE67-D37D-4FEA-884C-6B6B93CAC5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A71C-65A4-4578-8AC2-511CBDC7DD4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CEED-7196-44F5-8E57-1ABF394115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D1A-0954-410A-8432-510BFE7699C8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03E9A-2957-4FB1-8B9A-E8999D03F3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4130-7117-4A09-908C-8F90355DF98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0EB7-F03D-44B4-AA13-96B446A56C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88B-54F8-4EFC-B0AA-05FE47EAC49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CB62-5121-428C-A113-3DA354DC74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4E52-955F-4C81-8D14-DD32EFC4107A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B56F-47DA-4B26-B354-1ADCD1995D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Shape 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-45720" bIns="-4572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59C0-788D-4BD2-ACCF-C3BA9F68E196}" type="slidenum">
              <a:rPr b="0" lang="en-US" sz="1400" spc="-1" strike="noStrike">
                <a:solidFill>
                  <a:srgbClr val="ffffff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CustomShape 2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E6E6-2515-4D1B-A222-B696B7959A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CustomShape 3"/>
          <p:cNvSpPr/>
          <p:nvPr/>
        </p:nvSpPr>
        <p:spPr>
          <a:xfrm>
            <a:off x="1179360" y="703440"/>
            <a:ext cx="471816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707760" y="4449600"/>
            <a:ext cx="56610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1A85-F69C-4A52-8060-2B0014F6B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1B88-DC8E-4821-AABD-698E7AF79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9B9A-E3E2-4717-8445-906FE2796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317C-F5FC-40A5-BF8A-4D8FAFF52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EF2B-B46E-4030-95C6-9331CDBBC9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CDCD8-2AFA-45AB-B223-C47B5FE648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526C0-5889-4ACB-A7F7-33DC065A93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422E8-0CA8-4D09-BC93-8A96E7BDDD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504B-8574-4E0C-A9D5-0D3CC45F90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BA02-4DD2-4EB0-BE0F-39C9A1BB4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3EE3B-E791-4303-8BCF-883B4EFF10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7C8DA-B545-4FB0-9E18-91D2BCC95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28271-3DC1-4273-B53E-9ADDD5525B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28B0E-7D0D-4D78-95C7-659C90AC9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46B4-1902-499E-8D23-B9D0889D14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6243C-BCE0-4D0E-9EE5-0C2AC2EACA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FC799-C413-4223-81AE-67CC68A7CD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9024-24A5-43B5-9063-86BA2D14E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EBD8-AB09-4D60-8FB7-57CCCA18EE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BE18-666B-4F47-9B3B-F9B3C9344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2880"/>
            <a:ext cx="7315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7A8D-2D75-4082-8C47-67896CCE7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1C07-2F09-45B4-ACF4-3E84D68FC6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1204-D680-431E-94D9-B81596C4B1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3C97-0937-48D2-B814-CD47C01CD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608F-541C-41B2-BF00-0A11133E198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CustomShape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ustomShape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8" descr="C:\Users\pthaler\802\802exec\IEEE-802-Logo\IEEE 802 Logo RGB-03.png"/>
          <p:cNvPicPr/>
          <p:nvPr/>
        </p:nvPicPr>
        <p:blipFill>
          <a:blip r:embed="rId2"/>
          <a:stretch/>
        </p:blipFill>
        <p:spPr>
          <a:xfrm>
            <a:off x="363600" y="380880"/>
            <a:ext cx="1008000" cy="1009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272880"/>
            <a:ext cx="7315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2"/>
          </p:nvPr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2CD-5570-4B69-9B13-B85BD973783A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standards.ieee.org/guides/bylaws/sect5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standards.ieee.org/about/sasb/patcom/materials.html" TargetMode="External"/><Relationship Id="rId2" Type="http://schemas.openxmlformats.org/officeDocument/2006/relationships/hyperlink" Target="https://mentor.ieee.org/802-ec/dcn/17/ec-17-0093-05-0PNP-ieee-802-participation-slide-ppt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CustomShape 1"/>
          <p:cNvSpPr/>
          <p:nvPr/>
        </p:nvSpPr>
        <p:spPr>
          <a:xfrm>
            <a:off x="685800" y="990720"/>
            <a:ext cx="777240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Arial"/>
                <a:ea typeface="DejaVu Sans"/>
              </a:rPr>
              <a:t>Welcome to IEEE 802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DejaVu Sans"/>
              </a:rPr>
              <a:t>  Newcomer Ori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CustomShape 2"/>
          <p:cNvSpPr/>
          <p:nvPr/>
        </p:nvSpPr>
        <p:spPr>
          <a:xfrm>
            <a:off x="1371600" y="3048120"/>
            <a:ext cx="6400800" cy="11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www.ieee802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ustomShape 3"/>
          <p:cNvSpPr/>
          <p:nvPr/>
        </p:nvSpPr>
        <p:spPr>
          <a:xfrm>
            <a:off x="1371600" y="3809880"/>
            <a:ext cx="6400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IEEE 802 Plenary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DejaVu Sans"/>
              </a:rPr>
              <a:t>Last updated, 3 July 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"/>
          <p:cNvSpPr/>
          <p:nvPr/>
        </p:nvSpPr>
        <p:spPr>
          <a:xfrm>
            <a:off x="2819520" y="525780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alibri"/>
                <a:ea typeface="Arial"/>
              </a:rPr>
              <a:t>Draf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C8F5-E7BC-475A-9C0C-390C47F26D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95280" y="304920"/>
            <a:ext cx="7391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General structure of the we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94"/>
          <p:cNvSpPr/>
          <p:nvPr/>
        </p:nvSpPr>
        <p:spPr>
          <a:xfrm>
            <a:off x="394920" y="6046920"/>
            <a:ext cx="84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Check WG agendas for details – there is some variation between group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9720" y="1295280"/>
          <a:ext cx="8064720" cy="4703760"/>
        </p:xfrm>
        <a:graphic>
          <a:graphicData uri="http://schemas.openxmlformats.org/drawingml/2006/table">
            <a:tbl>
              <a:tblPr/>
              <a:tblGrid>
                <a:gridCol w="520920"/>
                <a:gridCol w="1332000"/>
                <a:gridCol w="1892160"/>
                <a:gridCol w="914400"/>
                <a:gridCol w="1066680"/>
                <a:gridCol w="1143000"/>
                <a:gridCol w="119556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task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ing 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2 newcomer ori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G opening plenaries (mo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-week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ining WG open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sk force/group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eetin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sing 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to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/TG mt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 WG closing plen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Slide Number Placeholder 2"/>
          <p:cNvSpPr/>
          <p:nvPr/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F36A-7984-4103-9E51-22C316BD3FED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827E-EF63-4BEE-B70F-7021832263B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Principles of the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ue proc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dures are publicly available and followed consistent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nsensu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quiring agreement of a majority or supermajority – for technical decisions here ≥7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penness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nsuring materially interested and affected parties can particip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alanc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representation from all interested parties without overwhelming influence from any one pa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ight of appe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process to ensure due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ED0A-8959-44C2-9595-EFE0D24106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Mor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FI – Call for interest – a brief meeting to outline a topic and determine if there is interest in investigating possible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– a group formed to investigate a project and produce a P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 – In IEEE 802 the basis for determining whether to forward a P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 – a subset of the CS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0847-11B3-4C93-8509-3EAD15AB8D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990720" y="167652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all for Intere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(CF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990720" y="3352680"/>
            <a:ext cx="213336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udy Group investigates forming a project; produces PAR and CS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134080" y="297180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dequate inter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990720" y="533412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nd EC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5219640" y="1752480"/>
            <a:ext cx="18288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esCom &amp; Standards Board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8" name="AutoShape 9"/>
          <p:cNvCxnSpPr>
            <a:stCxn id="186" idx="3"/>
            <a:endCxn id="187" idx="1"/>
          </p:cNvCxnSpPr>
          <p:nvPr/>
        </p:nvCxnSpPr>
        <p:spPr>
          <a:xfrm flipV="1">
            <a:off x="3123720" y="2285640"/>
            <a:ext cx="2096280" cy="3620160"/>
          </a:xfrm>
          <a:prstGeom prst="bentConnector3">
            <a:avLst>
              <a:gd name="adj1" fmla="val 6159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Text Box 10"/>
          <p:cNvSpPr/>
          <p:nvPr/>
        </p:nvSpPr>
        <p:spPr>
          <a:xfrm>
            <a:off x="3194640" y="5918040"/>
            <a:ext cx="26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f EC approv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 PAR to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029200" y="3657600"/>
            <a:ext cx="220968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rt work in Working Gro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AutoShape 12"/>
          <p:cNvCxnSpPr>
            <a:stCxn id="187" idx="2"/>
            <a:endCxn id="190" idx="0"/>
          </p:cNvCxnSpPr>
          <p:nvPr/>
        </p:nvCxnSpPr>
        <p:spPr>
          <a:xfrm>
            <a:off x="6133680" y="2819520"/>
            <a:ext cx="1080" cy="838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Text Box 13"/>
          <p:cNvSpPr/>
          <p:nvPr/>
        </p:nvSpPr>
        <p:spPr>
          <a:xfrm>
            <a:off x="6327720" y="2895480"/>
            <a:ext cx="18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3" name="Straight Arrow Connector 15"/>
          <p:cNvCxnSpPr>
            <a:stCxn id="183" idx="2"/>
            <a:endCxn id="184" idx="0"/>
          </p:cNvCxnSpPr>
          <p:nvPr/>
        </p:nvCxnSpPr>
        <p:spPr>
          <a:xfrm>
            <a:off x="2057040" y="297180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Straight Arrow Connector 18"/>
          <p:cNvCxnSpPr>
            <a:stCxn id="184" idx="2"/>
            <a:endCxn id="186" idx="0"/>
          </p:cNvCxnSpPr>
          <p:nvPr/>
        </p:nvCxnSpPr>
        <p:spPr>
          <a:xfrm>
            <a:off x="2057040" y="4952520"/>
            <a:ext cx="108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2"/>
          <p:cNvCxnSpPr>
            <a:stCxn id="190" idx="2"/>
          </p:cNvCxnSpPr>
          <p:nvPr/>
        </p:nvCxnSpPr>
        <p:spPr>
          <a:xfrm>
            <a:off x="6133680" y="5029200"/>
            <a:ext cx="1080" cy="835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Text Box 5"/>
          <p:cNvSpPr/>
          <p:nvPr/>
        </p:nvSpPr>
        <p:spPr>
          <a:xfrm>
            <a:off x="2144160" y="4952880"/>
            <a:ext cx="21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AR &amp; CSD read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1"/>
          <p:cNvSpPr/>
          <p:nvPr/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8B02-F3C7-4D3A-A91D-8D7B63B0FB21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CustomShape 1"/>
          <p:cNvSpPr/>
          <p:nvPr/>
        </p:nvSpPr>
        <p:spPr>
          <a:xfrm>
            <a:off x="1295280" y="27468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DejaVu Sans"/>
              </a:rPr>
              <a:t>criteria for standards development (CSD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roject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Managed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 (for a wireless proj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5760" indent="-4557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Five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Broad Market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Compat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Distinct Ide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Technical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95320" indent="-43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Economic Feasi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5CEF-97C7-43D7-A588-0286FA95A42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1"/>
          <p:cNvSpPr/>
          <p:nvPr/>
        </p:nvSpPr>
        <p:spPr>
          <a:xfrm>
            <a:off x="1447920" y="190440"/>
            <a:ext cx="7238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992160" y="1752480"/>
            <a:ext cx="213372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propos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990720" y="3479760"/>
            <a:ext cx="21333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reate and refine dr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2136960" y="4781520"/>
            <a:ext cx="17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complet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954000" y="5257800"/>
            <a:ext cx="2210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48006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draft 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7" name="AutoShape 9"/>
          <p:cNvCxnSpPr>
            <a:stCxn id="205" idx="3"/>
            <a:endCxn id="206" idx="1"/>
          </p:cNvCxnSpPr>
          <p:nvPr/>
        </p:nvCxnSpPr>
        <p:spPr>
          <a:xfrm flipV="1">
            <a:off x="3164040" y="2285280"/>
            <a:ext cx="1637280" cy="3544200"/>
          </a:xfrm>
          <a:prstGeom prst="bentConnector3">
            <a:avLst>
              <a:gd name="adj1" fmla="val 6619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Rectangle 10"/>
          <p:cNvSpPr/>
          <p:nvPr/>
        </p:nvSpPr>
        <p:spPr>
          <a:xfrm>
            <a:off x="6226200" y="3349800"/>
            <a:ext cx="22096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circulate chan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nd disappro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2212920" y="304812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Material selecte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0" name="AutoShape 13"/>
          <p:cNvCxnSpPr>
            <a:stCxn id="206" idx="3"/>
            <a:endCxn id="208" idx="3"/>
          </p:cNvCxnSpPr>
          <p:nvPr/>
        </p:nvCxnSpPr>
        <p:spPr>
          <a:xfrm>
            <a:off x="7314840" y="2286000"/>
            <a:ext cx="1121400" cy="1635840"/>
          </a:xfrm>
          <a:prstGeom prst="bentConnector3">
            <a:avLst>
              <a:gd name="adj1" fmla="val 13670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14"/>
          <p:cNvCxnSpPr>
            <a:stCxn id="208" idx="1"/>
          </p:cNvCxnSpPr>
          <p:nvPr/>
        </p:nvCxnSpPr>
        <p:spPr>
          <a:xfrm rot="10800000">
            <a:off x="5844600" y="2815560"/>
            <a:ext cx="381600" cy="11055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Text Box 15"/>
          <p:cNvSpPr/>
          <p:nvPr/>
        </p:nvSpPr>
        <p:spPr>
          <a:xfrm>
            <a:off x="7448400" y="1604880"/>
            <a:ext cx="156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5410080" y="2819520"/>
            <a:ext cx="1800" cy="2133360"/>
          </a:xfrm>
          <a:custGeom>
            <a:avLst/>
            <a:gdLst>
              <a:gd name="textAreaLeft" fmla="*/ 0 w 1800"/>
              <a:gd name="textAreaRight" fmla="*/ 2160 w 180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1591" h="2133596">
                <a:moveTo>
                  <a:pt x="0" y="0"/>
                </a:moveTo>
                <a:lnTo>
                  <a:pt x="1591" y="21335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5133960" y="495288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isapproves, ≥75% approve an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approv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warding to sponsor ballo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15" name="AutoShape 14"/>
          <p:cNvCxnSpPr>
            <a:stCxn id="202" idx="2"/>
            <a:endCxn id="203" idx="0"/>
          </p:cNvCxnSpPr>
          <p:nvPr/>
        </p:nvCxnSpPr>
        <p:spPr>
          <a:xfrm rot="5400000">
            <a:off x="1841760" y="3263040"/>
            <a:ext cx="43236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14"/>
          <p:cNvCxnSpPr>
            <a:stCxn id="203" idx="2"/>
            <a:endCxn id="205" idx="0"/>
          </p:cNvCxnSpPr>
          <p:nvPr/>
        </p:nvCxnSpPr>
        <p:spPr>
          <a:xfrm flipH="1" rot="16200000">
            <a:off x="1816560" y="5015160"/>
            <a:ext cx="48348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4"/>
          <p:cNvCxnSpPr>
            <a:endCxn id="202" idx="0"/>
          </p:cNvCxnSpPr>
          <p:nvPr/>
        </p:nvCxnSpPr>
        <p:spPr>
          <a:xfrm rot="5400000">
            <a:off x="1933200" y="1626840"/>
            <a:ext cx="250920" cy="108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8" name="Slide Number Placeholder 1"/>
          <p:cNvSpPr/>
          <p:nvPr/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4D24-28A0-43EE-BE36-A64031E6A81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IEEE 802 standards development life cycle – 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990720" y="1752480"/>
            <a:ext cx="213336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to forward to sponsor ball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990720" y="335268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2057400" y="3048120"/>
            <a:ext cx="1440" cy="304560"/>
          </a:xfrm>
          <a:custGeom>
            <a:avLst/>
            <a:gdLst>
              <a:gd name="textAreaLeft" fmla="*/ 0 w 1440"/>
              <a:gd name="textAreaRight" fmla="*/ 1800 w 1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990720" y="4800600"/>
            <a:ext cx="21333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iew ballot comments, modify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draft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2057400" y="4495680"/>
            <a:ext cx="1440" cy="304920"/>
          </a:xfrm>
          <a:custGeom>
            <a:avLst/>
            <a:gdLst>
              <a:gd name="textAreaLeft" fmla="*/ 0 w 1440"/>
              <a:gd name="textAreaRight" fmla="*/ 1800 w 14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591" h="304796">
                <a:moveTo>
                  <a:pt x="0" y="0"/>
                </a:moveTo>
                <a:lnTo>
                  <a:pt x="1591" y="304796"/>
                </a:lnTo>
              </a:path>
            </a:pathLst>
          </a:custGeom>
          <a:noFill/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257800" y="1752480"/>
            <a:ext cx="251460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quest EC approval  to forward to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6" name="AutoShape 8"/>
          <p:cNvCxnSpPr>
            <a:stCxn id="223" idx="3"/>
            <a:endCxn id="221" idx="3"/>
          </p:cNvCxnSpPr>
          <p:nvPr/>
        </p:nvCxnSpPr>
        <p:spPr>
          <a:xfrm flipV="1">
            <a:off x="3124080" y="3924000"/>
            <a:ext cx="13680" cy="1448640"/>
          </a:xfrm>
          <a:prstGeom prst="bentConnector3">
            <a:avLst>
              <a:gd name="adj1" fmla="val 18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9"/>
          <p:cNvSpPr/>
          <p:nvPr/>
        </p:nvSpPr>
        <p:spPr>
          <a:xfrm>
            <a:off x="5408640" y="312408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RevCom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5489640" y="6297480"/>
            <a:ext cx="213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ublished stand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29" name="AutoShape 12"/>
          <p:cNvCxnSpPr>
            <a:endCxn id="220" idx="0"/>
          </p:cNvCxnSpPr>
          <p:nvPr/>
        </p:nvCxnSpPr>
        <p:spPr>
          <a:xfrm>
            <a:off x="762120" y="1523520"/>
            <a:ext cx="1296000" cy="2293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Text Box 13"/>
          <p:cNvSpPr/>
          <p:nvPr/>
        </p:nvSpPr>
        <p:spPr>
          <a:xfrm>
            <a:off x="3400560" y="427824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Changes or new disappro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3130560" y="5835600"/>
            <a:ext cx="183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o changes and no new disapproves, ≥75% appr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5408640" y="419724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Board approv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9"/>
          <p:cNvSpPr/>
          <p:nvPr/>
        </p:nvSpPr>
        <p:spPr>
          <a:xfrm>
            <a:off x="5408640" y="5257800"/>
            <a:ext cx="2212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Prepare for publ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2365560" y="304812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C approva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5" name="AutoShape 8"/>
          <p:cNvCxnSpPr>
            <a:stCxn id="223" idx="2"/>
            <a:endCxn id="225" idx="0"/>
          </p:cNvCxnSpPr>
          <p:nvPr/>
        </p:nvCxnSpPr>
        <p:spPr>
          <a:xfrm flipH="1" flipV="1" rot="5400000">
            <a:off x="2189520" y="1618560"/>
            <a:ext cx="4191840" cy="4458600"/>
          </a:xfrm>
          <a:prstGeom prst="bentConnector5">
            <a:avLst>
              <a:gd name="adj1" fmla="val -16576"/>
              <a:gd name="adj2" fmla="val 65705"/>
              <a:gd name="adj3" fmla="val 10544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Straight Arrow Connector 29"/>
          <p:cNvCxnSpPr>
            <a:stCxn id="225" idx="2"/>
            <a:endCxn id="227" idx="0"/>
          </p:cNvCxnSpPr>
          <p:nvPr/>
        </p:nvCxnSpPr>
        <p:spPr>
          <a:xfrm>
            <a:off x="6514920" y="2819520"/>
            <a:ext cx="1080" cy="305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Straight Arrow Connector 58"/>
          <p:cNvCxnSpPr>
            <a:stCxn id="227" idx="2"/>
            <a:endCxn id="232" idx="0"/>
          </p:cNvCxnSpPr>
          <p:nvPr/>
        </p:nvCxnSpPr>
        <p:spPr>
          <a:xfrm>
            <a:off x="6514920" y="3886200"/>
            <a:ext cx="1080" cy="311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Straight Arrow Connector 61"/>
          <p:cNvCxnSpPr>
            <a:stCxn id="232" idx="2"/>
            <a:endCxn id="233" idx="0"/>
          </p:cNvCxnSpPr>
          <p:nvPr/>
        </p:nvCxnSpPr>
        <p:spPr>
          <a:xfrm>
            <a:off x="6514920" y="495900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Straight Arrow Connector 64"/>
          <p:cNvCxnSpPr>
            <a:stCxn id="233" idx="2"/>
          </p:cNvCxnSpPr>
          <p:nvPr/>
        </p:nvCxnSpPr>
        <p:spPr>
          <a:xfrm>
            <a:off x="6514920" y="6019560"/>
            <a:ext cx="1080" cy="299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Slide Number Placeholder 1"/>
          <p:cNvSpPr/>
          <p:nvPr/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AC1E-196E-455B-9FC6-5CE7B32CBC3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tandards life cycle –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And then there is maintaining the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Keep the standard current by producing amendments and corrigenda (correc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enew the life of the standard with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hen the standard is out of date, withdraw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8689-1682-4805-B95A-EAC22EDF3F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1"/>
          <p:cNvSpPr/>
          <p:nvPr/>
        </p:nvSpPr>
        <p:spPr>
          <a:xfrm>
            <a:off x="1447920" y="2746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Voting and membe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s have responsibility to vote on letter ballo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hree levels of review/voting occur in IEEE 802 standards develop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Task force or task group review or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vary – consult Working grou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 ballo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Requirements on next p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Sponsor ballo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Open to all interested par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Via IEEE SA-membershi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60-day public review runs concurrently with sponsor ballo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1"/>
          <p:cNvSpPr/>
          <p:nvPr/>
        </p:nvSpPr>
        <p:spPr>
          <a:xfrm>
            <a:off x="8153280" y="6245280"/>
            <a:ext cx="53208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5638-4DEF-4C75-A59A-1568C8EB40E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standard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E1F4-1AEF-4691-979D-218195A0071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cquir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ing at a meeting = at least 75% pres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 new Working Group, persons participating in the initial meeting become memb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For an existing Working Group, after attending 2 of last 4 plenary sessions or 1 plenary and 1 interim, membership starts at the next plenary attend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epending on Working Group, may require submitting an indication of int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1C19-98B2-45B4-B464-2813ECE020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Retaining Working Group voting memb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Participate in 2 of the last 4 plenary sess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An interim may substitute for one of the 2 plenary sess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turn working Group letter ball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embership may be lost for failing to respond or responding abstain for reason other than “lack of technical expertise” to 2 of the last 3  ballo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191D0-1EDD-48BC-8A59-10749CDBC7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CustomShape 1"/>
          <p:cNvSpPr/>
          <p:nvPr/>
        </p:nvSpPr>
        <p:spPr>
          <a:xfrm>
            <a:off x="1523880" y="190440"/>
            <a:ext cx="71629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DejaVu Sans"/>
              </a:rPr>
              <a:t>Affil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EEE-SA Standards Board By-Laws, Section 5.2.1.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  <a:ea typeface="DejaVu Sans"/>
                <a:hlinkClick r:id="rId1"/>
              </a:rPr>
              <a:t>http://standards.ieee.org/guides/bylaws/sect5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What is affiliation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You are "affiliated" with any individual or entity that has been, or will be, financially or materially supporting your participation in a particular IEEE standards activit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.g, an individual or organization supporting your participation and/or an emplo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DejaVu Sans"/>
              </a:rPr>
              <a:t>Disclosure of affiliation is requi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very member and participant shall disclose his or her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Not excused from compliance with this policy by a conflicting obligation (whether contractual or otherwise) that prohibits disclosure of affili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9B69-6C95-4DED-A79B-E19254DE45A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round r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CustomShape 2"/>
          <p:cNvSpPr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Respect … give it, get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oduct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corporate pit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pr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NO restrictive notices – presentations must be openly avai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9640" indent="-5396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Silence your cell phone ring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B895-DBD1-48C1-B472-456092846C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ustomShape 1"/>
          <p:cNvSpPr/>
          <p:nvPr/>
        </p:nvSpPr>
        <p:spPr>
          <a:xfrm>
            <a:off x="304920" y="1996920"/>
            <a:ext cx="830556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Patent policy see the slide set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s://standards.ieee.org/about/sasb/patcom/material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DejaVu Sans"/>
              </a:rPr>
              <a:t>IEEE 802 participation see the slide at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https://mentor.ieee.org/802-ec/dcn/17/ec-17-0093-05-0PNP-ieee-802-participation-slide-ppt.p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6D6F0-C5CE-4AB1-A3AB-99BFDDFBE22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F77A-196F-4043-BCA0-C4F3326282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CustomShape 2"/>
          <p:cNvSpPr/>
          <p:nvPr/>
        </p:nvSpPr>
        <p:spPr>
          <a:xfrm>
            <a:off x="30492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home pag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chair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wgchair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and IEEE 802 procedural documen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evdoc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IEEE 802 WG and TAG pag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www.ieee802.org/dots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Links to these slides and IEEE 802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  <a:ea typeface="DejaVu Sans"/>
              </a:rPr>
              <a:t>http://ieee802.org/orientation.s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149B-17D9-4A73-96B8-2D9FB4A2ED0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ustomShape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troduction to IEEE 8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C8074-D671-46B2-AC49-893EB8445A9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CustomShape 1"/>
          <p:cNvSpPr/>
          <p:nvPr/>
        </p:nvSpPr>
        <p:spPr>
          <a:xfrm>
            <a:off x="1295280" y="274680"/>
            <a:ext cx="5639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Who we 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ustomShape 2"/>
          <p:cNvSpPr/>
          <p:nvPr/>
        </p:nvSpPr>
        <p:spPr>
          <a:xfrm>
            <a:off x="457200" y="1600200"/>
            <a:ext cx="57913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Project 802 LAN/MAN Standards Committee (aka IEEE 802 or LMS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Develop LAN and MAN stand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Mainly for link and physical layers of the network st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n operation since March 198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stomShape 3"/>
          <p:cNvSpPr/>
          <p:nvPr/>
        </p:nvSpPr>
        <p:spPr>
          <a:xfrm>
            <a:off x="6781680" y="4876920"/>
            <a:ext cx="167652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ustomShape 4"/>
          <p:cNvSpPr/>
          <p:nvPr/>
        </p:nvSpPr>
        <p:spPr>
          <a:xfrm>
            <a:off x="7010280" y="2057400"/>
            <a:ext cx="1219320" cy="2819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CustomShape 5"/>
          <p:cNvSpPr/>
          <p:nvPr/>
        </p:nvSpPr>
        <p:spPr>
          <a:xfrm>
            <a:off x="6783480" y="1371600"/>
            <a:ext cx="1579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OSI Refere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CustomShape 6"/>
          <p:cNvSpPr/>
          <p:nvPr/>
        </p:nvSpPr>
        <p:spPr>
          <a:xfrm>
            <a:off x="7075440" y="2133720"/>
            <a:ext cx="105084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ustomShape 7"/>
          <p:cNvSpPr/>
          <p:nvPr/>
        </p:nvSpPr>
        <p:spPr>
          <a:xfrm>
            <a:off x="7010280" y="2535120"/>
            <a:ext cx="117972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ustomShape 8"/>
          <p:cNvSpPr/>
          <p:nvPr/>
        </p:nvSpPr>
        <p:spPr>
          <a:xfrm>
            <a:off x="7194600" y="293832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Sess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ustomShape 9"/>
          <p:cNvSpPr/>
          <p:nvPr/>
        </p:nvSpPr>
        <p:spPr>
          <a:xfrm>
            <a:off x="7132680" y="3341520"/>
            <a:ext cx="93492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ustomShape 10"/>
          <p:cNvSpPr/>
          <p:nvPr/>
        </p:nvSpPr>
        <p:spPr>
          <a:xfrm>
            <a:off x="7183440" y="3743280"/>
            <a:ext cx="8334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CustomShape 11"/>
          <p:cNvSpPr/>
          <p:nvPr/>
        </p:nvSpPr>
        <p:spPr>
          <a:xfrm>
            <a:off x="7132680" y="4146480"/>
            <a:ext cx="9316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Data Lin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ustomShape 12"/>
          <p:cNvSpPr/>
          <p:nvPr/>
        </p:nvSpPr>
        <p:spPr>
          <a:xfrm>
            <a:off x="7178760" y="4549680"/>
            <a:ext cx="842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ustomShape 13"/>
          <p:cNvSpPr/>
          <p:nvPr/>
        </p:nvSpPr>
        <p:spPr>
          <a:xfrm>
            <a:off x="7192800" y="4952880"/>
            <a:ext cx="8128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7010280" y="25146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7010280" y="28954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7010280" y="32767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7010280" y="373392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7010280" y="4114800"/>
            <a:ext cx="1219320" cy="144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7010280" y="4495680"/>
            <a:ext cx="1219320" cy="1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219196" h="1591">
                <a:moveTo>
                  <a:pt x="0" y="0"/>
                </a:moveTo>
                <a:lnTo>
                  <a:pt x="1219196" y="159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6095880" y="4114800"/>
            <a:ext cx="838440" cy="1440"/>
          </a:xfrm>
          <a:custGeom>
            <a:avLst/>
            <a:gdLst>
              <a:gd name="textAreaLeft" fmla="*/ 0 w 838440"/>
              <a:gd name="textAreaRight" fmla="*/ 838800 w 838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838203" h="1591">
                <a:moveTo>
                  <a:pt x="0" y="0"/>
                </a:moveTo>
                <a:lnTo>
                  <a:pt x="838203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6248520" y="5334120"/>
            <a:ext cx="457200" cy="1440"/>
          </a:xfrm>
          <a:custGeom>
            <a:avLst/>
            <a:gdLst>
              <a:gd name="textAreaLeft" fmla="*/ 0 w 457200"/>
              <a:gd name="textAreaRight" fmla="*/ 457560 w 4572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457200" h="1591">
                <a:moveTo>
                  <a:pt x="0" y="0"/>
                </a:moveTo>
                <a:lnTo>
                  <a:pt x="457200" y="1591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ustomShape 22"/>
          <p:cNvSpPr/>
          <p:nvPr/>
        </p:nvSpPr>
        <p:spPr>
          <a:xfrm>
            <a:off x="6173640" y="4343400"/>
            <a:ext cx="702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EDF8-08AD-4CB0-86AD-8BE981034A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CustomShape 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IEEE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DejaVu Sans"/>
              </a:rPr>
              <a:t>Orga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429000" y="533520"/>
            <a:ext cx="5030640" cy="5638680"/>
          </a:xfrm>
          <a:prstGeom prst="rect">
            <a:avLst/>
          </a:prstGeom>
          <a:ln w="0">
            <a:noFill/>
          </a:ln>
        </p:spPr>
      </p:pic>
      <p:sp>
        <p:nvSpPr>
          <p:cNvPr id="126" name="CustomShape 2"/>
          <p:cNvSpPr/>
          <p:nvPr/>
        </p:nvSpPr>
        <p:spPr>
          <a:xfrm>
            <a:off x="7315200" y="5334120"/>
            <a:ext cx="1143000" cy="914400"/>
          </a:xfrm>
          <a:prstGeom prst="rect">
            <a:avLst/>
          </a:prstGeom>
          <a:noFill/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stomShape 3"/>
          <p:cNvSpPr/>
          <p:nvPr/>
        </p:nvSpPr>
        <p:spPr>
          <a:xfrm>
            <a:off x="839880" y="4800600"/>
            <a:ext cx="25556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EEE 802 is he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 standards committe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formed by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Computer Socie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2819520" y="5029200"/>
            <a:ext cx="4495680" cy="609480"/>
          </a:xfrm>
          <a:custGeom>
            <a:avLst/>
            <a:gdLst>
              <a:gd name="textAreaLeft" fmla="*/ 0 w 4495680"/>
              <a:gd name="textAreaRight" fmla="*/ 4496040 w 44956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4495803" h="609603">
                <a:moveTo>
                  <a:pt x="0" y="0"/>
                </a:moveTo>
                <a:lnTo>
                  <a:pt x="4495803" y="609603"/>
                </a:lnTo>
              </a:path>
            </a:pathLst>
          </a:custGeom>
          <a:noFill/>
          <a:ln w="28440">
            <a:solidFill>
              <a:srgbClr val="3399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ustomShape 5"/>
          <p:cNvSpPr/>
          <p:nvPr/>
        </p:nvSpPr>
        <p:spPr>
          <a:xfrm>
            <a:off x="3049560" y="350532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Nes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038480" y="3809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685800" h="152403">
                <a:moveTo>
                  <a:pt x="0" y="0"/>
                </a:moveTo>
                <a:lnTo>
                  <a:pt x="685800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ustomShape 7"/>
          <p:cNvSpPr/>
          <p:nvPr/>
        </p:nvSpPr>
        <p:spPr>
          <a:xfrm>
            <a:off x="7240680" y="342900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aka Rev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Line 8"/>
          <p:cNvSpPr/>
          <p:nvPr/>
        </p:nvSpPr>
        <p:spPr>
          <a:xfrm flipH="1">
            <a:off x="7084440" y="3733920"/>
            <a:ext cx="841320" cy="152280"/>
          </a:xfrm>
          <a:custGeom>
            <a:avLst/>
            <a:gdLst>
              <a:gd name="textAreaLeft" fmla="*/ -360 w 841320"/>
              <a:gd name="textAreaRight" fmla="*/ 841320 w 841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841376" h="152403">
                <a:moveTo>
                  <a:pt x="0" y="0"/>
                </a:moveTo>
                <a:lnTo>
                  <a:pt x="841376" y="152403"/>
                </a:lnTo>
              </a:path>
            </a:pathLst>
          </a:custGeom>
          <a:noFill/>
          <a:ln w="381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619D-1A95-4EDB-A4AF-76EB75B892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has two types of standards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Individual method or Entity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IEEE 802’s projects use the Individual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Voter’s are individuals, not entities (e.g. compani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A1DA-00E6-4002-9172-FDCBC09A976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Som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CustomShape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AR – project authorization request – the document that authorizes work on a projec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WG - Working group – responsible for developing standards in an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G – Technical Advisory Group – experts on a topic area that crosses working group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DejaVu Sans"/>
              </a:rPr>
              <a:t>Task group or task force – a part of a working group which focuses on a particular projec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7104-7E70-4E4C-87FC-9D8F6EF8880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All those dots….decoder 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CustomShape 2"/>
          <p:cNvSpPr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    Bridging and Architecture – generally the top of the link 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3    Ethern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1  Wireless LAN (WL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5  Wireless Specialty Network (WS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6  Broadband Wireless Access (BWA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8  Radio Regulatory TAG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19  Coexist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1  Media Independent Handov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2  Wireless Regional Area Networks (WRA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802.24  Vertical Applications T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836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CustomShape 3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426D-8423-4BC0-8D84-56E917C67D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CustomShape 1"/>
          <p:cNvSpPr/>
          <p:nvPr/>
        </p:nvSpPr>
        <p:spPr>
          <a:xfrm>
            <a:off x="1295280" y="2746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DejaVu Sans"/>
              </a:rPr>
              <a:t>IEEE 802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CustomShape 2"/>
          <p:cNvSpPr/>
          <p:nvPr/>
        </p:nvSpPr>
        <p:spPr>
          <a:xfrm>
            <a:off x="1685880" y="202248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Davi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CustomShape 4"/>
          <p:cNvSpPr/>
          <p:nvPr/>
        </p:nvSpPr>
        <p:spPr>
          <a:xfrm>
            <a:off x="1685880" y="29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oger Ma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CustomShape 6"/>
          <p:cNvSpPr/>
          <p:nvPr/>
        </p:nvSpPr>
        <p:spPr>
          <a:xfrm>
            <a:off x="3156120" y="2016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drian Steph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CustomShape 8"/>
          <p:cNvSpPr/>
          <p:nvPr/>
        </p:nvSpPr>
        <p:spPr>
          <a:xfrm>
            <a:off x="219240" y="20224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High Level Interf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Glenn Pars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CustomShape 10"/>
          <p:cNvSpPr/>
          <p:nvPr/>
        </p:nvSpPr>
        <p:spPr>
          <a:xfrm>
            <a:off x="568440" y="1681200"/>
            <a:ext cx="281304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orking Group/TAG Chai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CustomShape 19"/>
          <p:cNvSpPr/>
          <p:nvPr/>
        </p:nvSpPr>
        <p:spPr>
          <a:xfrm>
            <a:off x="6554880" y="2411280"/>
            <a:ext cx="20080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CustomShape 20"/>
          <p:cNvSpPr/>
          <p:nvPr/>
        </p:nvSpPr>
        <p:spPr>
          <a:xfrm>
            <a:off x="5105520" y="1301760"/>
            <a:ext cx="1317600" cy="544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ul Nikoli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CustomShape 22"/>
          <p:cNvSpPr/>
          <p:nvPr/>
        </p:nvSpPr>
        <p:spPr>
          <a:xfrm>
            <a:off x="1600200" y="1341360"/>
            <a:ext cx="3446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COMMITTEE (E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CustomShape 23"/>
          <p:cNvSpPr/>
          <p:nvPr/>
        </p:nvSpPr>
        <p:spPr>
          <a:xfrm>
            <a:off x="219240" y="292428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5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S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Bob Hei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CustomShape 25"/>
          <p:cNvSpPr/>
          <p:nvPr/>
        </p:nvSpPr>
        <p:spPr>
          <a:xfrm>
            <a:off x="3156120" y="29257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8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io Regul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ich Kenne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CustomShape 35"/>
          <p:cNvSpPr/>
          <p:nvPr/>
        </p:nvSpPr>
        <p:spPr>
          <a:xfrm>
            <a:off x="219240" y="558324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333399"/>
                </a:solidFill>
                <a:uFillTx/>
                <a:latin typeface="Times New Roman"/>
                <a:ea typeface="DejaVu Sans"/>
              </a:rPr>
              <a:t>DISB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2 LLC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4 Token Bu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5 Token  Rin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6 DQDB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7 Broadband TAG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8 Fiber Optic TAG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9 ISLAN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                        802.10 Securit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2 Demand Priority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4 CATV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802.17 Resilient Packet Ring 802.23 Emergency Services </a:t>
            </a:r>
            <a:r>
              <a:rPr b="0" lang="en-US" sz="1200" spc="-1" strike="noStrike">
                <a:solidFill>
                  <a:srgbClr val="333399"/>
                </a:solidFill>
                <a:latin typeface="Times New Roman"/>
                <a:ea typeface="DejaVu San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CustomShape 40"/>
          <p:cNvSpPr/>
          <p:nvPr/>
        </p:nvSpPr>
        <p:spPr>
          <a:xfrm>
            <a:off x="4591080" y="2413080"/>
            <a:ext cx="1511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Hiberna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WG Chai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CustomShape 45"/>
          <p:cNvSpPr/>
          <p:nvPr/>
        </p:nvSpPr>
        <p:spPr>
          <a:xfrm>
            <a:off x="6527880" y="5226120"/>
            <a:ext cx="200808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Appointed Offic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(non vo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CustomShape 4"/>
          <p:cNvSpPr/>
          <p:nvPr/>
        </p:nvSpPr>
        <p:spPr>
          <a:xfrm>
            <a:off x="1685880" y="38257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1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dia indep. hand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Subir 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CustomShape 25"/>
          <p:cNvSpPr/>
          <p:nvPr/>
        </p:nvSpPr>
        <p:spPr>
          <a:xfrm>
            <a:off x="3156120" y="3833640"/>
            <a:ext cx="1349280" cy="75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2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WR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Apurva M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CustomShape 6"/>
          <p:cNvSpPr/>
          <p:nvPr/>
        </p:nvSpPr>
        <p:spPr>
          <a:xfrm>
            <a:off x="4672080" y="324000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B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Radhakrishn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anch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CustomShape 23"/>
          <p:cNvSpPr/>
          <p:nvPr/>
        </p:nvSpPr>
        <p:spPr>
          <a:xfrm>
            <a:off x="219240" y="47275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24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Vertical Applica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im Godfr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CustomShape 23"/>
          <p:cNvSpPr/>
          <p:nvPr/>
        </p:nvSpPr>
        <p:spPr>
          <a:xfrm>
            <a:off x="219240" y="3825720"/>
            <a:ext cx="135072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802.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oexist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Steve Shellham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CustomShape 6"/>
          <p:cNvSpPr/>
          <p:nvPr/>
        </p:nvSpPr>
        <p:spPr>
          <a:xfrm>
            <a:off x="6164280" y="27655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1st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Pat Tha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CustomShape 6"/>
          <p:cNvSpPr/>
          <p:nvPr/>
        </p:nvSpPr>
        <p:spPr>
          <a:xfrm>
            <a:off x="7656480" y="2765520"/>
            <a:ext cx="13492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2nd VICE CH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ames P.K. Gil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CustomShape 6"/>
          <p:cNvSpPr/>
          <p:nvPr/>
        </p:nvSpPr>
        <p:spPr>
          <a:xfrm>
            <a:off x="6164280" y="3618000"/>
            <a:ext cx="13510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EXECUTIVE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n Rosdah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CustomShape 6"/>
          <p:cNvSpPr/>
          <p:nvPr/>
        </p:nvSpPr>
        <p:spPr>
          <a:xfrm>
            <a:off x="7656480" y="3618000"/>
            <a:ext cx="1349280" cy="75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DejaVu Sans"/>
              </a:rPr>
              <a:t>RECORDING SE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John D’Ambros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CustomShape 6"/>
          <p:cNvSpPr/>
          <p:nvPr/>
        </p:nvSpPr>
        <p:spPr>
          <a:xfrm>
            <a:off x="6164280" y="4471920"/>
            <a:ext cx="135108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TREASUR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Clint Chap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CustomShape 6"/>
          <p:cNvSpPr/>
          <p:nvPr/>
        </p:nvSpPr>
        <p:spPr>
          <a:xfrm>
            <a:off x="6883560" y="5757840"/>
            <a:ext cx="13492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MEMBER EMERIT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DejaVu Sans"/>
              </a:rPr>
              <a:t>Geoff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8229600" y="6245280"/>
            <a:ext cx="4557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4FDB-81AF-4D00-8F68-901DE7CCB05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5:50:17Z</dcterms:created>
  <dc:creator>Charlie Perkins</dc:creator>
  <dc:description/>
  <dc:language>en-US</dc:language>
  <cp:lastModifiedBy>Pat Thaler</cp:lastModifiedBy>
  <cp:lastPrinted>2015-07-01T18:38:20Z</cp:lastPrinted>
  <dcterms:modified xsi:type="dcterms:W3CDTF">2017-07-05T19:15:36Z</dcterms:modified>
  <cp:revision>7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363374286</vt:lpwstr>
  </property>
</Properties>
</file>