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803160" y="4893840"/>
            <a:ext cx="64152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hdr"/>
          </p:nvPr>
        </p:nvSpPr>
        <p:spPr>
          <a:xfrm>
            <a:off x="-360" y="-360"/>
            <a:ext cx="34815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3"/>
          </p:nvPr>
        </p:nvSpPr>
        <p:spPr>
          <a:xfrm>
            <a:off x="4540320" y="-360"/>
            <a:ext cx="34797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4"/>
          </p:nvPr>
        </p:nvSpPr>
        <p:spPr>
          <a:xfrm>
            <a:off x="-360" y="9789840"/>
            <a:ext cx="34815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5"/>
          </p:nvPr>
        </p:nvSpPr>
        <p:spPr>
          <a:xfrm>
            <a:off x="4540320" y="9789840"/>
            <a:ext cx="34797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7EA8-13A7-4AAA-96F7-453CF7E7F0E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Img"/>
          </p:nvPr>
        </p:nvSpPr>
        <p:spPr>
          <a:xfrm>
            <a:off x="0" y="71208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297B-35E3-44B0-891A-F06F6897441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E080-D950-45FE-AD5A-7AFA2B6E94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540320" y="9790200"/>
            <a:ext cx="34797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7367-D968-4E38-893E-40A11F5E56A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 Box 1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72F8-C9A9-42FD-9130-46DEDA92DF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Text Box 2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B862-64D3-469E-8089-8B21058D7B8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599B-C8E8-4B38-875F-7A85200D23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2780-98B1-454F-A109-ECC518C873B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F9A6-9CC9-4905-97C2-28C0BCFAE5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8C81-E063-4EDB-B098-9B5BC413F9F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161A-0A81-47F9-B6F0-B46634076E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540320" y="9790200"/>
            <a:ext cx="34797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D5B1-D411-4E6F-981A-C1CFFB3E67C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 Box 1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C405-38BC-4E8C-8038-3819741824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DFE4-D8C2-44F3-8B63-1079E3F83C1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99C0-F1F5-4D44-B0A9-75AD6F010B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540320" y="9790200"/>
            <a:ext cx="34797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CC64-C09F-47A6-A058-70BB67FF14F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Text Box 1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B8091-30C8-4C77-9B32-E86219FBE5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540320" y="9790200"/>
            <a:ext cx="34797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475A-41EB-4BB5-BE1D-71A7D8BAA3CE}" type="slidenum"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 Box 1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0DA7-81DD-4A5B-8966-107FE17DBE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 Box 2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BCF8-A20D-46E5-A0B1-9E39FD6A71A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4A93-6384-443C-9454-B8F1FF21F7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540320" y="9790200"/>
            <a:ext cx="34797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3281-3A56-4A4C-BF32-C0D95CBF00B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1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4B06-2C92-4CB4-A80C-C8763D93E7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C1C3-5C9A-4346-A5C1-B9FA74DF05A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7A6D-AE10-48EC-8ACB-FDABA815E0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20CC-56B1-4F87-9F2D-0B13D7B4DE2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F718-408E-402F-9F8D-0EB8E82810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48B8-7AC7-41E7-B718-98E6C2A875D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CAF5-D6AE-4EB0-A368-A4C9CF5D4E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9E5B-E574-4DD9-9D13-1D1928C7DDB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C08F-A831-416B-9D5B-0399F0F8A9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0894-5E90-46AA-B841-B3266C722FB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6CCA-9DC2-481A-A544-10FE43A6FD5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CF34-C5E2-4B5D-A291-54855A2F78A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1F468-2FBB-426C-817B-DC08728495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r should show the linked slides as part of this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B5D2-2420-46C2-938F-E4FD2418AB9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AE76-62A0-4283-9206-D80E901EA6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1840-8FCA-4D95-96F9-75BFAC72C78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A606-1064-40D2-B268-8B20212E23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0DE7-2F44-402B-84BE-CBDD7163BB9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4CEA-3A63-4075-BF07-A4856AF0A3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F1E7-EE96-4A76-8F65-67B83BB85F0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B303-3D29-4989-959C-402C74E4A6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0A32-1280-4F23-B6A5-662BF298E76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E829-C5CC-4001-8B96-AB3FA6955B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2D49-4BE3-4793-B866-72C99DBCC01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C9A9-AE5C-4008-8243-519B335726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0128-F10D-4981-A28A-F4DF8AA21F2B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C498-1BBD-4956-99F5-DC78BDFA6D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8C3A-0516-4031-B387-F2265A8D5E5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74DE-D04E-4B45-9450-D09C1FC5050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D9D5-1C95-49F5-83C1-C623ECB9E69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E893-C7BD-4BBC-8A29-CE50A7B2EE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5129-2DC3-4A02-95C4-A3077AE01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9E3C9-3E9D-4366-8531-23D3E4DA5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36AD8-F976-4B5B-8188-9D056FCBE4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0A7BB-973A-43DA-9D70-2B6AE2E4C3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272880"/>
            <a:ext cx="7315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D95E-4E20-4439-8745-EF8CE0BE33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EBC43-474A-425E-AEA1-6BFAB7F0139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371600" y="272880"/>
            <a:ext cx="7315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3441E-FFB9-42AA-9766-176312866A4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8970F-E644-45F3-A249-12953EB0821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ACD64-EE2E-4A1A-8839-1097BCB58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C7905-CF3E-4EDB-BCA7-A298991FFF3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50F52-D09B-4D3B-B815-4CD42804B7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5962F-3108-4780-8549-EB1561F8123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1600" y="272880"/>
            <a:ext cx="7315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0FB0C-5DFF-47A0-A80D-91F5F9D9885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FB042-8A3A-4918-AB39-89F925BF11E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32FED-676C-4B0C-9998-445B9AB909F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A5E08-32FD-4C19-8EE8-9AF9E8DF6D9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86B84-3566-4AEE-AC70-17C85ACD80E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B3DE3-909E-4394-8DA1-EB074B2C9A6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07B90-97C9-42F2-9141-4DF7A8ED1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5EC43-9687-40CA-A745-531337A214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272880"/>
            <a:ext cx="7315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80BE3-CFB5-47FC-B7C2-1AB07A4956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BED35-9EBD-4EB6-88D6-81D0DBC4C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368B5-CF14-46F2-BB9C-3932F013C4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D2E24-2A8A-47A4-AFBE-1B6295781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ustomShap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CustomShap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7B63-D864-4842-8AAD-86B6F1E780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C:\Users\pthaler\802\802exec\IEEE-802-Logo\IEEE 802 Logo RGB-03.png"/>
          <p:cNvPicPr/>
          <p:nvPr/>
        </p:nvPicPr>
        <p:blipFill>
          <a:blip r:embed="rId2"/>
          <a:stretch/>
        </p:blipFill>
        <p:spPr>
          <a:xfrm>
            <a:off x="363600" y="380880"/>
            <a:ext cx="1008000" cy="100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ustomShap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CustomShap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8" descr="C:\Users\pthaler\802\802exec\IEEE-802-Logo\IEEE 802 Logo RGB-03.png"/>
          <p:cNvPicPr/>
          <p:nvPr/>
        </p:nvPicPr>
        <p:blipFill>
          <a:blip r:embed="rId2"/>
          <a:stretch/>
        </p:blipFill>
        <p:spPr>
          <a:xfrm>
            <a:off x="363600" y="380880"/>
            <a:ext cx="1008000" cy="1009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ustomShap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ustomShap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8" descr="C:\Users\pthaler\802\802exec\IEEE-802-Logo\IEEE 802 Logo RGB-03.png"/>
          <p:cNvPicPr/>
          <p:nvPr/>
        </p:nvPicPr>
        <p:blipFill>
          <a:blip r:embed="rId2"/>
          <a:stretch/>
        </p:blipFill>
        <p:spPr>
          <a:xfrm>
            <a:off x="363600" y="380880"/>
            <a:ext cx="1008000" cy="1009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CustomShap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CustomShap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8" descr="C:\Users\pthaler\802\802exec\IEEE-802-Logo\IEEE 802 Logo RGB-03.png"/>
          <p:cNvPicPr/>
          <p:nvPr/>
        </p:nvPicPr>
        <p:blipFill>
          <a:blip r:embed="rId2"/>
          <a:stretch/>
        </p:blipFill>
        <p:spPr>
          <a:xfrm>
            <a:off x="363600" y="380880"/>
            <a:ext cx="1008000" cy="10098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CFA6-8A76-44E4-B06B-AE889629A35A}" type="slidenum"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tandards.ieee.org/guides/bylaws/sect5.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standards.ieee.org/about/sasb/patcom/materials.html" TargetMode="External"/><Relationship Id="rId2" Type="http://schemas.openxmlformats.org/officeDocument/2006/relationships/hyperlink" Target="https://mentor.ieee.org/802-ec/dcn/16/ec-16-0180-04-00EC-ieee-802-participation-slide.pptx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CustomShape 1"/>
          <p:cNvSpPr/>
          <p:nvPr/>
        </p:nvSpPr>
        <p:spPr>
          <a:xfrm>
            <a:off x="685800" y="990720"/>
            <a:ext cx="777240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  <a:ea typeface="DejaVu Sans"/>
              </a:rPr>
              <a:t>Welcome to IEEE 802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DejaVu Sans"/>
              </a:rPr>
              <a:t>  Newcomer Ori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CustomShape 2"/>
          <p:cNvSpPr/>
          <p:nvPr/>
        </p:nvSpPr>
        <p:spPr>
          <a:xfrm>
            <a:off x="1371600" y="3048120"/>
            <a:ext cx="640080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www.ieee802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CustomShape 3"/>
          <p:cNvSpPr/>
          <p:nvPr/>
        </p:nvSpPr>
        <p:spPr>
          <a:xfrm>
            <a:off x="1371600" y="380988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DejaVu Sans"/>
              </a:rPr>
              <a:t>IEEE 802 Plenary S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DejaVu Sans"/>
              </a:rPr>
              <a:t>Last updated, 3 July 20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"/>
          <p:cNvSpPr/>
          <p:nvPr/>
        </p:nvSpPr>
        <p:spPr>
          <a:xfrm>
            <a:off x="2819520" y="525780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</a:rPr>
              <a:t>Draf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12952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DejaVu Sans"/>
              </a:rPr>
              <a:t>General structure of the we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94"/>
          <p:cNvSpPr/>
          <p:nvPr/>
        </p:nvSpPr>
        <p:spPr>
          <a:xfrm>
            <a:off x="394920" y="6046920"/>
            <a:ext cx="84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Check WG agendas for details – there is some variation between group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69720" y="1295280"/>
          <a:ext cx="8064720" cy="4703760"/>
        </p:xfrm>
        <a:graphic>
          <a:graphicData uri="http://schemas.openxmlformats.org/drawingml/2006/table">
            <a:tbl>
              <a:tblPr/>
              <a:tblGrid>
                <a:gridCol w="520920"/>
                <a:gridCol w="1332000"/>
                <a:gridCol w="1892160"/>
                <a:gridCol w="914400"/>
                <a:gridCol w="1066680"/>
                <a:gridCol w="1143000"/>
                <a:gridCol w="1195560"/>
              </a:tblGrid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8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task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ce/group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reless new member or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ing 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2 new comer ori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G opening plenaries (mos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sk force/group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W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-week plen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sk force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W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osing plen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ining WG opening plen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sk force/group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WG closing plen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F/TG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osing 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to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F/TG mt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WG closing plen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CustomShape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Introduction to IEEE standards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CustomShape 1"/>
          <p:cNvSpPr/>
          <p:nvPr/>
        </p:nvSpPr>
        <p:spPr>
          <a:xfrm>
            <a:off x="1295280" y="2746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Principles of th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ustomShap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Due process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ocedures are publicly available and followed consisten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Consensus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requiring agreement of a majority or supermajority – for technical decisions here ≥7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Openness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ensuring materially interested and affected parties can particip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Balanc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representation from all interested parties without overwhelming influence from any one pa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Right of appe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ocess to ensure due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CustomShape 1"/>
          <p:cNvSpPr/>
          <p:nvPr/>
        </p:nvSpPr>
        <p:spPr>
          <a:xfrm>
            <a:off x="1295280" y="2746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More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CustomShap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CFI – Call for interest – a brief meeting to outline a topic and determine if there is interest in investigating possible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Study Group – a group formed to investigate a project and produce a P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Criteria for Standards Development (CSD) – In IEEE 802 the basis for determining whether to forward a P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Five Criteria – a subset of the CS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1"/>
          <p:cNvSpPr/>
          <p:nvPr/>
        </p:nvSpPr>
        <p:spPr>
          <a:xfrm>
            <a:off x="1447920" y="190440"/>
            <a:ext cx="72388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DejaVu Sans"/>
              </a:rPr>
              <a:t>IEEE 802 standards development life cycle – par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990720" y="1676520"/>
            <a:ext cx="213336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all for Intere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CF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990720" y="3352680"/>
            <a:ext cx="21333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tudy Group investigates forming a project; produces PAR and CS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2134080" y="297180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dequate interes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990720" y="5334120"/>
            <a:ext cx="213336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Working Group and EC re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5219640" y="1752480"/>
            <a:ext cx="182880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NesCom &amp; Standards Board re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7" name="AutoShape 9"/>
          <p:cNvCxnSpPr>
            <a:stCxn id="255" idx="3"/>
            <a:endCxn id="256" idx="1"/>
          </p:cNvCxnSpPr>
          <p:nvPr/>
        </p:nvCxnSpPr>
        <p:spPr>
          <a:xfrm flipV="1">
            <a:off x="3123720" y="2285640"/>
            <a:ext cx="2096280" cy="3620160"/>
          </a:xfrm>
          <a:prstGeom prst="bentConnector3">
            <a:avLst>
              <a:gd name="adj1" fmla="val 6159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8" name="Text Box 10"/>
          <p:cNvSpPr/>
          <p:nvPr/>
        </p:nvSpPr>
        <p:spPr>
          <a:xfrm>
            <a:off x="3194640" y="5918040"/>
            <a:ext cx="26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f EC approv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orward PAR to Nes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5029200" y="3657600"/>
            <a:ext cx="22096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tart work in Working 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0" name="AutoShape 12"/>
          <p:cNvCxnSpPr>
            <a:stCxn id="256" idx="2"/>
            <a:endCxn id="259" idx="0"/>
          </p:cNvCxnSpPr>
          <p:nvPr/>
        </p:nvCxnSpPr>
        <p:spPr>
          <a:xfrm>
            <a:off x="6133680" y="2819520"/>
            <a:ext cx="108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" name="Text Box 13"/>
          <p:cNvSpPr/>
          <p:nvPr/>
        </p:nvSpPr>
        <p:spPr>
          <a:xfrm>
            <a:off x="6327720" y="289548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tandards Bo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pprov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2" name="Straight Arrow Connector 15"/>
          <p:cNvCxnSpPr>
            <a:stCxn id="252" idx="2"/>
            <a:endCxn id="253" idx="0"/>
          </p:cNvCxnSpPr>
          <p:nvPr/>
        </p:nvCxnSpPr>
        <p:spPr>
          <a:xfrm>
            <a:off x="2057040" y="2971800"/>
            <a:ext cx="108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Straight Arrow Connector 18"/>
          <p:cNvCxnSpPr>
            <a:stCxn id="253" idx="2"/>
            <a:endCxn id="255" idx="0"/>
          </p:cNvCxnSpPr>
          <p:nvPr/>
        </p:nvCxnSpPr>
        <p:spPr>
          <a:xfrm>
            <a:off x="2057040" y="4952520"/>
            <a:ext cx="108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12"/>
          <p:cNvCxnSpPr>
            <a:stCxn id="259" idx="2"/>
          </p:cNvCxnSpPr>
          <p:nvPr/>
        </p:nvCxnSpPr>
        <p:spPr>
          <a:xfrm>
            <a:off x="6133680" y="5029200"/>
            <a:ext cx="1080" cy="835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5"/>
          <p:cNvSpPr/>
          <p:nvPr/>
        </p:nvSpPr>
        <p:spPr>
          <a:xfrm>
            <a:off x="2144160" y="4952880"/>
            <a:ext cx="21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AR &amp; CSD read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CustomShape 1"/>
          <p:cNvSpPr/>
          <p:nvPr/>
        </p:nvSpPr>
        <p:spPr>
          <a:xfrm>
            <a:off x="1295280" y="2746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DejaVu Sans"/>
              </a:rPr>
              <a:t>IEEE 802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DejaVu Sans"/>
              </a:rPr>
              <a:t>criteria for standards development (CS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ustomShap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55760" indent="-45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Project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43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Managed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43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Coexistence (for a wireless proj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Five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43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Broad Market Poten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43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Compat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43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Distinct Ident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43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Technical Fea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43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Economic Fea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1447920" y="190440"/>
            <a:ext cx="72388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DejaVu Sans"/>
              </a:rPr>
              <a:t>IEEE 802 standards development life cycle – part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992160" y="1752480"/>
            <a:ext cx="213372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eview propos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990720" y="3479760"/>
            <a:ext cx="213336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reate and refine draf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2136960" y="478152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Draft complet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954000" y="5257800"/>
            <a:ext cx="22100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Working Group ball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4800600" y="1752480"/>
            <a:ext cx="251460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eview ballot comments, modify draft  as nee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4" name="AutoShape 9"/>
          <p:cNvCxnSpPr>
            <a:stCxn id="272" idx="3"/>
            <a:endCxn id="273" idx="1"/>
          </p:cNvCxnSpPr>
          <p:nvPr/>
        </p:nvCxnSpPr>
        <p:spPr>
          <a:xfrm flipV="1">
            <a:off x="3164040" y="2285280"/>
            <a:ext cx="1637280" cy="3544200"/>
          </a:xfrm>
          <a:prstGeom prst="bentConnector3">
            <a:avLst>
              <a:gd name="adj1" fmla="val 6619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5" name="Rectangle 10"/>
          <p:cNvSpPr/>
          <p:nvPr/>
        </p:nvSpPr>
        <p:spPr>
          <a:xfrm>
            <a:off x="6226200" y="3349800"/>
            <a:ext cx="220968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ecirculate chang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nd disappro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2212920" y="304812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terial selecte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7" name="AutoShape 13"/>
          <p:cNvCxnSpPr>
            <a:stCxn id="273" idx="3"/>
            <a:endCxn id="275" idx="3"/>
          </p:cNvCxnSpPr>
          <p:nvPr/>
        </p:nvCxnSpPr>
        <p:spPr>
          <a:xfrm>
            <a:off x="7314840" y="2286000"/>
            <a:ext cx="1121400" cy="1635840"/>
          </a:xfrm>
          <a:prstGeom prst="bentConnector3">
            <a:avLst>
              <a:gd name="adj1" fmla="val 13670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AutoShape 14"/>
          <p:cNvCxnSpPr>
            <a:stCxn id="275" idx="1"/>
          </p:cNvCxnSpPr>
          <p:nvPr/>
        </p:nvCxnSpPr>
        <p:spPr>
          <a:xfrm rot="10800000">
            <a:off x="5844600" y="2815560"/>
            <a:ext cx="381600" cy="11055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9" name="Text Box 15"/>
          <p:cNvSpPr/>
          <p:nvPr/>
        </p:nvSpPr>
        <p:spPr>
          <a:xfrm>
            <a:off x="7448400" y="1604880"/>
            <a:ext cx="156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Changes or new disappro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Line 16"/>
          <p:cNvSpPr/>
          <p:nvPr/>
        </p:nvSpPr>
        <p:spPr>
          <a:xfrm>
            <a:off x="5410080" y="2819520"/>
            <a:ext cx="1800" cy="2133360"/>
          </a:xfrm>
          <a:custGeom>
            <a:avLst/>
            <a:gdLst>
              <a:gd name="textAreaLeft" fmla="*/ 0 w 1800"/>
              <a:gd name="textAreaRight" fmla="*/ 2160 w 180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1591" h="2133596">
                <a:moveTo>
                  <a:pt x="0" y="0"/>
                </a:moveTo>
                <a:lnTo>
                  <a:pt x="1591" y="2133596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 Box 17"/>
          <p:cNvSpPr/>
          <p:nvPr/>
        </p:nvSpPr>
        <p:spPr>
          <a:xfrm>
            <a:off x="5133960" y="4952880"/>
            <a:ext cx="344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No changes and no ne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disapproves, ≥75% approve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Working Group approv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orwarding to sponsor ballo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2" name="AutoShape 14"/>
          <p:cNvCxnSpPr>
            <a:stCxn id="269" idx="2"/>
            <a:endCxn id="270" idx="0"/>
          </p:cNvCxnSpPr>
          <p:nvPr/>
        </p:nvCxnSpPr>
        <p:spPr>
          <a:xfrm rot="5400000">
            <a:off x="1841760" y="3263040"/>
            <a:ext cx="43236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14"/>
          <p:cNvCxnSpPr>
            <a:stCxn id="270" idx="2"/>
            <a:endCxn id="272" idx="0"/>
          </p:cNvCxnSpPr>
          <p:nvPr/>
        </p:nvCxnSpPr>
        <p:spPr>
          <a:xfrm flipH="1" rot="16200000">
            <a:off x="1816560" y="5015160"/>
            <a:ext cx="48348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AutoShape 14"/>
          <p:cNvCxnSpPr>
            <a:endCxn id="269" idx="0"/>
          </p:cNvCxnSpPr>
          <p:nvPr/>
        </p:nvCxnSpPr>
        <p:spPr>
          <a:xfrm rot="5400000">
            <a:off x="1933200" y="1626840"/>
            <a:ext cx="250920" cy="108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"/>
          <p:cNvSpPr/>
          <p:nvPr/>
        </p:nvSpPr>
        <p:spPr>
          <a:xfrm>
            <a:off x="1523880" y="190440"/>
            <a:ext cx="7162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DejaVu Sans"/>
              </a:rPr>
              <a:t>IEEE 802 standards development life cycle – part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990720" y="1752480"/>
            <a:ext cx="213336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equest EC approval to forward to sponsor ball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990720" y="3352680"/>
            <a:ext cx="213336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ponsor ballo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Line 4"/>
          <p:cNvSpPr/>
          <p:nvPr/>
        </p:nvSpPr>
        <p:spPr>
          <a:xfrm>
            <a:off x="2057400" y="3048120"/>
            <a:ext cx="1440" cy="304560"/>
          </a:xfrm>
          <a:custGeom>
            <a:avLst/>
            <a:gdLst>
              <a:gd name="textAreaLeft" fmla="*/ 0 w 1440"/>
              <a:gd name="textAreaRight" fmla="*/ 1800 w 1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591" h="304796">
                <a:moveTo>
                  <a:pt x="0" y="0"/>
                </a:moveTo>
                <a:lnTo>
                  <a:pt x="1591" y="304796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990720" y="4800600"/>
            <a:ext cx="213336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eview ballot comments, modif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draft as nee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2057400" y="4495680"/>
            <a:ext cx="1440" cy="304920"/>
          </a:xfrm>
          <a:custGeom>
            <a:avLst/>
            <a:gdLst>
              <a:gd name="textAreaLeft" fmla="*/ 0 w 1440"/>
              <a:gd name="textAreaRight" fmla="*/ 1800 w 14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591" h="304796">
                <a:moveTo>
                  <a:pt x="0" y="0"/>
                </a:moveTo>
                <a:lnTo>
                  <a:pt x="1591" y="304796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5257800" y="1752480"/>
            <a:ext cx="251460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equest EC approval  to forward to Rev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2" name="AutoShape 8"/>
          <p:cNvCxnSpPr>
            <a:stCxn id="289" idx="3"/>
            <a:endCxn id="287" idx="3"/>
          </p:cNvCxnSpPr>
          <p:nvPr/>
        </p:nvCxnSpPr>
        <p:spPr>
          <a:xfrm flipV="1">
            <a:off x="3124080" y="3924000"/>
            <a:ext cx="13680" cy="1448640"/>
          </a:xfrm>
          <a:prstGeom prst="bentConnector3">
            <a:avLst>
              <a:gd name="adj1" fmla="val 18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3" name="Rectangle 9"/>
          <p:cNvSpPr/>
          <p:nvPr/>
        </p:nvSpPr>
        <p:spPr>
          <a:xfrm>
            <a:off x="5408640" y="3124080"/>
            <a:ext cx="2212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evCom approv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5489640" y="6297480"/>
            <a:ext cx="21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ublished stand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5" name="AutoShape 12"/>
          <p:cNvCxnSpPr>
            <a:endCxn id="286" idx="0"/>
          </p:cNvCxnSpPr>
          <p:nvPr/>
        </p:nvCxnSpPr>
        <p:spPr>
          <a:xfrm>
            <a:off x="762120" y="1523520"/>
            <a:ext cx="1296000" cy="2293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6" name="Text Box 13"/>
          <p:cNvSpPr/>
          <p:nvPr/>
        </p:nvSpPr>
        <p:spPr>
          <a:xfrm>
            <a:off x="3400560" y="427824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Changes or new disappro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3130560" y="5835600"/>
            <a:ext cx="18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No changes and no new disapproves, ≥75% appro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15"/>
          <p:cNvSpPr/>
          <p:nvPr/>
        </p:nvSpPr>
        <p:spPr>
          <a:xfrm>
            <a:off x="5408640" y="4197240"/>
            <a:ext cx="2212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tandards Board approv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9"/>
          <p:cNvSpPr/>
          <p:nvPr/>
        </p:nvSpPr>
        <p:spPr>
          <a:xfrm>
            <a:off x="5408640" y="5257800"/>
            <a:ext cx="2212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repare for publ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 Box 22"/>
          <p:cNvSpPr/>
          <p:nvPr/>
        </p:nvSpPr>
        <p:spPr>
          <a:xfrm>
            <a:off x="2365560" y="304812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C approval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1" name="AutoShape 8"/>
          <p:cNvCxnSpPr>
            <a:stCxn id="289" idx="2"/>
            <a:endCxn id="291" idx="0"/>
          </p:cNvCxnSpPr>
          <p:nvPr/>
        </p:nvCxnSpPr>
        <p:spPr>
          <a:xfrm flipH="1" flipV="1" rot="5400000">
            <a:off x="2189520" y="1618560"/>
            <a:ext cx="4191840" cy="4458600"/>
          </a:xfrm>
          <a:prstGeom prst="bentConnector5">
            <a:avLst>
              <a:gd name="adj1" fmla="val -16576"/>
              <a:gd name="adj2" fmla="val 65705"/>
              <a:gd name="adj3" fmla="val 10544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2" name="Straight Arrow Connector 29"/>
          <p:cNvCxnSpPr>
            <a:stCxn id="291" idx="2"/>
            <a:endCxn id="293" idx="0"/>
          </p:cNvCxnSpPr>
          <p:nvPr/>
        </p:nvCxnSpPr>
        <p:spPr>
          <a:xfrm>
            <a:off x="6514920" y="2819520"/>
            <a:ext cx="1080" cy="30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3" name="Straight Arrow Connector 58"/>
          <p:cNvCxnSpPr>
            <a:stCxn id="293" idx="2"/>
            <a:endCxn id="298" idx="0"/>
          </p:cNvCxnSpPr>
          <p:nvPr/>
        </p:nvCxnSpPr>
        <p:spPr>
          <a:xfrm>
            <a:off x="6514920" y="3886200"/>
            <a:ext cx="1080" cy="311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4" name="Straight Arrow Connector 61"/>
          <p:cNvCxnSpPr>
            <a:stCxn id="298" idx="2"/>
            <a:endCxn id="299" idx="0"/>
          </p:cNvCxnSpPr>
          <p:nvPr/>
        </p:nvCxnSpPr>
        <p:spPr>
          <a:xfrm>
            <a:off x="6514920" y="4959000"/>
            <a:ext cx="1080" cy="29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5" name="Straight Arrow Connector 64"/>
          <p:cNvCxnSpPr>
            <a:stCxn id="299" idx="2"/>
          </p:cNvCxnSpPr>
          <p:nvPr/>
        </p:nvCxnSpPr>
        <p:spPr>
          <a:xfrm>
            <a:off x="6514920" y="6019560"/>
            <a:ext cx="1080" cy="29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CustomShape 1"/>
          <p:cNvSpPr/>
          <p:nvPr/>
        </p:nvSpPr>
        <p:spPr>
          <a:xfrm>
            <a:off x="1295280" y="2746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Standards life cycle – par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CustomShap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And then there is maintaining the 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Keep the standard current by producing amendments and corrigenda (correc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Renew the life of the standard with rev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When the standard is out of date, withdraw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1447920" y="2746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Voting and membe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Voters have responsibility to vote on letter ballo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Three levels of review/voting occur in IEEE 802 standards develop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Task force or task group review or ball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Requirements vary – consult Working grou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Working group ball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Requirements on next 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ponsor ballo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Open to all interested par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Via IEEE SA-membersh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CustomShape 1"/>
          <p:cNvSpPr/>
          <p:nvPr/>
        </p:nvSpPr>
        <p:spPr>
          <a:xfrm>
            <a:off x="1295280" y="2746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CustomShap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Introduction to IEEE 8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Introduction to IEEE standards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Getting more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CustomShape 1"/>
          <p:cNvSpPr/>
          <p:nvPr/>
        </p:nvSpPr>
        <p:spPr>
          <a:xfrm>
            <a:off x="1523880" y="190440"/>
            <a:ext cx="7162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DejaVu Sans"/>
              </a:rPr>
              <a:t>Acquiring Working Group voting member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CustomShap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Participating at a meeting = at least 75% pres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For a new Working Group, persons participating in the initial meeting become memb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For an existing Working Group, after attending 2 of last 4 plenary sessions or 1 plenary and 1 interim, membership starts at the next plenary attend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May require submitting a letter of int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CustomShape 1"/>
          <p:cNvSpPr/>
          <p:nvPr/>
        </p:nvSpPr>
        <p:spPr>
          <a:xfrm>
            <a:off x="1523880" y="190440"/>
            <a:ext cx="7162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DejaVu Sans"/>
              </a:rPr>
              <a:t>Retaining Working Group voting member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CustomShap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Participate in 2 of the last 4 plenary sess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An interim may substitute for one of the 2 plenary sess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Return working Group letter ball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Membership may be lost for failing to respond or responding abstain for reason other than “lack of technical expertise” to 2 of the last 3  ballo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CustomShape 1"/>
          <p:cNvSpPr/>
          <p:nvPr/>
        </p:nvSpPr>
        <p:spPr>
          <a:xfrm>
            <a:off x="1523880" y="190440"/>
            <a:ext cx="7162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DejaVu Sans"/>
              </a:rPr>
              <a:t>Affil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CustomShap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IEEE-SA Standards Board By-Laws, Section 5.2.1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DejaVu Sans"/>
                <a:hlinkClick r:id="rId1"/>
              </a:rPr>
              <a:t>http://standards.ieee.org/guides/bylaws/sect5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What is affili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You are "affiliated" with any individual or entity that has been, or will be, financially or materially supporting your participation in a particular IEEE standards activi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.g, an individual or organization supporting your participation and/or an emplo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Disclosure of affiliation is requi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very member and participant shall disclose his or her affili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Not excused from compliance with this policy by a conflicting obligation (whether contractual or otherwise) that prohibits disclosure of affili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CustomShape 1"/>
          <p:cNvSpPr/>
          <p:nvPr/>
        </p:nvSpPr>
        <p:spPr>
          <a:xfrm>
            <a:off x="1295280" y="2746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Ground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CustomShape 2"/>
          <p:cNvSpPr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539640" indent="-5396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Respect … give it, get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NO product pit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NO corporate pit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NO pr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NO restrictive notices – presentations must be openly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Silence your cell phone ring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CustomShape 1"/>
          <p:cNvSpPr/>
          <p:nvPr/>
        </p:nvSpPr>
        <p:spPr>
          <a:xfrm>
            <a:off x="304920" y="1996920"/>
            <a:ext cx="8305560" cy="37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DejaVu Sans"/>
              </a:rPr>
              <a:t>IEEE Patent policy see the slide set a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s://standards.ieee.org/about/sasb/patcom/material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DejaVu Sans"/>
              </a:rPr>
              <a:t>IEEE 802 participation see the slide a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DejaVu Sans"/>
                <a:hlinkClick r:id="rId2"/>
              </a:rPr>
              <a:t>https://mentor.ieee.org/802-ec/dcn/16/ec-16-0180-04-00EC-ieee-802-participation-slide.ppt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CustomShape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CustomShape 1"/>
          <p:cNvSpPr/>
          <p:nvPr/>
        </p:nvSpPr>
        <p:spPr>
          <a:xfrm>
            <a:off x="1295280" y="2746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CustomShape 2"/>
          <p:cNvSpPr/>
          <p:nvPr/>
        </p:nvSpPr>
        <p:spPr>
          <a:xfrm>
            <a:off x="30492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IEEE 802 home pag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DejaVu Sans"/>
              </a:rPr>
              <a:t>http://www.ieee802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IEEE 802 chair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DejaVu Sans"/>
              </a:rPr>
              <a:t>http://www.ieee802.org/wgchairs.s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Links to IEEE and IEEE 802 procedural documen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DejaVu Sans"/>
              </a:rPr>
              <a:t>http://www.ieee802.org/devdocs.s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Links to IEEE 802 WG and TAG pag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DejaVu Sans"/>
              </a:rPr>
              <a:t>http://www.ieee802.org/dots.s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Links to these slides and IEEE 802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DejaVu Sans"/>
              </a:rPr>
              <a:t>http://ieee802.org/orientation.s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CustomShape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Introduction to IEEE 8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CustomShape 1"/>
          <p:cNvSpPr/>
          <p:nvPr/>
        </p:nvSpPr>
        <p:spPr>
          <a:xfrm>
            <a:off x="1295280" y="274680"/>
            <a:ext cx="5639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Who we 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CustomShape 2"/>
          <p:cNvSpPr/>
          <p:nvPr/>
        </p:nvSpPr>
        <p:spPr>
          <a:xfrm>
            <a:off x="45720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IEEE Project 802 LAN/MAN Standards Committee (aka IEEE 802 or LMS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Develop LAN and MAN stand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Mainly for link and physical layers of the network st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In operation since March 198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CustomShape 3"/>
          <p:cNvSpPr/>
          <p:nvPr/>
        </p:nvSpPr>
        <p:spPr>
          <a:xfrm>
            <a:off x="6781680" y="4876920"/>
            <a:ext cx="167652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CustomShape 4"/>
          <p:cNvSpPr/>
          <p:nvPr/>
        </p:nvSpPr>
        <p:spPr>
          <a:xfrm>
            <a:off x="7010280" y="2057400"/>
            <a:ext cx="121932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CustomShape 5"/>
          <p:cNvSpPr/>
          <p:nvPr/>
        </p:nvSpPr>
        <p:spPr>
          <a:xfrm>
            <a:off x="6783480" y="1371600"/>
            <a:ext cx="15793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OSI Refere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CustomShape 6"/>
          <p:cNvSpPr/>
          <p:nvPr/>
        </p:nvSpPr>
        <p:spPr>
          <a:xfrm>
            <a:off x="7075440" y="2133720"/>
            <a:ext cx="1050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CustomShape 7"/>
          <p:cNvSpPr/>
          <p:nvPr/>
        </p:nvSpPr>
        <p:spPr>
          <a:xfrm>
            <a:off x="7010280" y="2535120"/>
            <a:ext cx="1179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resent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CustomShape 8"/>
          <p:cNvSpPr/>
          <p:nvPr/>
        </p:nvSpPr>
        <p:spPr>
          <a:xfrm>
            <a:off x="7194600" y="2938320"/>
            <a:ext cx="8128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Sess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CustomShape 9"/>
          <p:cNvSpPr/>
          <p:nvPr/>
        </p:nvSpPr>
        <p:spPr>
          <a:xfrm>
            <a:off x="7132680" y="3341520"/>
            <a:ext cx="9349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CustomShape 10"/>
          <p:cNvSpPr/>
          <p:nvPr/>
        </p:nvSpPr>
        <p:spPr>
          <a:xfrm>
            <a:off x="7183440" y="3743280"/>
            <a:ext cx="8334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CustomShape 11"/>
          <p:cNvSpPr/>
          <p:nvPr/>
        </p:nvSpPr>
        <p:spPr>
          <a:xfrm>
            <a:off x="7132680" y="4146480"/>
            <a:ext cx="9316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Data Lin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CustomShape 12"/>
          <p:cNvSpPr/>
          <p:nvPr/>
        </p:nvSpPr>
        <p:spPr>
          <a:xfrm>
            <a:off x="7178760" y="4549680"/>
            <a:ext cx="8427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CustomShape 13"/>
          <p:cNvSpPr/>
          <p:nvPr/>
        </p:nvSpPr>
        <p:spPr>
          <a:xfrm>
            <a:off x="7192800" y="4952880"/>
            <a:ext cx="8128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7010280" y="2514600"/>
            <a:ext cx="1219320" cy="144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19196" h="1591">
                <a:moveTo>
                  <a:pt x="0" y="0"/>
                </a:moveTo>
                <a:lnTo>
                  <a:pt x="1219196" y="159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Line 15"/>
          <p:cNvSpPr/>
          <p:nvPr/>
        </p:nvSpPr>
        <p:spPr>
          <a:xfrm>
            <a:off x="7010280" y="2895480"/>
            <a:ext cx="1219320" cy="18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219196" h="1591">
                <a:moveTo>
                  <a:pt x="0" y="0"/>
                </a:moveTo>
                <a:lnTo>
                  <a:pt x="1219196" y="159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16"/>
          <p:cNvSpPr/>
          <p:nvPr/>
        </p:nvSpPr>
        <p:spPr>
          <a:xfrm>
            <a:off x="7010280" y="3276720"/>
            <a:ext cx="1219320" cy="144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19196" h="1591">
                <a:moveTo>
                  <a:pt x="0" y="0"/>
                </a:moveTo>
                <a:lnTo>
                  <a:pt x="1219196" y="159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Line 17"/>
          <p:cNvSpPr/>
          <p:nvPr/>
        </p:nvSpPr>
        <p:spPr>
          <a:xfrm>
            <a:off x="7010280" y="3733920"/>
            <a:ext cx="1219320" cy="144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19196" h="1591">
                <a:moveTo>
                  <a:pt x="0" y="0"/>
                </a:moveTo>
                <a:lnTo>
                  <a:pt x="1219196" y="159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Line 18"/>
          <p:cNvSpPr/>
          <p:nvPr/>
        </p:nvSpPr>
        <p:spPr>
          <a:xfrm>
            <a:off x="7010280" y="4114800"/>
            <a:ext cx="1219320" cy="144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19196" h="1591">
                <a:moveTo>
                  <a:pt x="0" y="0"/>
                </a:moveTo>
                <a:lnTo>
                  <a:pt x="1219196" y="159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Line 19"/>
          <p:cNvSpPr/>
          <p:nvPr/>
        </p:nvSpPr>
        <p:spPr>
          <a:xfrm>
            <a:off x="7010280" y="4495680"/>
            <a:ext cx="1219320" cy="18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219196" h="1591">
                <a:moveTo>
                  <a:pt x="0" y="0"/>
                </a:moveTo>
                <a:lnTo>
                  <a:pt x="1219196" y="159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6095880" y="4114800"/>
            <a:ext cx="838440" cy="1440"/>
          </a:xfrm>
          <a:custGeom>
            <a:avLst/>
            <a:gdLst>
              <a:gd name="textAreaLeft" fmla="*/ 0 w 838440"/>
              <a:gd name="textAreaRight" fmla="*/ 838800 w 838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838203" h="1591">
                <a:moveTo>
                  <a:pt x="0" y="0"/>
                </a:moveTo>
                <a:lnTo>
                  <a:pt x="838203" y="1591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Line 21"/>
          <p:cNvSpPr/>
          <p:nvPr/>
        </p:nvSpPr>
        <p:spPr>
          <a:xfrm>
            <a:off x="6248520" y="5334120"/>
            <a:ext cx="457200" cy="1440"/>
          </a:xfrm>
          <a:custGeom>
            <a:avLst/>
            <a:gdLst>
              <a:gd name="textAreaLeft" fmla="*/ 0 w 457200"/>
              <a:gd name="textAreaRight" fmla="*/ 457560 w 4572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7200" h="1591">
                <a:moveTo>
                  <a:pt x="0" y="0"/>
                </a:moveTo>
                <a:lnTo>
                  <a:pt x="457200" y="1591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CustomShape 22"/>
          <p:cNvSpPr/>
          <p:nvPr/>
        </p:nvSpPr>
        <p:spPr>
          <a:xfrm>
            <a:off x="6173640" y="4343400"/>
            <a:ext cx="702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E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CustomShape 1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IEEE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429000" y="533520"/>
            <a:ext cx="5030640" cy="5638680"/>
          </a:xfrm>
          <a:prstGeom prst="rect">
            <a:avLst/>
          </a:prstGeom>
          <a:ln w="0">
            <a:noFill/>
          </a:ln>
        </p:spPr>
      </p:pic>
      <p:sp>
        <p:nvSpPr>
          <p:cNvPr id="204" name="CustomShape 2"/>
          <p:cNvSpPr/>
          <p:nvPr/>
        </p:nvSpPr>
        <p:spPr>
          <a:xfrm>
            <a:off x="7315200" y="5334120"/>
            <a:ext cx="1143000" cy="914400"/>
          </a:xfrm>
          <a:prstGeom prst="rect">
            <a:avLst/>
          </a:prstGeom>
          <a:noFill/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CustomShape 3"/>
          <p:cNvSpPr/>
          <p:nvPr/>
        </p:nvSpPr>
        <p:spPr>
          <a:xfrm>
            <a:off x="839880" y="4800600"/>
            <a:ext cx="25556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EEE 802 is her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 standards committe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ormed by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omputer Socie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2819520" y="5029200"/>
            <a:ext cx="4495680" cy="609480"/>
          </a:xfrm>
          <a:custGeom>
            <a:avLst/>
            <a:gdLst>
              <a:gd name="textAreaLeft" fmla="*/ 0 w 4495680"/>
              <a:gd name="textAreaRight" fmla="*/ 4496040 w 44956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4495803" h="609603">
                <a:moveTo>
                  <a:pt x="0" y="0"/>
                </a:moveTo>
                <a:lnTo>
                  <a:pt x="4495803" y="609603"/>
                </a:lnTo>
              </a:path>
            </a:pathLst>
          </a:custGeom>
          <a:noFill/>
          <a:ln w="28440">
            <a:solidFill>
              <a:srgbClr val="3399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CustomShape 5"/>
          <p:cNvSpPr/>
          <p:nvPr/>
        </p:nvSpPr>
        <p:spPr>
          <a:xfrm>
            <a:off x="3049560" y="350532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ka Nes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4038480" y="3809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685800" h="152403">
                <a:moveTo>
                  <a:pt x="0" y="0"/>
                </a:moveTo>
                <a:lnTo>
                  <a:pt x="685800" y="152403"/>
                </a:lnTo>
              </a:path>
            </a:pathLst>
          </a:custGeom>
          <a:noFill/>
          <a:ln w="381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CustomShape 7"/>
          <p:cNvSpPr/>
          <p:nvPr/>
        </p:nvSpPr>
        <p:spPr>
          <a:xfrm>
            <a:off x="7240680" y="3429000"/>
            <a:ext cx="15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ka Rev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Line 8"/>
          <p:cNvSpPr/>
          <p:nvPr/>
        </p:nvSpPr>
        <p:spPr>
          <a:xfrm flipH="1">
            <a:off x="7084440" y="3733920"/>
            <a:ext cx="841320" cy="152280"/>
          </a:xfrm>
          <a:custGeom>
            <a:avLst/>
            <a:gdLst>
              <a:gd name="textAreaLeft" fmla="*/ -360 w 841320"/>
              <a:gd name="textAreaRight" fmla="*/ 841320 w 841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841376" h="152403">
                <a:moveTo>
                  <a:pt x="0" y="0"/>
                </a:moveTo>
                <a:lnTo>
                  <a:pt x="841376" y="152403"/>
                </a:lnTo>
              </a:path>
            </a:pathLst>
          </a:custGeom>
          <a:noFill/>
          <a:ln w="381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CustomShape 1"/>
          <p:cNvSpPr/>
          <p:nvPr/>
        </p:nvSpPr>
        <p:spPr>
          <a:xfrm>
            <a:off x="1295280" y="2746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Individual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CustomShap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IEEE has two types of standards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dividual method or Entity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IEEE 802’s projects use the Individual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Voter’s are individuals, not entities (e.g. compani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CustomShape 1"/>
          <p:cNvSpPr/>
          <p:nvPr/>
        </p:nvSpPr>
        <p:spPr>
          <a:xfrm>
            <a:off x="1295280" y="2746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Some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CustomShap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PAR – project authorization request – the document that authorizes work on a projec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WG - Working group – responsible for developing standards in an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TAG – Technical Advisory Group – experts on a topic area that crosses working grou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Task group or task force – a part of a working group which focuses on a particular proj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CustomShape 1"/>
          <p:cNvSpPr/>
          <p:nvPr/>
        </p:nvSpPr>
        <p:spPr>
          <a:xfrm>
            <a:off x="1295280" y="2746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All those dots….decoder 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CustomShape 2"/>
          <p:cNvSpPr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6836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.1    Bridging and Architecture – generally the top of the link 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.3    Ether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.11  Wireless LAN (WLA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.15  Wireless Specialty Network (WS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.16  Broadband Wireless Access (BWA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.18  Radio Regulatory TA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.19  Coexist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.21  Media Independent Handov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.22  Wireless Regional Area Networks (WRA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.24  Vertical Applications TA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CustomShape 3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CustomShape 1"/>
          <p:cNvSpPr/>
          <p:nvPr/>
        </p:nvSpPr>
        <p:spPr>
          <a:xfrm>
            <a:off x="1295280" y="2746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IEEE 802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CustomShape 2"/>
          <p:cNvSpPr/>
          <p:nvPr/>
        </p:nvSpPr>
        <p:spPr>
          <a:xfrm>
            <a:off x="1685880" y="2022480"/>
            <a:ext cx="13510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Davi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CustomShape 4"/>
          <p:cNvSpPr/>
          <p:nvPr/>
        </p:nvSpPr>
        <p:spPr>
          <a:xfrm>
            <a:off x="1685880" y="2925720"/>
            <a:ext cx="13510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BW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Roger Ma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CustomShape 6"/>
          <p:cNvSpPr/>
          <p:nvPr/>
        </p:nvSpPr>
        <p:spPr>
          <a:xfrm>
            <a:off x="3156120" y="2016000"/>
            <a:ext cx="13492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W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Adrian Steph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CustomShape 8"/>
          <p:cNvSpPr/>
          <p:nvPr/>
        </p:nvSpPr>
        <p:spPr>
          <a:xfrm>
            <a:off x="219240" y="2022480"/>
            <a:ext cx="135072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DejaVu Sans"/>
              </a:rPr>
              <a:t>High Level Interfa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DejaVu Sans"/>
              </a:rPr>
              <a:t>Glenn Parso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CustomShape 10"/>
          <p:cNvSpPr/>
          <p:nvPr/>
        </p:nvSpPr>
        <p:spPr>
          <a:xfrm>
            <a:off x="568440" y="1681200"/>
            <a:ext cx="28130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Working Group/TAG Chai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CustomShape 19"/>
          <p:cNvSpPr/>
          <p:nvPr/>
        </p:nvSpPr>
        <p:spPr>
          <a:xfrm>
            <a:off x="6554880" y="2411280"/>
            <a:ext cx="20080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Appointed Offic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CustomShape 20"/>
          <p:cNvSpPr/>
          <p:nvPr/>
        </p:nvSpPr>
        <p:spPr>
          <a:xfrm>
            <a:off x="5105520" y="1301760"/>
            <a:ext cx="1317600" cy="54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Paul Nikoli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CustomShape 22"/>
          <p:cNvSpPr/>
          <p:nvPr/>
        </p:nvSpPr>
        <p:spPr>
          <a:xfrm>
            <a:off x="1600200" y="1341360"/>
            <a:ext cx="3446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ECUTIVE COMMITTEE (E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CustomShape 23"/>
          <p:cNvSpPr/>
          <p:nvPr/>
        </p:nvSpPr>
        <p:spPr>
          <a:xfrm>
            <a:off x="219240" y="2924280"/>
            <a:ext cx="135072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15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WS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Bob He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CustomShape 25"/>
          <p:cNvSpPr/>
          <p:nvPr/>
        </p:nvSpPr>
        <p:spPr>
          <a:xfrm>
            <a:off x="3156120" y="2925720"/>
            <a:ext cx="13492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18 T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Radio Regul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Rich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CustomShape 35"/>
          <p:cNvSpPr/>
          <p:nvPr/>
        </p:nvSpPr>
        <p:spPr>
          <a:xfrm>
            <a:off x="219240" y="5583240"/>
            <a:ext cx="6400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3399"/>
                </a:solidFill>
                <a:uFillTx/>
                <a:latin typeface="Times New Roman"/>
                <a:ea typeface="DejaVu Sans"/>
              </a:rPr>
              <a:t>DISBA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802.2 LLC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802.4 Token Bus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802.5 Token  Ring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802.6 DQDB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802.7 Broadband TAG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802.8 Fiber Optic TAG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802.9 ISLAN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                        802.10 Securit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802.12 Demand Priority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802.14 CATV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802.17 Resilient Packet Ring 802.23 Emergency Services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CustomShape 40"/>
          <p:cNvSpPr/>
          <p:nvPr/>
        </p:nvSpPr>
        <p:spPr>
          <a:xfrm>
            <a:off x="4591080" y="2413080"/>
            <a:ext cx="15112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Hiberna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WG Chai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(non vo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CustomShape 45"/>
          <p:cNvSpPr/>
          <p:nvPr/>
        </p:nvSpPr>
        <p:spPr>
          <a:xfrm>
            <a:off x="6527880" y="5226120"/>
            <a:ext cx="2008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Appointed Offic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(non vo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CustomShape 4"/>
          <p:cNvSpPr/>
          <p:nvPr/>
        </p:nvSpPr>
        <p:spPr>
          <a:xfrm>
            <a:off x="1685880" y="3825720"/>
            <a:ext cx="13510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21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Media indep. hand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Subir 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CustomShape 25"/>
          <p:cNvSpPr/>
          <p:nvPr/>
        </p:nvSpPr>
        <p:spPr>
          <a:xfrm>
            <a:off x="3156120" y="3833640"/>
            <a:ext cx="1349280" cy="75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22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WR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Apurva M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CustomShape 6"/>
          <p:cNvSpPr/>
          <p:nvPr/>
        </p:nvSpPr>
        <p:spPr>
          <a:xfrm>
            <a:off x="4672080" y="3240000"/>
            <a:ext cx="13492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2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MBW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Radhakrish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Canch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CustomShape 23"/>
          <p:cNvSpPr/>
          <p:nvPr/>
        </p:nvSpPr>
        <p:spPr>
          <a:xfrm>
            <a:off x="219240" y="4727520"/>
            <a:ext cx="135072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24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Vertical Applica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Tim Godfr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CustomShape 23"/>
          <p:cNvSpPr/>
          <p:nvPr/>
        </p:nvSpPr>
        <p:spPr>
          <a:xfrm>
            <a:off x="219240" y="3825720"/>
            <a:ext cx="135072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Coexis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DejaVu Sans"/>
              </a:rPr>
              <a:t>Steve Shellhamm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CustomShape 6"/>
          <p:cNvSpPr/>
          <p:nvPr/>
        </p:nvSpPr>
        <p:spPr>
          <a:xfrm>
            <a:off x="6164280" y="2765520"/>
            <a:ext cx="13510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1st VICE 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Pat Tha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CustomShape 6"/>
          <p:cNvSpPr/>
          <p:nvPr/>
        </p:nvSpPr>
        <p:spPr>
          <a:xfrm>
            <a:off x="7656480" y="2765520"/>
            <a:ext cx="13492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2nd VICE 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James P.K. Gil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CustomShape 6"/>
          <p:cNvSpPr/>
          <p:nvPr/>
        </p:nvSpPr>
        <p:spPr>
          <a:xfrm>
            <a:off x="6164280" y="3618000"/>
            <a:ext cx="1351080" cy="75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EXECUTIVE 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Jon Rosdah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CustomShape 6"/>
          <p:cNvSpPr/>
          <p:nvPr/>
        </p:nvSpPr>
        <p:spPr>
          <a:xfrm>
            <a:off x="7656480" y="3618000"/>
            <a:ext cx="1349280" cy="75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DejaVu Sans"/>
              </a:rPr>
              <a:t>RECORDING SEC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John D’Ambro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CustomShape 6"/>
          <p:cNvSpPr/>
          <p:nvPr/>
        </p:nvSpPr>
        <p:spPr>
          <a:xfrm>
            <a:off x="6164280" y="4471920"/>
            <a:ext cx="13510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TREASUR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Clint Chap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CustomShape 6"/>
          <p:cNvSpPr/>
          <p:nvPr/>
        </p:nvSpPr>
        <p:spPr>
          <a:xfrm>
            <a:off x="6883560" y="5757840"/>
            <a:ext cx="13492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MEMBER EMERI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Geoff Thomp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15:50:17Z</dcterms:created>
  <dc:creator>Charlie Perkins</dc:creator>
  <dc:description/>
  <dc:language>en-US</dc:language>
  <cp:lastModifiedBy>Pat Thaler</cp:lastModifiedBy>
  <cp:lastPrinted>2015-07-01T18:38:20Z</cp:lastPrinted>
  <dcterms:modified xsi:type="dcterms:W3CDTF">2017-07-04T01:52:06Z</dcterms:modified>
  <cp:revision>6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63374286</vt:lpwstr>
  </property>
</Properties>
</file>