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0A5A-E084-4065-8F07-209FC5D323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91865-25B1-456A-9519-49EEEAECBD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rch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EEE 802 March 2017 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oc: 802 EC-17/0036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46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5404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348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40446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775404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480" y="404280"/>
            <a:ext cx="10971360" cy="36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46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75404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3348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0446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775404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09480" y="404280"/>
            <a:ext cx="10971360" cy="36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446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75404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348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0446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75404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404280"/>
            <a:ext cx="10971360" cy="36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4460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754040" y="13413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348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04460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754040" y="3704760"/>
            <a:ext cx="353268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09480" y="404280"/>
            <a:ext cx="10971360" cy="366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6920" y="37047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480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956920" y="1341360"/>
            <a:ext cx="535392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4800" y="3704760"/>
            <a:ext cx="10971360" cy="21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 hidden="1"/>
          <p:cNvSpPr/>
          <p:nvPr/>
        </p:nvSpPr>
        <p:spPr>
          <a:xfrm>
            <a:off x="0" y="6603840"/>
            <a:ext cx="12185640" cy="260640"/>
          </a:xfrm>
          <a:prstGeom prst="rect">
            <a:avLst/>
          </a:prstGeom>
          <a:solidFill>
            <a:srgbClr val="2fb1df"/>
          </a:solidFill>
          <a:ln w="9360">
            <a:solidFill>
              <a:srgbClr val="2fb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 hidden="1"/>
          <p:cNvSpPr/>
          <p:nvPr/>
        </p:nvSpPr>
        <p:spPr>
          <a:xfrm>
            <a:off x="4680" y="3240"/>
            <a:ext cx="12180960" cy="260280"/>
          </a:xfrm>
          <a:prstGeom prst="rect">
            <a:avLst/>
          </a:prstGeom>
          <a:solidFill>
            <a:srgbClr val="2fb1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27040" y="1268280"/>
            <a:ext cx="11138040" cy="1800"/>
          </a:xfrm>
          <a:prstGeom prst="line">
            <a:avLst/>
          </a:prstGeom>
          <a:ln w="9360">
            <a:solidFill>
              <a:srgbClr val="2fa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 hidden="1"/>
          <p:cNvSpPr/>
          <p:nvPr/>
        </p:nvSpPr>
        <p:spPr>
          <a:xfrm>
            <a:off x="10611000" y="6589800"/>
            <a:ext cx="1535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age </a:t>
            </a:r>
            <a:fld id="{2AD57C5F-CD87-4E96-8507-328A7A245F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 hidden="1"/>
          <p:cNvSpPr/>
          <p:nvPr/>
        </p:nvSpPr>
        <p:spPr>
          <a:xfrm>
            <a:off x="1800" y="6589800"/>
            <a:ext cx="639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 hidden="1"/>
          <p:cNvSpPr/>
          <p:nvPr/>
        </p:nvSpPr>
        <p:spPr>
          <a:xfrm>
            <a:off x="4114800" y="6602400"/>
            <a:ext cx="4419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EEE 802 March 2017 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088720" y="5877000"/>
            <a:ext cx="1057320" cy="708120"/>
            <a:chOff x="11088720" y="5877000"/>
            <a:chExt cx="1057320" cy="708120"/>
          </a:xfrm>
        </p:grpSpPr>
        <p:sp>
          <p:nvSpPr>
            <p:cNvPr id="7" name=""/>
            <p:cNvSpPr/>
            <p:nvPr/>
          </p:nvSpPr>
          <p:spPr>
            <a:xfrm>
              <a:off x="11088720" y="5938920"/>
              <a:ext cx="958680" cy="574560"/>
            </a:xfrm>
            <a:prstGeom prst="rect">
              <a:avLst/>
            </a:prstGeom>
            <a:solidFill>
              <a:srgbClr val="2fb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112120" y="5877000"/>
              <a:ext cx="76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E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1180880" y="5972040"/>
              <a:ext cx="0" cy="5018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20400" y="6129360"/>
              <a:ext cx="1025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" hidden="1"/>
          <p:cNvSpPr/>
          <p:nvPr/>
        </p:nvSpPr>
        <p:spPr>
          <a:xfrm>
            <a:off x="9753480" y="17640"/>
            <a:ext cx="21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c:802 EC-17/0036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 hidden="1"/>
          <p:cNvSpPr/>
          <p:nvPr/>
        </p:nvSpPr>
        <p:spPr>
          <a:xfrm>
            <a:off x="228600" y="14400"/>
            <a:ext cx="1905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March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9080" y="6586560"/>
            <a:ext cx="12173040" cy="260280"/>
          </a:xfrm>
          <a:prstGeom prst="rect">
            <a:avLst/>
          </a:prstGeom>
          <a:solidFill>
            <a:srgbClr val="2fad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680" y="3240"/>
            <a:ext cx="12180960" cy="260280"/>
          </a:xfrm>
          <a:prstGeom prst="rect">
            <a:avLst/>
          </a:prstGeom>
          <a:solidFill>
            <a:srgbClr val="2fad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10611000" y="6589800"/>
            <a:ext cx="1535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age </a:t>
            </a:r>
            <a:fld id="{CD5C0A96-569F-4B41-A135-0FABEC315D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" name=""/>
          <p:cNvGrpSpPr/>
          <p:nvPr/>
        </p:nvGrpSpPr>
        <p:grpSpPr>
          <a:xfrm>
            <a:off x="11088720" y="5877000"/>
            <a:ext cx="1057320" cy="708120"/>
            <a:chOff x="11088720" y="5877000"/>
            <a:chExt cx="1057320" cy="708120"/>
          </a:xfrm>
        </p:grpSpPr>
        <p:sp>
          <p:nvSpPr>
            <p:cNvPr id="17" name=""/>
            <p:cNvSpPr/>
            <p:nvPr/>
          </p:nvSpPr>
          <p:spPr>
            <a:xfrm>
              <a:off x="11088720" y="5938920"/>
              <a:ext cx="958680" cy="574560"/>
            </a:xfrm>
            <a:prstGeom prst="rect">
              <a:avLst/>
            </a:prstGeom>
            <a:solidFill>
              <a:srgbClr val="2fb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112120" y="5877000"/>
              <a:ext cx="76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E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180880" y="5972040"/>
              <a:ext cx="0" cy="5018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120400" y="6129360"/>
              <a:ext cx="1025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130120"/>
            <a:ext cx="1036152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1800" y="6589800"/>
            <a:ext cx="639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9753480" y="17640"/>
            <a:ext cx="21780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MS PGothic"/>
              </a:rPr>
              <a:t>doc:802 EC-16/0177r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609480" y="1604880"/>
            <a:ext cx="109713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603840"/>
            <a:ext cx="12185640" cy="260640"/>
          </a:xfrm>
          <a:prstGeom prst="rect">
            <a:avLst/>
          </a:prstGeom>
          <a:solidFill>
            <a:srgbClr val="2fb1df"/>
          </a:solidFill>
          <a:ln w="9360">
            <a:solidFill>
              <a:srgbClr val="2fb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0" y="3240"/>
            <a:ext cx="12180960" cy="260280"/>
          </a:xfrm>
          <a:prstGeom prst="rect">
            <a:avLst/>
          </a:prstGeom>
          <a:solidFill>
            <a:srgbClr val="2fb1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7040" y="1268280"/>
            <a:ext cx="11138040" cy="1800"/>
          </a:xfrm>
          <a:prstGeom prst="line">
            <a:avLst/>
          </a:prstGeom>
          <a:ln w="9360">
            <a:solidFill>
              <a:srgbClr val="2fa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11000" y="6589800"/>
            <a:ext cx="1535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age </a:t>
            </a:r>
            <a:fld id="{96D8836B-094B-4985-B91A-C0481C409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00" y="6589800"/>
            <a:ext cx="639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6602400"/>
            <a:ext cx="4419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EEE 802 March 2017 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088720" y="5877000"/>
            <a:ext cx="1057320" cy="708120"/>
            <a:chOff x="11088720" y="5877000"/>
            <a:chExt cx="1057320" cy="708120"/>
          </a:xfrm>
        </p:grpSpPr>
        <p:sp>
          <p:nvSpPr>
            <p:cNvPr id="68" name=""/>
            <p:cNvSpPr/>
            <p:nvPr/>
          </p:nvSpPr>
          <p:spPr>
            <a:xfrm>
              <a:off x="11088720" y="5938920"/>
              <a:ext cx="958680" cy="574560"/>
            </a:xfrm>
            <a:prstGeom prst="rect">
              <a:avLst/>
            </a:prstGeom>
            <a:solidFill>
              <a:srgbClr val="2fb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12120" y="5877000"/>
              <a:ext cx="76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E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180880" y="5972040"/>
              <a:ext cx="0" cy="5018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20400" y="6129360"/>
              <a:ext cx="1025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9753480" y="17640"/>
            <a:ext cx="21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c:802 EC-17/0095-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14400"/>
            <a:ext cx="1905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March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1360" cy="7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34800" y="1341360"/>
            <a:ext cx="109713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6603840"/>
            <a:ext cx="12185640" cy="260640"/>
          </a:xfrm>
          <a:prstGeom prst="rect">
            <a:avLst/>
          </a:prstGeom>
          <a:solidFill>
            <a:srgbClr val="2fb1df"/>
          </a:solidFill>
          <a:ln w="9360">
            <a:solidFill>
              <a:srgbClr val="2fb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0" y="3240"/>
            <a:ext cx="12180960" cy="260280"/>
          </a:xfrm>
          <a:prstGeom prst="rect">
            <a:avLst/>
          </a:prstGeom>
          <a:solidFill>
            <a:srgbClr val="2fb1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7040" y="1268280"/>
            <a:ext cx="11138040" cy="1800"/>
          </a:xfrm>
          <a:prstGeom prst="line">
            <a:avLst/>
          </a:prstGeom>
          <a:ln w="9360">
            <a:solidFill>
              <a:srgbClr val="2fa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611000" y="6589800"/>
            <a:ext cx="1535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age </a:t>
            </a:r>
            <a:fld id="{76433BDF-E9F7-4270-BE70-7C17AB45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00" y="6589800"/>
            <a:ext cx="639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14800" y="6602400"/>
            <a:ext cx="4419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EEE 802 March 2017 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088720" y="5877000"/>
            <a:ext cx="1057320" cy="708120"/>
            <a:chOff x="11088720" y="5877000"/>
            <a:chExt cx="1057320" cy="708120"/>
          </a:xfrm>
        </p:grpSpPr>
        <p:sp>
          <p:nvSpPr>
            <p:cNvPr id="119" name=""/>
            <p:cNvSpPr/>
            <p:nvPr/>
          </p:nvSpPr>
          <p:spPr>
            <a:xfrm>
              <a:off x="11088720" y="5938920"/>
              <a:ext cx="958680" cy="574560"/>
            </a:xfrm>
            <a:prstGeom prst="rect">
              <a:avLst/>
            </a:prstGeom>
            <a:solidFill>
              <a:srgbClr val="2fb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12120" y="5877000"/>
              <a:ext cx="76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E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80880" y="5972040"/>
              <a:ext cx="0" cy="5018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20400" y="6129360"/>
              <a:ext cx="1025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9753480" y="17640"/>
            <a:ext cx="21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c:802 EC-17/0036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4400"/>
            <a:ext cx="1905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March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63720" y="4406760"/>
            <a:ext cx="10361520" cy="13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63720" y="2906280"/>
            <a:ext cx="10361520" cy="14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2000"/>
          </a:bodyPr>
          <a:p>
            <a:pPr marL="1094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09440" indent="-1094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6603840"/>
            <a:ext cx="12185640" cy="260640"/>
          </a:xfrm>
          <a:prstGeom prst="rect">
            <a:avLst/>
          </a:prstGeom>
          <a:solidFill>
            <a:srgbClr val="2fb1df"/>
          </a:solidFill>
          <a:ln w="9360">
            <a:solidFill>
              <a:srgbClr val="2fb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0" y="3240"/>
            <a:ext cx="12180960" cy="260280"/>
          </a:xfrm>
          <a:prstGeom prst="rect">
            <a:avLst/>
          </a:prstGeom>
          <a:solidFill>
            <a:srgbClr val="2fb1df"/>
          </a:solidFill>
          <a:ln w="9360">
            <a:solidFill>
              <a:srgbClr val="2fad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7040" y="1268280"/>
            <a:ext cx="11138040" cy="1800"/>
          </a:xfrm>
          <a:prstGeom prst="line">
            <a:avLst/>
          </a:prstGeom>
          <a:ln w="9360">
            <a:solidFill>
              <a:srgbClr val="2fad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11000" y="6589800"/>
            <a:ext cx="15350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Page </a:t>
            </a:r>
            <a:fld id="{49773A1A-67AC-4172-A41E-013A1F9FA9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00" y="6589800"/>
            <a:ext cx="639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6602400"/>
            <a:ext cx="44197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IEEE 802 March 2017 Ple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088720" y="5877000"/>
            <a:ext cx="1057320" cy="708120"/>
            <a:chOff x="11088720" y="5877000"/>
            <a:chExt cx="1057320" cy="708120"/>
          </a:xfrm>
        </p:grpSpPr>
        <p:sp>
          <p:nvSpPr>
            <p:cNvPr id="170" name=""/>
            <p:cNvSpPr/>
            <p:nvPr/>
          </p:nvSpPr>
          <p:spPr>
            <a:xfrm>
              <a:off x="11088720" y="5938920"/>
              <a:ext cx="958680" cy="574560"/>
            </a:xfrm>
            <a:prstGeom prst="rect">
              <a:avLst/>
            </a:prstGeom>
            <a:solidFill>
              <a:srgbClr val="2fb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112120" y="5877000"/>
              <a:ext cx="76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EE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80880" y="5972040"/>
              <a:ext cx="0" cy="501840"/>
            </a:xfrm>
            <a:prstGeom prst="line">
              <a:avLst/>
            </a:prstGeom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120400" y="6129360"/>
              <a:ext cx="10256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MS PGothic"/>
                </a:rPr>
                <a:t>80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9753480" y="17640"/>
            <a:ext cx="2178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c:802 EC-17/0036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14400"/>
            <a:ext cx="19051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March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13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09480" y="1534680"/>
            <a:ext cx="5384880" cy="6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2000"/>
          </a:bodyPr>
          <a:p>
            <a:pPr marL="4104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41040" indent="-4104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7 July Plenary upd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une 2017 Conference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Gil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Meeting Design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lb_IEEE@yahoo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2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7 July Ple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3480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strel Hotel and Convention Center, Berlin, Ger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tel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lock remains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ose to 4 week cancellation deadline (depending on your arrival date)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80% cancellation penalty 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oom pickup: 92% of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EEE 802 is not liable for room block (wash bloc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egistration: 502 (5 cancellation requ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10972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017 July Plenary: So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480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iver cr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2 boats, one leaves 18:00, the other 1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mbarkation and disembarkation at the dock across the street from the Est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3 hour cruise (just like the Min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Dinner and drinks provided 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luded with registration, extra for g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mited to 600 maximum: 500 so far, no wait list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  <Company>CSR plc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9T11:21:45Z</dcterms:created>
  <dc:creator>Jon Rosdahl</dc:creator>
  <dc:description>Jon Rosdahl (Qualcomm)</dc:description>
  <dc:language>en-US</dc:language>
  <cp:lastModifiedBy>Jon Rosdahl</cp:lastModifiedBy>
  <dcterms:modified xsi:type="dcterms:W3CDTF">2017-03-18T07:44:38Z</dcterms:modified>
  <cp:revision>127</cp:revision>
  <dc:subject>IEEE 802 March Plenary 2017</dc:subject>
  <dc:title>Executive Secretary Agenda Items March 2017 Ple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8</vt:r8>
  </property>
  <property fmtid="{D5CDD505-2E9C-101B-9397-08002B2CF9AE}" pid="7" name="PresentationFormat">
    <vt:lpwstr>Widescreen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8</vt:r8>
  </property>
</Properties>
</file>