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662461-2E99-461B-A042-B2E461AB87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5" name="PlaceHolder 2"/>
          <p:cNvSpPr>
            <a:spLocks noGrp="1"/>
          </p:cNvSpPr>
          <p:nvPr>
            <p:ph/>
          </p:nvPr>
        </p:nvSpPr>
        <p:spPr>
          <a:xfrm>
            <a:off x="685440" y="13716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FAF499-3349-428E-B3E9-44B60F31CE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8"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EE6B4F-2ABE-4818-B274-BFBC53D539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3" name="PlaceHolder 2"/>
          <p:cNvSpPr>
            <a:spLocks noGrp="1"/>
          </p:cNvSpPr>
          <p:nvPr>
            <p:ph/>
          </p:nvPr>
        </p:nvSpPr>
        <p:spPr>
          <a:xfrm>
            <a:off x="68544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39012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68544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39012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9480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504203-8DE6-4F1B-804D-3403287094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B0B481-0FCA-497C-85EF-ABC7C4433C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685440" y="1371600"/>
            <a:ext cx="7999560" cy="39765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FEB491-A023-498A-8C7C-256693118D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1" name="PlaceHolder 2"/>
          <p:cNvSpPr>
            <a:spLocks noGrp="1"/>
          </p:cNvSpPr>
          <p:nvPr>
            <p:ph/>
          </p:nvPr>
        </p:nvSpPr>
        <p:spPr>
          <a:xfrm>
            <a:off x="685440" y="1371600"/>
            <a:ext cx="799956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7CF88B-0D87-4B9A-8D90-0334360FD41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3"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EA55C58-B5AC-4E57-947F-C2FDDB4232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E9B96925-77B2-4693-B537-3128117693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685800"/>
            <a:ext cx="7846920" cy="3525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91AEE19-DBE8-4D19-9D08-CD02BB34A6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8"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FC9476C-8977-4F01-BD5A-F376967C0B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685440" y="1371600"/>
            <a:ext cx="7999560" cy="39765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A80C1-61AE-45A7-ACE8-0434A05E21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2"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F40A767-BA9D-4D5E-882E-DE3A7C4F76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6"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46298C5-A105-4CF8-91BD-FFE7653CF74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0" name="PlaceHolder 2"/>
          <p:cNvSpPr>
            <a:spLocks noGrp="1"/>
          </p:cNvSpPr>
          <p:nvPr>
            <p:ph/>
          </p:nvPr>
        </p:nvSpPr>
        <p:spPr>
          <a:xfrm>
            <a:off x="685440" y="13716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B50221F-2DFA-42D4-B3B6-1D78813BF5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5"/>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3467F6D-3813-4DF3-AAEC-E6826316DC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8" name="PlaceHolder 2"/>
          <p:cNvSpPr>
            <a:spLocks noGrp="1"/>
          </p:cNvSpPr>
          <p:nvPr>
            <p:ph/>
          </p:nvPr>
        </p:nvSpPr>
        <p:spPr>
          <a:xfrm>
            <a:off x="68544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339012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4"/>
          <p:cNvSpPr>
            <a:spLocks noGrp="1"/>
          </p:cNvSpPr>
          <p:nvPr>
            <p:ph/>
          </p:nvPr>
        </p:nvSpPr>
        <p:spPr>
          <a:xfrm>
            <a:off x="609480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5"/>
          <p:cNvSpPr>
            <a:spLocks noGrp="1"/>
          </p:cNvSpPr>
          <p:nvPr>
            <p:ph/>
          </p:nvPr>
        </p:nvSpPr>
        <p:spPr>
          <a:xfrm>
            <a:off x="68544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6"/>
          <p:cNvSpPr>
            <a:spLocks noGrp="1"/>
          </p:cNvSpPr>
          <p:nvPr>
            <p:ph/>
          </p:nvPr>
        </p:nvSpPr>
        <p:spPr>
          <a:xfrm>
            <a:off x="339012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7"/>
          <p:cNvSpPr>
            <a:spLocks noGrp="1"/>
          </p:cNvSpPr>
          <p:nvPr>
            <p:ph/>
          </p:nvPr>
        </p:nvSpPr>
        <p:spPr>
          <a:xfrm>
            <a:off x="609480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AFA6470-B351-49EE-8395-4A17E2F3D9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 name="PlaceHolder 2"/>
          <p:cNvSpPr>
            <a:spLocks noGrp="1"/>
          </p:cNvSpPr>
          <p:nvPr>
            <p:ph/>
          </p:nvPr>
        </p:nvSpPr>
        <p:spPr>
          <a:xfrm>
            <a:off x="685440" y="1371600"/>
            <a:ext cx="799956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1292F-CEC1-4C26-8E3C-A232F02C48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0CB9FC-1DC8-4539-ABE3-79AB85247E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F3F8C163-DC22-4240-A9CB-B98F23E09B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440" y="685800"/>
            <a:ext cx="7846920" cy="3525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F4408F4-3B9E-4A00-AA8D-6E6582D89E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3"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0AF2E-8717-4F0E-B66A-2E0C15BF67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7"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6F6EEB-98E3-4930-91CC-DB9DB93741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1"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9145FD-B55C-442D-A0E0-95BCEC6221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85800"/>
            <a:ext cx="777060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09480" y="1371600"/>
            <a:ext cx="7770960" cy="3976560"/>
          </a:xfrm>
          <a:prstGeom prst="rect">
            <a:avLst/>
          </a:prstGeom>
          <a:noFill/>
          <a:ln w="0">
            <a:noFill/>
          </a:ln>
        </p:spPr>
        <p:txBody>
          <a:bodyPr lIns="92160" rIns="92160" tIns="46080" bIns="46080" anchor="t">
            <a:normAutofit fontScale="96000"/>
          </a:bodyPr>
          <a:p>
            <a:pPr marL="32904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5320"/>
            <a:ext cx="528840" cy="363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Slide </a:t>
            </a:r>
            <a:fld id="{900F55DB-C5D2-4272-B05A-045C001F251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4572000" y="417240"/>
            <a:ext cx="3962520" cy="1828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428840"/>
                <a:tab algn="l" pos="2343240"/>
                <a:tab algn="l" pos="3257640"/>
                <a:tab algn="l" pos="4172040"/>
                <a:tab algn="l" pos="5086440"/>
                <a:tab algn="l" pos="6000840"/>
                <a:tab algn="l" pos="6915240"/>
                <a:tab algn="l" pos="7829640"/>
                <a:tab algn="l" pos="8744040"/>
                <a:tab algn="l" pos="9658440"/>
                <a:tab algn="l" pos="10572840"/>
                <a:tab algn="l" pos="11487240"/>
              </a:tabLst>
            </a:pPr>
            <a:r>
              <a:rPr b="0" lang="en-US" sz="1200" spc="-1" strike="noStrike">
                <a:solidFill>
                  <a:srgbClr val="000000"/>
                </a:solidFill>
                <a:latin typeface="Times New Roman"/>
                <a:ea typeface="ＭＳ Ｐゴシック"/>
              </a:rPr>
              <a:t>ec-12-0xyz-00-0000</a:t>
            </a:r>
            <a:endParaRPr b="0" lang="en-US" sz="1200" spc="-1" strike="noStrike">
              <a:solidFill>
                <a:srgbClr val="000000"/>
              </a:solidFill>
              <a:latin typeface="Times New Roman"/>
            </a:endParaRPr>
          </a:p>
        </p:txBody>
      </p:sp>
      <p:sp>
        <p:nvSpPr>
          <p:cNvPr id="40" name=""/>
          <p:cNvSpPr/>
          <p:nvPr/>
        </p:nvSpPr>
        <p:spPr>
          <a:xfrm>
            <a:off x="685800" y="609480"/>
            <a:ext cx="784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1" name=""/>
          <p:cNvSpPr/>
          <p:nvPr/>
        </p:nvSpPr>
        <p:spPr>
          <a:xfrm>
            <a:off x="685800" y="6477120"/>
            <a:ext cx="15238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802 EC Rules</a:t>
            </a:r>
            <a:endParaRPr b="0" lang="en-US" sz="1200" spc="-1" strike="noStrike">
              <a:solidFill>
                <a:srgbClr val="000000"/>
              </a:solidFill>
              <a:latin typeface="Times New Roman"/>
            </a:endParaRPr>
          </a:p>
        </p:txBody>
      </p:sp>
      <p:sp>
        <p:nvSpPr>
          <p:cNvPr id="42" name=""/>
          <p:cNvSpPr/>
          <p:nvPr/>
        </p:nvSpPr>
        <p:spPr>
          <a:xfrm>
            <a:off x="706320" y="6477120"/>
            <a:ext cx="7828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3" name=""/>
          <p:cNvSpPr/>
          <p:nvPr/>
        </p:nvSpPr>
        <p:spPr>
          <a:xfrm>
            <a:off x="685800" y="30492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November 2012</a:t>
            </a:r>
            <a:endParaRPr b="0" lang="en-US" sz="1200" spc="-1" strike="noStrike">
              <a:solidFill>
                <a:srgbClr val="000000"/>
              </a:solidFill>
              <a:latin typeface="Times New Roman"/>
            </a:endParaRPr>
          </a:p>
        </p:txBody>
      </p:sp>
      <p:sp>
        <p:nvSpPr>
          <p:cNvPr id="44" name=""/>
          <p:cNvSpPr/>
          <p:nvPr/>
        </p:nvSpPr>
        <p:spPr>
          <a:xfrm>
            <a:off x="6248520" y="6477120"/>
            <a:ext cx="2286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James Gilb (Tensorcom)</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body"/>
          </p:nvPr>
        </p:nvSpPr>
        <p:spPr>
          <a:xfrm>
            <a:off x="685440" y="1371600"/>
            <a:ext cx="7999560" cy="3976560"/>
          </a:xfrm>
          <a:prstGeom prst="rect">
            <a:avLst/>
          </a:prstGeom>
          <a:noFill/>
          <a:ln w="0">
            <a:noFill/>
          </a:ln>
        </p:spPr>
        <p:txBody>
          <a:bodyPr lIns="92160" rIns="92160" tIns="46080" bIns="46080" anchor="t">
            <a:normAutofit fontScale="96000"/>
          </a:bodyPr>
          <a:p>
            <a:pPr marL="32904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sldNum" idx="2"/>
          </p:nvPr>
        </p:nvSpPr>
        <p:spPr>
          <a:xfrm>
            <a:off x="3657600" y="6474960"/>
            <a:ext cx="1293840" cy="381240"/>
          </a:xfrm>
          <a:prstGeom prst="rect">
            <a:avLst/>
          </a:prstGeom>
          <a:noFill/>
          <a:ln w="0">
            <a:noFill/>
          </a:ln>
        </p:spPr>
        <p:txBody>
          <a:bodyPr lIns="0" rIns="0" tIns="0" bIns="0" anchor="t">
            <a:noAutofit/>
          </a:bodyPr>
          <a:lstStyle>
            <a:lvl1pPr indent="0" algn="ct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000000"/>
                </a:solidFill>
                <a:latin typeface="Times New Roman"/>
                <a:ea typeface="DejaVu Sans"/>
              </a:defRPr>
            </a:lvl1pPr>
          </a:lstStyle>
          <a:p>
            <a:pPr indent="0" algn="ct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DejaVu Sans"/>
              </a:rPr>
              <a:t>Slide </a:t>
            </a:r>
            <a:fld id="{D0799A75-DC45-4960-96C4-681363E4C5B7}"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685800"/>
            <a:ext cx="7772400" cy="521172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IEEE 802 Rules Update</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November 2012 meeting</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G 2.5 Tutorials</a:t>
            </a:r>
            <a:endParaRPr b="0" lang="en-US" sz="4000" spc="-1" strike="noStrike">
              <a:solidFill>
                <a:srgbClr val="000000"/>
              </a:solidFill>
              <a:latin typeface="Arial"/>
            </a:endParaRPr>
          </a:p>
        </p:txBody>
      </p:sp>
      <p:sp>
        <p:nvSpPr>
          <p:cNvPr id="102"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55000"/>
          </a:bodyPr>
          <a:p>
            <a:pPr marL="187560" indent="-1875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hange Mechanics to be:</a:t>
            </a:r>
            <a:endParaRPr b="0" lang="en-US" sz="32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osted by EC member.</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Executive Secretary shall provide a tutorial request form that shall be made available on the 802 website.</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quests are sent to the Sponsor email reflector no earlier than the end of the plenary meeting immediately preceding the plenary meeting in which the tutorial is requested. Requests shall be sent no later than 30 days in advance of the start of  plenary meeting in which they are to be presented.</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e Executive Secretary schedules the Tutorials and announces the the schedule to the Sponsor reflector at least 14 days before the meeting.</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nflicts to be resolved by Executive Secretary and Sponsor Chair based on most importance to IEEE 802 LMSC.</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Schedule is provided on 802 website with abstracts 7 days before the meeting. </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PDFs of the presentations shall be filed with the recording secretary at least 24 hours before the tutorial, or the tutorial may be postponed. </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Held Monday,  6:00 pm–7:30 pm, 7:30 pm– 9:00 pm, 9:00 pm–10:30 pm, and are held on Tuesday only on an optional basis (i.e., concurrent WG meetings are allowed)</a:t>
            </a:r>
            <a:endParaRPr b="0" lang="en-US" sz="2800" spc="-1" strike="noStrike">
              <a:solidFill>
                <a:srgbClr val="000000"/>
              </a:solidFill>
              <a:latin typeface="Arial"/>
            </a:endParaRPr>
          </a:p>
          <a:p>
            <a:pPr lvl="1" marL="407520" indent="-155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utorials in support of a new PAR should be conducted Monday evening.</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G 2.6 Projector Guidelines</a:t>
            </a:r>
            <a:endParaRPr b="0" lang="en-US" sz="4000" spc="-1" strike="noStrike">
              <a:solidFill>
                <a:srgbClr val="000000"/>
              </a:solidFill>
              <a:latin typeface="Arial"/>
            </a:endParaRPr>
          </a:p>
        </p:txBody>
      </p:sp>
      <p:sp>
        <p:nvSpPr>
          <p:cNvPr id="104"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wo options</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lete entire 2.6 as it is no longer relevant, we rent sufficient projectors for all sessions</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f we need to keep the first part (allocation during plenary) delete 2.6.2 as 802 no longer owns any projectors.</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Other CG changes</a:t>
            </a:r>
            <a:endParaRPr b="0" lang="en-US" sz="4000" spc="-1" strike="noStrike">
              <a:solidFill>
                <a:srgbClr val="000000"/>
              </a:solidFill>
              <a:latin typeface="Arial"/>
            </a:endParaRPr>
          </a:p>
        </p:txBody>
      </p:sp>
      <p:sp>
        <p:nvSpPr>
          <p:cNvPr id="106"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70000"/>
          </a:bodyPr>
          <a:p>
            <a:pPr marL="238680" indent="-238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G 2.17</a:t>
            </a:r>
            <a:endParaRPr b="0" lang="en-US" sz="3200" spc="-1" strike="noStrike">
              <a:solidFill>
                <a:srgbClr val="000000"/>
              </a:solidFill>
              <a:latin typeface="Arial"/>
            </a:endParaRPr>
          </a:p>
          <a:p>
            <a:pPr lvl="1" marL="518760" indent="-198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or Recording Secretary, replace “2) Draft, produce and distribute executive committee meeting minutes to committee members and liaisons within 30-40 days after meeting.” with “2) Maintain Sponsor email reflector and determine reflector settings.”</a:t>
            </a:r>
            <a:endParaRPr b="0" lang="en-US" sz="2800" spc="-1" strike="noStrike">
              <a:solidFill>
                <a:srgbClr val="000000"/>
              </a:solidFill>
              <a:latin typeface="Arial"/>
            </a:endParaRPr>
          </a:p>
          <a:p>
            <a:pPr lvl="1" marL="518760" indent="-198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Move P&amp;P requirement for website duties from P&amp;P to this location.</a:t>
            </a:r>
            <a:endParaRPr b="0" lang="en-US" sz="2800" spc="-1" strike="noStrike">
              <a:solidFill>
                <a:srgbClr val="000000"/>
              </a:solidFill>
              <a:latin typeface="Arial"/>
            </a:endParaRPr>
          </a:p>
          <a:p>
            <a:pPr lvl="1" marL="518760" indent="-198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Minutes requirement is already in OM.</a:t>
            </a:r>
            <a:endParaRPr b="0" lang="en-US" sz="2800" spc="-1" strike="noStrike">
              <a:solidFill>
                <a:srgbClr val="000000"/>
              </a:solidFill>
              <a:latin typeface="Arial"/>
            </a:endParaRPr>
          </a:p>
          <a:p>
            <a:pPr marL="238680" indent="-238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G3.x Add the following interpretations (from email archive)</a:t>
            </a:r>
            <a:endParaRPr b="0" lang="en-US" sz="3200" spc="-1" strike="noStrike">
              <a:solidFill>
                <a:srgbClr val="000000"/>
              </a:solidFill>
              <a:latin typeface="Arial"/>
            </a:endParaRPr>
          </a:p>
          <a:p>
            <a:pPr lvl="1" marL="518760" indent="-198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Number of recirculations allowed based on conditional approval (2)</a:t>
            </a:r>
            <a:endParaRPr b="0" lang="en-US" sz="2800" spc="-1" strike="noStrike">
              <a:solidFill>
                <a:srgbClr val="000000"/>
              </a:solidFill>
              <a:latin typeface="Arial"/>
            </a:endParaRPr>
          </a:p>
          <a:p>
            <a:pPr lvl="1" marL="518760" indent="-198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Number of room nights needed to qualify for reduced registration fee (1)</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Other WG P&amp;P changes</a:t>
            </a:r>
            <a:endParaRPr b="0" lang="en-US" sz="4000" spc="-1" strike="noStrike">
              <a:solidFill>
                <a:srgbClr val="000000"/>
              </a:solidFill>
              <a:latin typeface="Arial"/>
            </a:endParaRPr>
          </a:p>
        </p:txBody>
      </p:sp>
      <p:sp>
        <p:nvSpPr>
          <p:cNvPr id="108"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70000"/>
          </a:bodyPr>
          <a:p>
            <a:pPr marL="238680" indent="-238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G P&amp;P 14.1 </a:t>
            </a:r>
            <a:endParaRPr b="0" lang="en-US" sz="3200" spc="-1" strike="noStrike">
              <a:solidFill>
                <a:srgbClr val="000000"/>
              </a:solidFill>
              <a:latin typeface="Arial"/>
            </a:endParaRPr>
          </a:p>
          <a:p>
            <a:pPr lvl="1" marL="518760" indent="-198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hange paragraph i) as shown:</a:t>
            </a:r>
            <a:endParaRPr b="0" lang="en-US" sz="2800" spc="-1" strike="noStrike">
              <a:solidFill>
                <a:srgbClr val="000000"/>
              </a:solidFill>
              <a:latin typeface="Arial"/>
            </a:endParaRPr>
          </a:p>
          <a:p>
            <a:pPr lvl="1" marL="518760" indent="-198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Signature authority for any WG financial account is restricted to those IEEE, IEEE-SA, and Computer Society officers and/or staff that are required to have signature authority by IEEE, IEEE-SA, and Computer Society regulations; to IEEE 802 LMSC officers and to the officers of the WG owning the account, with the sole exception that, at most, two other individuals may be granted signature authority for the WG bank account for the sole purpose of assisting the WG in conducting its financial operations, provided that each such individual has provided agreements, indemnity, and/or bonding satisfactory to the IEEE. The granting of signature authority to any individual other than the WG Treasurer</a:t>
            </a:r>
            <a:r>
              <a:rPr b="0" lang="en-US" sz="2800" spc="-1" strike="noStrike" u="sng">
                <a:solidFill>
                  <a:srgbClr val="00ff00"/>
                </a:solidFill>
                <a:uFillTx/>
                <a:latin typeface="Arial"/>
              </a:rPr>
              <a:t>, Sponsor Chair, Sponsor Treasurer,</a:t>
            </a:r>
            <a:r>
              <a:rPr b="0" lang="en-US" sz="2800" spc="-1" strike="noStrike">
                <a:solidFill>
                  <a:srgbClr val="000000"/>
                </a:solidFill>
                <a:latin typeface="Arial"/>
              </a:rPr>
              <a:t> and those required by IEEE, IEEE-SA, Computer Society, or IEEE 802 LMSC regulations shall be by motion that is approved by the WG.”</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86"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erms</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P&amp;P: IEEE 802 LMSC Policies and Procedures</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OM: IEEE 802 LMSC Operations Manaual</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WG P&amp;P: IEEE 802 LMSC Working Group Policies and Procedures</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G: IEEE 802 LMSC Chair's Guidelines</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hange to P&amp;P, OM, WG P&amp;P</a:t>
            </a:r>
            <a:endParaRPr b="0" lang="en-US" sz="4000" spc="-1" strike="noStrike">
              <a:solidFill>
                <a:srgbClr val="000000"/>
              </a:solidFill>
              <a:latin typeface="Arial"/>
            </a:endParaRPr>
          </a:p>
        </p:txBody>
      </p:sp>
      <p:sp>
        <p:nvSpPr>
          <p:cNvPr id="88"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Delete “Project” from the titles of the P&amp;P, OM and WG P&amp;P.</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dd to OM and WG P&amp;P, Clause 1</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Unless otherwise stated, the term “WG” indicates both IEEE 802 LMSC Working Groups (WGs) as well as IEEE 802 LMSC Technical Advisory Groups (TAGs).”</a:t>
            </a:r>
            <a:endParaRPr b="0" lang="en-US" sz="28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is is in the notes, but not formally part of the OM or WG P&amp;P (implied in the P&amp;P that requires TAGs to use the WG P&amp;P).</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Other OM changes</a:t>
            </a:r>
            <a:endParaRPr b="0" lang="en-US" sz="3200" spc="-1" strike="noStrike">
              <a:solidFill>
                <a:srgbClr val="000000"/>
              </a:solidFill>
              <a:latin typeface="Arial"/>
            </a:endParaRPr>
          </a:p>
        </p:txBody>
      </p:sp>
      <p:sp>
        <p:nvSpPr>
          <p:cNvPr id="90"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75000"/>
          </a:bodyPr>
          <a:p>
            <a:pPr marL="255960" indent="-2559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4.1: </a:t>
            </a:r>
            <a:endParaRPr b="0" lang="en-US" sz="3200" spc="-1" strike="noStrike">
              <a:solidFill>
                <a:srgbClr val="000000"/>
              </a:solidFill>
              <a:latin typeface="Arial"/>
            </a:endParaRPr>
          </a:p>
          <a:p>
            <a:pPr lvl="1" marL="555840" indent="-212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lete “Members of the Sponsor … Standards Development Online”</a:t>
            </a:r>
            <a:endParaRPr b="0" lang="en-US" sz="2800" spc="-1" strike="noStrike">
              <a:solidFill>
                <a:srgbClr val="000000"/>
              </a:solidFill>
              <a:latin typeface="Arial"/>
            </a:endParaRPr>
          </a:p>
          <a:p>
            <a:pPr lvl="1" marL="555840" indent="-212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lready in P&amp;P</a:t>
            </a:r>
            <a:endParaRPr b="0" lang="en-US" sz="2800" spc="-1" strike="noStrike">
              <a:solidFill>
                <a:srgbClr val="000000"/>
              </a:solidFill>
              <a:latin typeface="Arial"/>
            </a:endParaRPr>
          </a:p>
          <a:p>
            <a:pPr marL="255960" indent="-2559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4.1.2.1</a:t>
            </a:r>
            <a:endParaRPr b="0" lang="en-US" sz="3200" spc="-1" strike="noStrike">
              <a:solidFill>
                <a:srgbClr val="000000"/>
              </a:solidFill>
              <a:latin typeface="Arial"/>
            </a:endParaRPr>
          </a:p>
          <a:p>
            <a:pPr lvl="1" marL="555840" indent="-212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onflicts with P&amp;P, change to “In addition to the rules in the “Vote” Clause of the IEEE 802 LMSC Policies and Procedures, the following provisions apply:</a:t>
            </a:r>
            <a:endParaRPr b="0" lang="en-US" sz="2800" spc="-1" strike="noStrike">
              <a:solidFill>
                <a:srgbClr val="000000"/>
              </a:solidFill>
              <a:latin typeface="Arial"/>
            </a:endParaRPr>
          </a:p>
          <a:p>
            <a:pPr lvl="2" marL="813240" indent="-17136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e Chair may vote only if the Chair's vote can change the outcome.</a:t>
            </a:r>
            <a:endParaRPr b="0" lang="en-US" sz="2400" spc="-1" strike="noStrike">
              <a:solidFill>
                <a:srgbClr val="000000"/>
              </a:solidFill>
              <a:latin typeface="Arial"/>
            </a:endParaRPr>
          </a:p>
          <a:p>
            <a:pPr lvl="2" marL="813240" indent="-17136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Votes on disciplinary matters concerning Sponsor members shall meet or exceed a 2/3 approval threshold.”  </a:t>
            </a:r>
            <a:endParaRPr b="0" lang="en-US" sz="2400" spc="-1" strike="noStrike">
              <a:solidFill>
                <a:srgbClr val="000000"/>
              </a:solidFill>
              <a:latin typeface="Arial"/>
            </a:endParaRPr>
          </a:p>
          <a:p>
            <a:pPr marL="255960" indent="-2559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5C changes</a:t>
            </a:r>
            <a:endParaRPr b="0" lang="en-US" sz="3200" spc="-1" strike="noStrike">
              <a:solidFill>
                <a:srgbClr val="000000"/>
              </a:solidFill>
              <a:latin typeface="Arial"/>
            </a:endParaRPr>
          </a:p>
          <a:p>
            <a:pPr lvl="1" marL="555840" indent="-212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write and modernize, proposed changes in ec-12-0056</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OM: Meeting Manager</a:t>
            </a:r>
            <a:endParaRPr b="0" lang="en-US" sz="4000" spc="-1" strike="noStrike">
              <a:solidFill>
                <a:srgbClr val="000000"/>
              </a:solidFill>
              <a:latin typeface="Arial"/>
            </a:endParaRPr>
          </a:p>
        </p:txBody>
      </p:sp>
      <p:sp>
        <p:nvSpPr>
          <p:cNvPr id="92"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99000"/>
          </a:bodyPr>
          <a:p>
            <a:pPr marL="337680" indent="-337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urrent OM does not state how Meeting Manager is appointed, hired or approved.</a:t>
            </a:r>
            <a:endParaRPr b="0" lang="en-US" sz="32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hange OM 5.1.3 title to be “Meeting Manager”  </a:t>
            </a:r>
            <a:endParaRPr b="0" lang="en-US" sz="28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dd paragraph “The Meeting Manager role may be taken by volunteer or may be contracted out.  In the case of a volunteer, the Sponsor Chair appoints the Meeting Manager.  In either case, the selection of the meeting manager is subject to approval by the Sponsor.”</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OM changes (cont.)</a:t>
            </a:r>
            <a:endParaRPr b="0" lang="en-US" sz="4000" spc="-1" strike="noStrike">
              <a:solidFill>
                <a:srgbClr val="000000"/>
              </a:solidFill>
              <a:latin typeface="Arial"/>
            </a:endParaRPr>
          </a:p>
        </p:txBody>
      </p:sp>
      <p:sp>
        <p:nvSpPr>
          <p:cNvPr id="94"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85000"/>
          </a:bodyPr>
          <a:p>
            <a:pPr marL="289800" indent="-2898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4.2.1: No longer have interpretations, delete from second paragraph, keeping only inquiries.</a:t>
            </a:r>
            <a:endParaRPr b="0" lang="en-US" sz="3200" spc="-1" strike="noStrike">
              <a:solidFill>
                <a:srgbClr val="000000"/>
              </a:solidFill>
              <a:latin typeface="Arial"/>
            </a:endParaRPr>
          </a:p>
          <a:p>
            <a:pPr marL="289800" indent="-2898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8:</a:t>
            </a:r>
            <a:endParaRPr b="0" lang="en-US" sz="3200" spc="-1" strike="noStrike">
              <a:solidFill>
                <a:srgbClr val="000000"/>
              </a:solidFill>
              <a:latin typeface="Arial"/>
            </a:endParaRPr>
          </a:p>
          <a:p>
            <a:pPr lvl="1" marL="630000" indent="-241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lete “Informal communications … Sponsor subgroup” as this is already covered in P&amp;P 8.4.</a:t>
            </a:r>
            <a:endParaRPr b="0" lang="en-US" sz="2800" spc="-1" strike="noStrike">
              <a:solidFill>
                <a:srgbClr val="000000"/>
              </a:solidFill>
              <a:latin typeface="Arial"/>
            </a:endParaRPr>
          </a:p>
          <a:p>
            <a:pPr lvl="1" marL="630000" indent="-241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lete “Proposed communications … upon approval by the Sponsor.” as this is already covered in P&amp;P 8.3.</a:t>
            </a:r>
            <a:endParaRPr b="0" lang="en-US" sz="2800" spc="-1" strike="noStrike">
              <a:solidFill>
                <a:srgbClr val="000000"/>
              </a:solidFill>
              <a:latin typeface="Arial"/>
            </a:endParaRPr>
          </a:p>
          <a:p>
            <a:pPr marL="289800" indent="-2898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8.1.2</a:t>
            </a:r>
            <a:endParaRPr b="0" lang="en-US" sz="3200" spc="-1" strike="noStrike">
              <a:solidFill>
                <a:srgbClr val="000000"/>
              </a:solidFill>
              <a:latin typeface="Arial"/>
            </a:endParaRPr>
          </a:p>
          <a:p>
            <a:pPr lvl="1" marL="630000" indent="-241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lete “Sponsor members receiving ... the relevant Sponsor subgroup Chair.” as this is already in OM 8.</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OM changes (cont. more)</a:t>
            </a:r>
            <a:endParaRPr b="0" lang="en-US" sz="4000" spc="-1" strike="noStrike">
              <a:solidFill>
                <a:srgbClr val="000000"/>
              </a:solidFill>
              <a:latin typeface="Arial"/>
            </a:endParaRPr>
          </a:p>
        </p:txBody>
      </p:sp>
      <p:sp>
        <p:nvSpPr>
          <p:cNvPr id="96"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9: Delete entire Clause, it is covered by P&amp;P 8.5 and OM 4.1.1 item f).</a:t>
            </a:r>
            <a:endParaRPr b="0" lang="en-US" sz="3200" spc="-1" strike="noStrike">
              <a:solidFill>
                <a:srgbClr val="000000"/>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M 12: Change to read</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All IEEE 802 LMSC standards will be distributed in an electronic format on an annual basis to registered attendees.”</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G 2.4 CD-ROMs</a:t>
            </a:r>
            <a:endParaRPr b="0" lang="en-US" sz="4000" spc="-1" strike="noStrike">
              <a:solidFill>
                <a:srgbClr val="000000"/>
              </a:solidFill>
              <a:latin typeface="Arial"/>
            </a:endParaRPr>
          </a:p>
        </p:txBody>
      </p:sp>
      <p:sp>
        <p:nvSpPr>
          <p:cNvPr id="98"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99000"/>
          </a:bodyPr>
          <a:p>
            <a:pPr marL="337680" indent="-337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We are now using DVDs and may switch to other, appropriate medium later.</a:t>
            </a:r>
            <a:endParaRPr b="0" lang="en-US" sz="3200" spc="-1" strike="noStrike">
              <a:solidFill>
                <a:srgbClr val="000000"/>
              </a:solidFill>
              <a:latin typeface="Arial"/>
            </a:endParaRPr>
          </a:p>
          <a:p>
            <a:pPr marL="337680" indent="-337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roposed changes to 2.4 are extensive in words, small in effect.</a:t>
            </a:r>
            <a:endParaRPr b="0" lang="en-US" sz="32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hange “CD-ROM” to “Electronic format”</a:t>
            </a:r>
            <a:endParaRPr b="0" lang="en-US" sz="28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llow Recording Secretary to determine format</a:t>
            </a:r>
            <a:endParaRPr b="0" lang="en-US" sz="28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State that a durable, physical format (e.g., CD-ROM or DVD) is preferred.</a:t>
            </a:r>
            <a:endParaRPr b="0" lang="en-US" sz="28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Listed on next slide.</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G 2.4 new text</a:t>
            </a:r>
            <a:endParaRPr b="0" lang="en-US" sz="4000" spc="-1" strike="noStrike">
              <a:solidFill>
                <a:srgbClr val="000000"/>
              </a:solidFill>
              <a:latin typeface="Arial"/>
            </a:endParaRPr>
          </a:p>
        </p:txBody>
      </p:sp>
      <p:sp>
        <p:nvSpPr>
          <p:cNvPr id="100"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44000"/>
          </a:bodyPr>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Standards distribution in electronic format (EC Motion Origin)</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Originally an EC motion, updated by EC motion 16 November 2012).</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This guideline defines the mechanism for generating and handing out IEEE 802 LMSC standards in a electronic format. The Recording Secretary shall be responsible for determining for the electronic format and for creating the version for that year.  The Sponsor has requested that the electronic format be a durable, physical format, such as CD-ROM or DVD.</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1. The electronic format contains</a:t>
            </a:r>
            <a:endParaRPr b="0" lang="en-US" sz="3200" spc="-1" strike="noStrike">
              <a:solidFill>
                <a:srgbClr val="000000"/>
              </a:solidFill>
              <a:latin typeface="Arial"/>
            </a:endParaRPr>
          </a:p>
          <a:p>
            <a:pPr lvl="1" marL="325800" indent="-124920">
              <a:spcBef>
                <a:spcPts val="7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rPr>
              <a:t>all PDF files for IEEE 802 LMSC standards,</a:t>
            </a:r>
            <a:endParaRPr b="0" lang="en-US" sz="2800" spc="-1" strike="noStrike">
              <a:solidFill>
                <a:srgbClr val="000000"/>
              </a:solidFill>
              <a:latin typeface="Arial"/>
            </a:endParaRPr>
          </a:p>
          <a:p>
            <a:pPr lvl="1" marL="325800" indent="-124920">
              <a:spcBef>
                <a:spcPts val="700"/>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rPr>
              <a:t>Relevant LMSC rules including: IEEE 802 LMSC Policy and Procedures, IEEE 802 LMSC Operations Manual, IEEE 802 LMSC Working Group Policies and Procedures and IEEE 802 LMSC Chair's Guidelines.</a:t>
            </a:r>
            <a:endParaRPr b="0" lang="en-US" sz="28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2. Produced once a year, initial distribution at November plenary meeting and available for distribution during the following plenary meetings.</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3. In order receive a copy of the electronic format, the individual shall be registered at the plenary meeting where the electronic format is distributed </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4. Distribution is offered during badge pickup.</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5. The license is for personal use only – individuals will initial receipt of the electronic format.</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6. Previously issued electronic formats are licensed to recipient only and is not transferable. The recipient may keep it for archival purposes or should be destroyed.</a:t>
            </a:r>
            <a:endParaRPr b="0" lang="en-US" sz="3200" spc="-1" strike="noStrike">
              <a:solidFill>
                <a:srgbClr val="000000"/>
              </a:solidFill>
              <a:latin typeface="Arial"/>
            </a:endParaRPr>
          </a:p>
          <a:p>
            <a:pPr marL="15084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7. The Sponsor Chair may make an exception to the above, subject to copyright requirements of the IEEE.</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8:46:05Z</dcterms:created>
  <dc:creator>Phil Beecher</dc:creator>
  <dc:description/>
  <dc:language>en-US</dc:language>
  <cp:lastModifiedBy/>
  <cp:lastPrinted>2000-03-07T00:55:37Z</cp:lastPrinted>
  <dcterms:modified xsi:type="dcterms:W3CDTF">2012-10-31T02:42:57Z</dcterms:modified>
  <cp:revision>968</cp:revision>
  <dc:subject/>
  <dc:title>TG4g SUN Closing Report</dc:title>
</cp:coreProperties>
</file>