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C603CF3-1CF6-4ABF-A712-3D9FC713B3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54160" y="701640"/>
            <a:ext cx="4626000" cy="3468600"/>
          </a:xfrm>
          <a:prstGeom prst="rect">
            <a:avLst/>
          </a:prstGeom>
          <a:ln w="0">
            <a:noFill/>
          </a:ln>
        </p:spPr>
      </p:sp>
      <p:sp>
        <p:nvSpPr>
          <p:cNvPr id="7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osted to the EC reflector: 2012/02/10 at 10:30am M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54160" y="701640"/>
            <a:ext cx="4626000" cy="3468600"/>
          </a:xfrm>
          <a:prstGeom prst="rect">
            <a:avLst/>
          </a:prstGeom>
          <a:ln w="0">
            <a:noFill/>
          </a:ln>
        </p:spPr>
      </p:sp>
      <p:sp>
        <p:nvSpPr>
          <p:cNvPr id="8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osted to the EC reflector: 2012/02/10 at 10:30am M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54160" y="701640"/>
            <a:ext cx="4626000" cy="3468600"/>
          </a:xfrm>
          <a:prstGeom prst="rect">
            <a:avLst/>
          </a:prstGeom>
          <a:ln w="0">
            <a:noFill/>
          </a:ln>
        </p:spPr>
      </p:sp>
      <p:sp>
        <p:nvSpPr>
          <p:cNvPr id="8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osted to the EC reflector: 2012/02/10 at 10:30am M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54160" y="701640"/>
            <a:ext cx="4626000" cy="3468600"/>
          </a:xfrm>
          <a:prstGeom prst="rect">
            <a:avLst/>
          </a:prstGeom>
          <a:ln w="0">
            <a:noFill/>
          </a:ln>
        </p:spPr>
      </p:sp>
      <p:sp>
        <p:nvSpPr>
          <p:cNvPr id="8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iscussed during the November 2012 EC Workshop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e WS11-4 in doc::EC-12/0008r0</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54160" y="701640"/>
            <a:ext cx="4626000" cy="3468600"/>
          </a:xfrm>
          <a:prstGeom prst="rect">
            <a:avLst/>
          </a:prstGeom>
          <a:ln w="0">
            <a:noFill/>
          </a:ln>
        </p:spPr>
      </p:sp>
      <p:sp>
        <p:nvSpPr>
          <p:cNvPr id="8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Discussed during the November 2012 EC Workshop –</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ee WS11-5 in doc::EC-12/0008r0</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74BEA-A545-4669-8352-676EB28C2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670F8D-8224-4564-B1F3-0E24C49F8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5CD5D-27D2-4C2D-B82F-CB0083729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FF2BF-7D81-41FA-8C87-429C4EE9C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96244-53AB-4C30-9B9A-9EF16578F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73137-4A39-44B0-BD5E-98A43D5B6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7197B-EC5B-449A-A672-4AB776EFD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888569-ED0B-410A-AB63-20CA3BE6D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5BC4E-3F21-4E4A-9FB6-53C3A4981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EA5C0-A9A0-4F7F-9802-F4E80933C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F30B5-9C71-4D43-8918-1FCD94C2B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E85BF-A562-4BAE-AF44-40C8CA66A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CBE8F8-573B-410C-8B37-5190DBF80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090760" y="334800"/>
            <a:ext cx="335664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 EC-12/0008r0</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6520" y="6475320"/>
            <a:ext cx="47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hyperlink" Target="http://standards.ieee.org/board/aud/LMSC.pdf" TargetMode="External"/><Relationship Id="rId2" Type="http://schemas.openxmlformats.org/officeDocument/2006/relationships/hyperlink" Target="http://ieee802.org/PNP/2010-07/IEEE_802_LMSC_OM_approved_100716.pdf" TargetMode="External"/><Relationship Id="rId3" Type="http://schemas.openxmlformats.org/officeDocument/2006/relationships/hyperlink" Target="http://ieee802.org/PNP/2010-07/IEEE_802_LMSC_WG_PandP_approved_100716.pdf"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Proposed Changes to P&amp;P and OM </a:t>
            </a:r>
            <a:endParaRPr b="1" lang="en-US" sz="3200" spc="-1" strike="noStrike">
              <a:solidFill>
                <a:srgbClr val="000000"/>
              </a:solidFill>
              <a:latin typeface="Times New Roman"/>
            </a:endParaRPr>
          </a:p>
        </p:txBody>
      </p:sp>
      <p:sp>
        <p:nvSpPr>
          <p:cNvPr id="56"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2-02-16</a:t>
            </a:r>
            <a:endParaRPr b="1" lang="en-US" sz="2000" spc="-1" strike="noStrike">
              <a:solidFill>
                <a:srgbClr val="000000"/>
              </a:solidFill>
              <a:latin typeface="Times New Roman"/>
            </a:endParaRPr>
          </a:p>
        </p:txBody>
      </p:sp>
      <p:graphicFrame>
        <p:nvGraphicFramePr>
          <p:cNvPr id="57" name=""/>
          <p:cNvGraphicFramePr/>
          <p:nvPr/>
        </p:nvGraphicFramePr>
        <p:xfrm>
          <a:off x="515880" y="2281320"/>
          <a:ext cx="8078760" cy="2484360"/>
        </p:xfrm>
        <a:graphic>
          <a:graphicData uri="http://schemas.openxmlformats.org/presentationml/2006/ole">
            <p:oleObj progId="Word.Document.12" r:id="rId1" spid="">
              <p:embed/>
              <p:pic>
                <p:nvPicPr>
                  <p:cNvPr id="58" name="" descr=""/>
                  <p:cNvPicPr/>
                  <p:nvPr/>
                </p:nvPicPr>
                <p:blipFill>
                  <a:blip r:embed="rId2"/>
                  <a:stretch/>
                </p:blipFill>
                <p:spPr>
                  <a:xfrm>
                    <a:off x="515880" y="2281320"/>
                    <a:ext cx="8078760" cy="2484360"/>
                  </a:xfrm>
                  <a:prstGeom prst="rect">
                    <a:avLst/>
                  </a:prstGeom>
                  <a:ln w="0">
                    <a:noFill/>
                  </a:ln>
                </p:spPr>
              </p:pic>
            </p:oleObj>
          </a:graphicData>
        </a:graphic>
      </p:graphicFrame>
      <p:sp>
        <p:nvSpPr>
          <p:cNvPr id="59" name=""/>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B49E319-59C5-4280-9A30-91A35A7FB8BA}" type="slidenum">
              <a:t>1</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76"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MSC P&amp;P:</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standards.ieee.org/board/aud/LMSC.pdf</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MSC OM:</a:t>
            </a:r>
            <a:endParaRPr b="1" lang="en-US" sz="24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http://ieee802.org/PNP/2010-07/IEEE_802_LMSC_OM_approved_100716.pdf</a:t>
            </a:r>
            <a:endParaRPr b="1"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G P&amp;P:</a:t>
            </a:r>
            <a:endParaRPr b="1" lang="en-US" sz="24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http://ieee802.org/PNP/2010-07/IEEE_802_LMSC_WG_PandP_approved_100716.pdf</a:t>
            </a:r>
            <a:endParaRPr b="1"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Action items:</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339C617-4705-4034-BACD-6B473B272067}" type="slidenum">
              <a:t>10</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Proposed Changes to the LMSC OM and one change to the LMSC P&amp;P.</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of these proposed changes stem from discussions during the Nov 2011 EC Workshop.</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1BACC8B-4D94-4CAD-A4F5-B01C79A6F567}" type="slidenum">
              <a:t>2</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762120"/>
            <a:ext cx="7772400" cy="533376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suant to 4.1.4 of the LMSC Op Man:</a:t>
            </a:r>
            <a:br>
              <a:rPr sz="2000"/>
            </a:br>
            <a:r>
              <a:rPr b="1" lang="en-US" sz="2000" spc="-1" strike="noStrike">
                <a:solidFill>
                  <a:srgbClr val="000000"/>
                </a:solidFill>
                <a:latin typeface="Times New Roman"/>
              </a:rPr>
              <a:t>  “4.1.4 Revision of the IEEE 802 LMSC OM and IEEE 802 LMSCWG P&amp;P </a:t>
            </a:r>
            <a:br>
              <a:rPr sz="2000"/>
            </a:br>
            <a:br>
              <a:rPr sz="2000"/>
            </a:br>
            <a:r>
              <a:rPr b="1" lang="en-US" sz="2000" spc="-1" strike="noStrike">
                <a:solidFill>
                  <a:srgbClr val="000000"/>
                </a:solidFill>
                <a:latin typeface="Times New Roman"/>
              </a:rPr>
              <a:t>  This OM and the IEEE 802 LMSC WG P&amp;P may be revised as follows. </a:t>
            </a:r>
            <a:br>
              <a:rPr sz="2000"/>
            </a:br>
            <a:br>
              <a:rPr sz="2000"/>
            </a:br>
            <a:r>
              <a:rPr b="1" lang="en-US" sz="2000" spc="-1" strike="noStrike">
                <a:solidFill>
                  <a:srgbClr val="000000"/>
                </a:solidFill>
                <a:latin typeface="Times New Roman"/>
              </a:rPr>
              <a:t>  Revisions to these documents shall be submitted by a Sponsor member to the Sponsor no less than 30 day in advance of a Sponsor Vote to approve them. The Sponsor member proposing the revision may modify the proposed revision during the 30 days prior to a Sponsor Vote (in response to comments). Insufficient time to consider complex modifications is a valid reason to vote disapprove. A motion to revise these documents shall require a vote of approve by at least two thirds of all members of the Sponsor. Votes to approve revisions shall be taken at a plenary session. If approved, revisions become effective at the end of the plenary session where the votes were taken. </a:t>
            </a:r>
            <a:br>
              <a:rPr sz="2000"/>
            </a:br>
            <a:r>
              <a:rPr b="1" lang="en-US" sz="2000" spc="-1" strike="noStrike">
                <a:solidFill>
                  <a:srgbClr val="000000"/>
                </a:solidFill>
                <a:latin typeface="Times New Roman"/>
              </a:rPr>
              <a:t>“</a:t>
            </a:r>
            <a:endParaRPr b="1" lang="en-US" sz="20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C8F5F43F-89EE-4334-BDE5-62237070714E}" type="slidenum">
              <a:t>3</a:t>
            </a:fld>
          </a:p>
        </p:txBody>
      </p:sp>
      <p:sp>
        <p:nvSpPr>
          <p:cNvPr id="5" name="PlaceHolder 4"/>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osed Change 1</a:t>
            </a:r>
            <a:endParaRPr b="1" lang="en-US" sz="3200" spc="-1" strike="noStrike">
              <a:solidFill>
                <a:srgbClr val="000000"/>
              </a:solidFill>
              <a:latin typeface="Times New Roman"/>
            </a:endParaRPr>
          </a:p>
        </p:txBody>
      </p:sp>
      <p:sp>
        <p:nvSpPr>
          <p:cNvPr id="64"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M-</a:t>
            </a:r>
            <a:r>
              <a:rPr b="1" lang="en-US" sz="2000" spc="-1" strike="noStrike">
                <a:solidFill>
                  <a:srgbClr val="000000"/>
                </a:solidFill>
                <a:latin typeface="Times New Roman"/>
              </a:rPr>
              <a:t> </a:t>
            </a:r>
            <a:r>
              <a:rPr b="1" lang="en-US" sz="2400" spc="-1" strike="noStrike">
                <a:solidFill>
                  <a:srgbClr val="000000"/>
                </a:solidFill>
                <a:latin typeface="Times New Roman"/>
              </a:rPr>
              <a:t>5.2.1(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paragraph):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remove redundant typo</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an IEEE 802 IEEE 802 LMSC WG operating with treasury“</a:t>
            </a:r>
            <a:endParaRPr b="0" lang="en-US" sz="20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an IEEE 802 LMSC WG operating with treasury</a:t>
            </a:r>
            <a:r>
              <a:rPr b="1" lang="en-US" sz="2000" spc="-1" strike="noStrike">
                <a:solidFill>
                  <a:srgbClr val="000000"/>
                </a:solidFill>
                <a:latin typeface="Times New Roman"/>
              </a:rPr>
              <a:t>“</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BFCA2F3-C1C8-4D8C-8D20-AC24B50B75DF}" type="slidenum">
              <a:t>4</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osed Change 2</a:t>
            </a:r>
            <a:endParaRPr b="1" lang="en-US" sz="32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M-5.2.3:</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move redundant line with incorrect referenc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lete "a) The Host complied with the definition of a host in subclause 4.2.1 of this OM “</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FDD7BEE-FBB0-4310-8E33-165DBEE836E9}" type="slidenum">
              <a:t>5</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osed Change 3</a:t>
            </a: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04760"/>
            <a:ext cx="7772400" cy="41907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M – 7:</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ve clause 7 as Interpretations are no longer done by Sponsors in the IEEE-SA.</a:t>
            </a:r>
            <a:br>
              <a:rPr sz="2400"/>
            </a:br>
            <a:r>
              <a:rPr b="1" lang="en-US" sz="2400" spc="-1" strike="noStrike">
                <a:solidFill>
                  <a:srgbClr val="000000"/>
                </a:solidFill>
                <a:latin typeface="Times New Roman"/>
              </a:rPr>
              <a:t>    " 7. Interpretations </a:t>
            </a:r>
            <a:br>
              <a:rPr sz="2400"/>
            </a:br>
            <a:r>
              <a:rPr b="1" lang="en-US" sz="2400" spc="-1" strike="noStrike">
                <a:solidFill>
                  <a:srgbClr val="000000"/>
                </a:solidFill>
                <a:latin typeface="Times New Roman"/>
              </a:rPr>
              <a:t>    Interpretations shall be approved by at least a 75% approval vote of the Sponsor subgroup that generated the document being interpreted, or a group determined by the Sponsor if such a subgroup does not exist. "</a:t>
            </a:r>
            <a:br>
              <a:rPr sz="2400"/>
            </a:b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6CFFE0A-4EDA-4AB5-84F7-8FC9252FB877}" type="slidenum">
              <a:t>6</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osed Change 4</a:t>
            </a:r>
            <a:endParaRPr b="1" lang="en-US" sz="3200" spc="-1" strike="noStrike">
              <a:solidFill>
                <a:srgbClr val="000000"/>
              </a:solidFill>
              <a:latin typeface="Times New Roman"/>
            </a:endParaRPr>
          </a:p>
        </p:txBody>
      </p:sp>
      <p:sp>
        <p:nvSpPr>
          <p:cNvPr id="70"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al for a rule change to provide guidance for future regional choice of venues.</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M - Add new clause </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5.1.1.2 IEEE 802 LMSC Plenary Venue selection</a:t>
            </a:r>
            <a:endParaRPr b="1"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EEE 802 LMSC Executive Secretary presents proposed plenary venues to the Sponsor.  Venue selection shall consist of venues located in various locations around the world.  Each year there shall be at least one venue location that is outside the United States and North American continent.  Venue selection shall be consistent with the changing needs of IEEE 802 membership.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ocation, date, and fees for each plenary session require the approval of the Sponsor prior to signing contracts on behalf of the IEEE 802 LMS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2625BAC-FB0C-4CBF-A357-9C449AC94E23}" type="slidenum">
              <a:t>7</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urrent requirements of Exec Secretary</a:t>
            </a:r>
            <a:endParaRPr b="1" lang="en-US" sz="3200" spc="-1" strike="noStrike">
              <a:solidFill>
                <a:srgbClr val="000000"/>
              </a:solidFill>
              <a:latin typeface="Times New Roman"/>
            </a:endParaRPr>
          </a:p>
        </p:txBody>
      </p:sp>
      <p:sp>
        <p:nvSpPr>
          <p:cNvPr id="72" name="PlaceHolder 2"/>
          <p:cNvSpPr>
            <a:spLocks noGrp="1"/>
          </p:cNvSpPr>
          <p:nvPr>
            <p:ph/>
          </p:nvPr>
        </p:nvSpPr>
        <p:spPr>
          <a:xfrm>
            <a:off x="685800" y="1599840"/>
            <a:ext cx="7772400" cy="48006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MSC P&amp;P -- </a:t>
            </a:r>
            <a:r>
              <a:rPr b="1" lang="en-US" sz="2000" spc="-1" strike="noStrike">
                <a:solidFill>
                  <a:srgbClr val="000000"/>
                </a:solidFill>
                <a:latin typeface="Times New Roman"/>
              </a:rPr>
              <a:t>3.4.5 Executive Secretary </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ecutive Secretary shall: </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Oversee all activities related to Sponsor sponsored meeting facilities and services </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With the treasurer, ensure that Sponsor sponsored sessions are compliant with IEEE financial policies </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 Present summaries of venue options to the Sponsor, select venues under oversight of the Sponsor, and sign approved proposals on behalf of 802 </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 Coordinate with CSP (Conference Service Providers) and Sponsor Chair on major decisions </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 Oversee maintenance of Sponsor Registration Database </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 Provide public notice of upcoming plenary session.</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23E95D4-5C83-4959-9088-BA8B4482324A}" type="slidenum">
              <a:t>8</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osed Change 5</a:t>
            </a:r>
            <a:endParaRPr b="1" lang="en-US" sz="3200" spc="-1" strike="noStrike">
              <a:solidFill>
                <a:srgbClr val="000000"/>
              </a:solidFill>
              <a:latin typeface="Times New Roman"/>
            </a:endParaRPr>
          </a:p>
        </p:txBody>
      </p:sp>
      <p:sp>
        <p:nvSpPr>
          <p:cNvPr id="74"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al for a rule change to require venue selection be approved by the EC prior to contract signing.</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 LMSC P&amp;P 3.4.5 c)</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c) Present summaries of venue options to the Sponsor, select venues </a:t>
            </a:r>
            <a:r>
              <a:rPr b="0" lang="en-US" sz="2400" spc="-1" strike="noStrike">
                <a:solidFill>
                  <a:srgbClr val="cc0000"/>
                </a:solidFill>
                <a:latin typeface="Times New Roman"/>
              </a:rPr>
              <a:t>under oversight</a:t>
            </a:r>
            <a:r>
              <a:rPr b="0" lang="en-US" sz="2400" spc="-1" strike="noStrike">
                <a:solidFill>
                  <a:srgbClr val="000000"/>
                </a:solidFill>
                <a:latin typeface="Times New Roman"/>
              </a:rPr>
              <a:t> of the Sponsor, and sign approved proposals on behalf of 802 “</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c) Present summaries of venue options to the Sponsor, select venues </a:t>
            </a:r>
            <a:r>
              <a:rPr b="0" lang="en-US" sz="2400" spc="-1" strike="noStrike">
                <a:solidFill>
                  <a:srgbClr val="cc0000"/>
                </a:solidFill>
                <a:latin typeface="Times New Roman"/>
              </a:rPr>
              <a:t>with approval</a:t>
            </a:r>
            <a:r>
              <a:rPr b="0" lang="en-US" sz="2400" spc="-1" strike="noStrike">
                <a:solidFill>
                  <a:srgbClr val="000000"/>
                </a:solidFill>
                <a:latin typeface="Times New Roman"/>
              </a:rPr>
              <a:t> of the Sponsor, and sign approved proposals on behalf of 802.</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795248C-348D-4C1E-BCB0-B7ADD595FA4B}" type="slidenum">
              <a:t>9</a:t>
            </a:fld>
          </a:p>
        </p:txBody>
      </p:sp>
      <p:sp>
        <p:nvSpPr>
          <p:cNvPr id="6" name="PlaceHolder 5"/>
          <p:cNvSpPr>
            <a:spLocks noGrp="1"/>
          </p:cNvSpPr>
          <p:nvPr>
            <p:ph type="dt" idx="1"/>
          </p:nvPr>
        </p:nvSpPr>
        <p:spPr/>
        <p:txBody>
          <a:bodyPr/>
          <a:p>
            <a:r>
              <a:rPr lang="en-US"/>
              <a:t>February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4T17:14:37Z</dcterms:created>
  <dc:creator>Jon Rosdahl</dc:creator>
  <dc:description/>
  <dc:language>en-US</dc:language>
  <cp:lastModifiedBy>jr05</cp:lastModifiedBy>
  <cp:lastPrinted>1998-02-10T13:28:06Z</cp:lastPrinted>
  <dcterms:modified xsi:type="dcterms:W3CDTF">2012-02-17T04:38:25Z</dcterms:modified>
  <cp:revision>10</cp:revision>
  <dc:subject/>
  <dc:title>More Proposed Changes to P&amp;P and OM</dc:title>
</cp:coreProperties>
</file>