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13F8C02-A6BB-489B-9742-024040582C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B73DD0E-1FAA-45DC-B7E7-1AB7AE820E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13"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4" name="PlaceHolder 1"/>
          <p:cNvSpPr>
            <a:spLocks noGrp="1"/>
          </p:cNvSpPr>
          <p:nvPr>
            <p:ph type="sldImg"/>
          </p:nvPr>
        </p:nvSpPr>
        <p:spPr>
          <a:xfrm>
            <a:off x="1146240" y="695160"/>
            <a:ext cx="4641840" cy="3481560"/>
          </a:xfrm>
          <a:prstGeom prst="rect">
            <a:avLst/>
          </a:prstGeom>
          <a:ln w="0">
            <a:noFill/>
          </a:ln>
        </p:spPr>
      </p:sp>
      <p:sp>
        <p:nvSpPr>
          <p:cNvPr id="115" name="PlaceHolder 2"/>
          <p:cNvSpPr>
            <a:spLocks noGrp="1"/>
          </p:cNvSpPr>
          <p:nvPr>
            <p:ph type="body"/>
          </p:nvPr>
        </p:nvSpPr>
        <p:spPr>
          <a:xfrm>
            <a:off x="693720" y="4408560"/>
            <a:ext cx="5546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6" name="Slide Number Placeholder 3"/>
          <p:cNvSpPr/>
          <p:nvPr/>
        </p:nvSpPr>
        <p:spPr>
          <a:xfrm>
            <a:off x="3927600" y="8815320"/>
            <a:ext cx="300492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EF6AFE-39F0-4286-AD6A-59E00B2765C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497D846-17D0-4C97-A06A-B5B804C92F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0"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1" name="PlaceHolder 1"/>
          <p:cNvSpPr>
            <a:spLocks noGrp="1"/>
          </p:cNvSpPr>
          <p:nvPr>
            <p:ph type="sldImg"/>
          </p:nvPr>
        </p:nvSpPr>
        <p:spPr>
          <a:xfrm>
            <a:off x="1146240" y="695160"/>
            <a:ext cx="4641840" cy="3481560"/>
          </a:xfrm>
          <a:prstGeom prst="rect">
            <a:avLst/>
          </a:prstGeom>
          <a:ln w="0">
            <a:noFill/>
          </a:ln>
        </p:spPr>
      </p:sp>
      <p:sp>
        <p:nvSpPr>
          <p:cNvPr id="122" name="PlaceHolder 2"/>
          <p:cNvSpPr>
            <a:spLocks noGrp="1"/>
          </p:cNvSpPr>
          <p:nvPr>
            <p:ph type="body"/>
          </p:nvPr>
        </p:nvSpPr>
        <p:spPr>
          <a:xfrm>
            <a:off x="693720" y="4408560"/>
            <a:ext cx="5546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3" name="Slide Number Placeholder 3"/>
          <p:cNvSpPr/>
          <p:nvPr/>
        </p:nvSpPr>
        <p:spPr>
          <a:xfrm>
            <a:off x="3927600" y="8815320"/>
            <a:ext cx="300492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8A5745-52B7-4E68-AEE4-39FE78200D9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910101A-9E9B-4BBB-BC32-73C4210BEC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7"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8" name="PlaceHolder 1"/>
          <p:cNvSpPr>
            <a:spLocks noGrp="1"/>
          </p:cNvSpPr>
          <p:nvPr>
            <p:ph type="sldImg"/>
          </p:nvPr>
        </p:nvSpPr>
        <p:spPr>
          <a:xfrm>
            <a:off x="1146240" y="695160"/>
            <a:ext cx="4641840" cy="3481560"/>
          </a:xfrm>
          <a:prstGeom prst="rect">
            <a:avLst/>
          </a:prstGeom>
          <a:ln w="0">
            <a:noFill/>
          </a:ln>
        </p:spPr>
      </p:sp>
      <p:sp>
        <p:nvSpPr>
          <p:cNvPr id="129" name="PlaceHolder 2"/>
          <p:cNvSpPr>
            <a:spLocks noGrp="1"/>
          </p:cNvSpPr>
          <p:nvPr>
            <p:ph type="body"/>
          </p:nvPr>
        </p:nvSpPr>
        <p:spPr>
          <a:xfrm>
            <a:off x="693720" y="4408560"/>
            <a:ext cx="5546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0" name="Slide Number Placeholder 3"/>
          <p:cNvSpPr/>
          <p:nvPr/>
        </p:nvSpPr>
        <p:spPr>
          <a:xfrm>
            <a:off x="3927600" y="8815320"/>
            <a:ext cx="300492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6C4D6F7-E9E4-4DD7-9BAA-F12E3E762F9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DF0BDC-0BDE-4A02-8AB9-F7080CC24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26303-79D6-4934-A58F-9D19D229C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79A28-C9D4-4794-9B84-AE2E3C167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99548-2FBD-41D4-B71B-ED3A5C2FB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1277F-6FEB-49B2-B012-AE2331AB5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115F2-AC50-44EB-B138-A54C900F4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83D39-C35C-4532-9389-D4397DE0A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AA5AD-3E24-4DE6-8E20-060A17907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B4C5A-597D-4628-94B6-E3005F3A9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CF794-7109-4E8E-B8CE-F87F9E7F9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66E6E-13E8-4677-A7FE-617053400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D2C3E-D4C8-49AC-91C3-7A47F1B999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06668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E8EAEED-8623-4BC5-8357-8EB71FF23C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090760" y="334800"/>
            <a:ext cx="335664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 EC-12/0007r3</a:t>
            </a:r>
            <a:endParaRPr b="0" lang="en-US" sz="18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s://mentor.ieee.org/802-ec/dcn/12/ec-12-0003-02-00EC-november-2011-ec-workshop-action-items.xls"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hyperlink" Target="https://mentor.ieee.org/802-ec/dcn/12/ec-12-0014-00-00EC-802-ec-poll-fees-services-and-venue-location-workshop.ppt"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s://mentor.ieee.org/802-ec/dcn/12/ec-12-0003-02-00EC-november-2011-ec-workshop-action-items.xls"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s://mentor.ieee.org/802-ec/dcn/12/ec-12-0003-02-00EC-november-2011-ec-workshop-action-items.xls"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ecutive Secretary Agenda Items </a:t>
            </a:r>
            <a:br>
              <a:rPr sz="3200"/>
            </a:br>
            <a:r>
              <a:rPr b="1" lang="en-US" sz="3200" spc="-1" strike="noStrike">
                <a:solidFill>
                  <a:srgbClr val="000000"/>
                </a:solidFill>
                <a:latin typeface="Times New Roman"/>
              </a:rPr>
              <a:t>March 2012</a:t>
            </a:r>
            <a:endParaRPr b="1" lang="en-US" sz="3200" spc="-1" strike="noStrike">
              <a:solidFill>
                <a:srgbClr val="000000"/>
              </a:solidFill>
              <a:latin typeface="Times New Roman"/>
            </a:endParaRPr>
          </a:p>
        </p:txBody>
      </p:sp>
      <p:sp>
        <p:nvSpPr>
          <p:cNvPr id="56" name="PlaceHolder 2"/>
          <p:cNvSpPr>
            <a:spLocks noGrp="1"/>
          </p:cNvSpPr>
          <p:nvPr>
            <p:ph/>
          </p:nvPr>
        </p:nvSpPr>
        <p:spPr>
          <a:xfrm>
            <a:off x="685800" y="21337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2-03-12</a:t>
            </a:r>
            <a:endParaRPr b="1" lang="en-US" sz="2000" spc="-1" strike="noStrike">
              <a:solidFill>
                <a:srgbClr val="000000"/>
              </a:solidFill>
              <a:latin typeface="Times New Roman"/>
            </a:endParaRPr>
          </a:p>
        </p:txBody>
      </p:sp>
      <p:graphicFrame>
        <p:nvGraphicFramePr>
          <p:cNvPr id="57" name=""/>
          <p:cNvGraphicFramePr/>
          <p:nvPr/>
        </p:nvGraphicFramePr>
        <p:xfrm>
          <a:off x="533520" y="3048120"/>
          <a:ext cx="8138880" cy="2498760"/>
        </p:xfrm>
        <a:graphic>
          <a:graphicData uri="http://schemas.openxmlformats.org/presentationml/2006/ole">
            <p:oleObj progId="Word.Document.12" r:id="rId1" spid="">
              <p:embed/>
              <p:pic>
                <p:nvPicPr>
                  <p:cNvPr id="58" name="" descr=""/>
                  <p:cNvPicPr/>
                  <p:nvPr/>
                </p:nvPicPr>
                <p:blipFill>
                  <a:blip r:embed="rId2"/>
                  <a:stretch/>
                </p:blipFill>
                <p:spPr>
                  <a:xfrm>
                    <a:off x="533520" y="3048120"/>
                    <a:ext cx="8138880" cy="2498760"/>
                  </a:xfrm>
                  <a:prstGeom prst="rect">
                    <a:avLst/>
                  </a:prstGeom>
                  <a:ln w="0">
                    <a:noFill/>
                  </a:ln>
                </p:spPr>
              </p:pic>
            </p:oleObj>
          </a:graphicData>
        </a:graphic>
      </p:graphicFrame>
      <p:sp>
        <p:nvSpPr>
          <p:cNvPr id="59" name=""/>
          <p:cNvSpPr/>
          <p:nvPr/>
        </p:nvSpPr>
        <p:spPr>
          <a:xfrm>
            <a:off x="609480" y="2666880"/>
            <a:ext cx="144792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956C8389-45D6-4BFF-9E46-9482F11E6F98}" type="slidenum">
              <a:t>1</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iday, Closing EC Meeting</a:t>
            </a:r>
            <a:endParaRPr b="1" lang="en-US" sz="3200" spc="-1" strike="noStrike">
              <a:solidFill>
                <a:srgbClr val="000000"/>
              </a:solidFill>
              <a:latin typeface="Times New Roman"/>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ch 16, 2012</a:t>
            </a:r>
            <a:endParaRPr b="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Sec Agenda Items</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010F93FD-8DE4-4759-8BF1-1EEB4DFB670D}" type="slidenum">
              <a:t>10</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01 Network  Services Contract</a:t>
            </a: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pprove the Network Services Contract with Verila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Rosdahl</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baseline="30000">
                <a:solidFill>
                  <a:srgbClr val="000000"/>
                </a:solidFill>
                <a:latin typeface="Times New Roman"/>
              </a:rPr>
              <a:t>nd</a:t>
            </a:r>
            <a:r>
              <a:rPr b="1" lang="en-US" sz="2400" spc="-1" strike="noStrike">
                <a:solidFill>
                  <a:srgbClr val="000000"/>
                </a:solidFill>
                <a:latin typeface="Times New Roman"/>
              </a:rPr>
              <a:t> Heil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0-0 approved.</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0FE678ED-7D5E-4564-93F0-E5769C449DC4}" type="slidenum">
              <a:t>11</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05: IEEE 802 EC Interim Teleconference</a:t>
            </a:r>
            <a:endParaRPr b="1" lang="en-US" sz="32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02 EC Interim Conference calls are 1-3PM ET on the first Tuesday of FEB, JUN and OCT.</a:t>
            </a:r>
            <a:br>
              <a:rPr sz="2800"/>
            </a:br>
            <a:br>
              <a:rPr sz="2800"/>
            </a:br>
            <a:r>
              <a:rPr b="1" lang="en-US" sz="2800" spc="-1" strike="noStrike">
                <a:solidFill>
                  <a:srgbClr val="000000"/>
                </a:solidFill>
                <a:latin typeface="Times New Roman"/>
              </a:rPr>
              <a:t>2012: 02FEB, 05JUN, 02OCT</a:t>
            </a:r>
            <a:br>
              <a:rPr sz="2800"/>
            </a:br>
            <a:r>
              <a:rPr b="1" lang="en-US" sz="2800" spc="-1" strike="noStrike">
                <a:solidFill>
                  <a:srgbClr val="000000"/>
                </a:solidFill>
                <a:latin typeface="Times New Roman"/>
              </a:rPr>
              <a:t>2013: 05FEB, 04JUN, 01OCT</a:t>
            </a:r>
            <a:br>
              <a:rPr sz="2800"/>
            </a:br>
            <a:r>
              <a:rPr b="1" lang="en-US" sz="2800" spc="-1" strike="noStrike">
                <a:solidFill>
                  <a:srgbClr val="000000"/>
                </a:solidFill>
                <a:latin typeface="Times New Roman"/>
              </a:rPr>
              <a:t>2014: 04FEB, 03JUN, 07OCT</a:t>
            </a:r>
            <a:br>
              <a:rPr sz="2800"/>
            </a:b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AA1B058C-09C7-4BDB-9F62-A24A62BDB473}" type="slidenum">
              <a:t>12</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 EC Interim Teleconference:</a:t>
            </a:r>
            <a:br>
              <a:rPr sz="3200"/>
            </a:br>
            <a:r>
              <a:rPr b="1" lang="en-US" sz="3200" spc="-1" strike="noStrike">
                <a:solidFill>
                  <a:srgbClr val="000000"/>
                </a:solidFill>
                <a:latin typeface="Times New Roman"/>
              </a:rPr>
              <a:t> June 5, 2012 1-3PM ET</a:t>
            </a:r>
            <a:endParaRPr b="1" lang="en-US" sz="32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Agenda:</a:t>
            </a:r>
            <a:endParaRPr b="1"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lcome/Intro/Approve Agenda                            - Nikolich 4 min </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Single Sales Channel Update                     - Nikolich 3 min</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Pending Appeal - 802.15.6                         - Nikolich 3 min</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Network Services Contract Status</a:t>
            </a:r>
            <a:r>
              <a:rPr b="0" lang="en-US" sz="2000" spc="-1" strike="noStrike">
                <a:solidFill>
                  <a:srgbClr val="000000"/>
                </a:solidFill>
                <a:latin typeface="Times New Roman"/>
              </a:rPr>
              <a:t>	</a:t>
            </a:r>
            <a:r>
              <a:rPr b="0" lang="en-US" sz="2000" spc="-1" strike="noStrike">
                <a:solidFill>
                  <a:srgbClr val="000000"/>
                </a:solidFill>
                <a:latin typeface="Times New Roman"/>
              </a:rPr>
              <a:t>       - Rosdahl 3 min </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ussion: Meeting Manager Job Description </a:t>
            </a:r>
            <a:endParaRPr b="0" lang="en-US" sz="20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nd proposed rule changes                  - Rosdahl 30 min</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July 2012 San Deigo Meeting Plans           - Rosdahl 3 min</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July 2013 Geneva Meeting Plans </a:t>
            </a:r>
            <a:r>
              <a:rPr b="0" lang="en-US" sz="2000" spc="-1" strike="noStrike">
                <a:solidFill>
                  <a:srgbClr val="000000"/>
                </a:solidFill>
                <a:latin typeface="Times New Roman"/>
              </a:rPr>
              <a:t>	</a:t>
            </a:r>
            <a:r>
              <a:rPr b="0" lang="en-US" sz="2000" spc="-1" strike="noStrike">
                <a:solidFill>
                  <a:srgbClr val="000000"/>
                </a:solidFill>
                <a:latin typeface="Times New Roman"/>
              </a:rPr>
              <a:t>       - Rosdahl 4 min</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802.11 - Sponsor Ballot Completion       - Kraemer 10 min</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date: November Workshop Action items         - Kraemer 15 min</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OB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5 min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788F51E-BD56-4C7C-BC50-70FC671F43EB}" type="slidenum">
              <a:t>13</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01: Update on Upcoming Venues</a:t>
            </a:r>
            <a:endParaRPr b="1" lang="en-US" sz="32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Geneva, July 2013</a:t>
            </a:r>
            <a:endParaRPr b="1"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gapore, March 2015</a:t>
            </a:r>
            <a:endParaRPr b="1"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ture Venue Contract Status</a:t>
            </a:r>
            <a:endParaRPr b="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ied in Workshop spreadsheet:</a:t>
            </a:r>
            <a:endParaRPr b="0" lang="en-US" sz="1800" spc="-1" strike="noStrike">
              <a:solidFill>
                <a:srgbClr val="000000"/>
              </a:solidFill>
              <a:latin typeface="Times New Roman"/>
            </a:endParaRPr>
          </a:p>
          <a:p>
            <a:pPr lvl="2" marL="108576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mentor.ieee.org/802-ec/dcn/12/ec-12-0003-02-00EC-november-2011-ec-workshop-action-items.xls</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Tab WS11-2</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able to get free date at Singapore – no need to move a venue from 2014 to allow Singapore meeting to occur in 2014.</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ots currently Open at </a:t>
            </a:r>
            <a:endParaRPr b="0" lang="en-US" sz="1800" spc="-1" strike="noStrike">
              <a:solidFill>
                <a:srgbClr val="000000"/>
              </a:solidFill>
              <a:latin typeface="Times New Roman"/>
            </a:endParaRPr>
          </a:p>
          <a:p>
            <a:pPr lvl="2" marL="108576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17 – March and Nov</a:t>
            </a:r>
            <a:endParaRPr b="0" lang="en-US" sz="1600" spc="-1" strike="noStrike">
              <a:solidFill>
                <a:srgbClr val="000000"/>
              </a:solidFill>
              <a:latin typeface="Times New Roman"/>
            </a:endParaRPr>
          </a:p>
          <a:p>
            <a:pPr lvl="2" marL="108576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18 – March and Nov</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ve a 2016 Venue out in time to open a slot for a NonNA venu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8B36673D-7642-43ED-B25F-07AB9D12B5D1}" type="slidenum">
              <a:t>14</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01 -- Site Visit for Geneva June 2012</a:t>
            </a:r>
            <a:endParaRPr b="1" lang="en-US" sz="3200" spc="-1" strike="noStrike">
              <a:solidFill>
                <a:srgbClr val="000000"/>
              </a:solidFill>
              <a:latin typeface="Times New Roman"/>
            </a:endParaRPr>
          </a:p>
        </p:txBody>
      </p:sp>
      <p:sp>
        <p:nvSpPr>
          <p:cNvPr id="87" name="PlaceHolder 2"/>
          <p:cNvSpPr>
            <a:spLocks noGrp="1"/>
          </p:cNvSpPr>
          <p:nvPr>
            <p:ph/>
          </p:nvPr>
        </p:nvSpPr>
        <p:spPr>
          <a:xfrm>
            <a:off x="685800" y="1599840"/>
            <a:ext cx="7772400" cy="4724280"/>
          </a:xfrm>
          <a:prstGeom prst="rect">
            <a:avLst/>
          </a:prstGeom>
          <a:noFill/>
          <a:ln w="0">
            <a:noFill/>
          </a:ln>
        </p:spPr>
        <p:txBody>
          <a:bodyPr lIns="92160" rIns="92160" tIns="46080" bIns="4608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EEE 802 July 2013 Plenary Session – Geneva, Switzerland</a:t>
            </a: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Why Face To Face Events should conduct a site inspection to Geneva?</a:t>
            </a: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properly conducted site inspection is a significant factor in ensuring a successful session. In particular when planning an event in a venue and location not previously used by the IEEE 802, the site inspection will accurately highlight both the positive and the negative aspects of a selected location that cannot be quantified by reviewing a facility's sales literature or meeting contracts alone. </a:t>
            </a: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velling to Geneva and meeting with the local ITU/CCIG/CCV representatives, will provide Face to Face Events the opportunity to evaluate all of the ITU/CICG/CCV facilities and services. The site inspection would include all the meeting space, meeting room layouts, network capabilities, AV/power requirements, F&amp;B specifications, security, staffing( including special name badges coordination) , shipment arrangements and any other session considerations, including pricing and billing procedures.</a:t>
            </a: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y conducting meetings with facility representatives face to face we will be able to develop relationships that will be beneficial during final contract negotiations and onsite logistics as well as pinpoint potential problems and resolve them well ahead of the session, saving time and money.</a:t>
            </a: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ur site inspection experience and expertise act as invaluable tool in planning all aspects of the July 2013 IEEE 802 Plenary Session, we appreciate your keen consideration of this matter.</a:t>
            </a:r>
            <a:endParaRPr b="1"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C17981EC-FA00-4EFF-AF59-C105667C85C5}" type="slidenum">
              <a:t>15</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01 -- Motion to approve Geneva Site Inspection</a:t>
            </a:r>
            <a:endParaRPr b="1" lang="en-US" sz="32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pprove a Site inspection trip for no more than 4 peopl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urpose of the trip include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ite inspection would include all the meeting space, meeting room layouts, network capabilities, AV/power requirements, F&amp;B specifications, security, staffing( including special name badges coordination) , shipment arrangements and any other session considerations, including pricing and billing procedure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 Travel expenses (e.g. Coach Class Air travel, local transport, food and lodging)</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 Rosdahl</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2000" spc="-1" strike="noStrike" baseline="30000">
                <a:solidFill>
                  <a:srgbClr val="000000"/>
                </a:solidFill>
                <a:latin typeface="Times New Roman"/>
              </a:rPr>
              <a:t>nd</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C8521894-B8A3-4E2B-9095-981706CFF4A8}" type="slidenum">
              <a:t>16</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NA Hosted Session Proposals</a:t>
            </a:r>
            <a:endParaRPr b="1" lang="en-US" sz="3200" spc="-1" strike="noStrike">
              <a:solidFill>
                <a:srgbClr val="000000"/>
              </a:solidFill>
              <a:latin typeface="Times New Roman"/>
            </a:endParaRPr>
          </a:p>
        </p:txBody>
      </p:sp>
      <p:sp>
        <p:nvSpPr>
          <p:cNvPr id="91" name="PlaceHolder 2"/>
          <p:cNvSpPr>
            <a:spLocks noGrp="1"/>
          </p:cNvSpPr>
          <p:nvPr>
            <p:ph type="subTitle"/>
          </p:nvPr>
        </p:nvSpPr>
        <p:spPr>
          <a:xfrm>
            <a:off x="1549440" y="4059000"/>
            <a:ext cx="6045120" cy="15937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98989"/>
                </a:solidFill>
                <a:latin typeface="Times New Roman"/>
              </a:rPr>
              <a:t>Marina Bay Sands Hotel</a:t>
            </a:r>
            <a:endParaRPr b="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98989"/>
                </a:solidFill>
                <a:latin typeface="Times New Roman"/>
              </a:rPr>
              <a:t>Singapore</a:t>
            </a:r>
            <a:endParaRPr b="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98989"/>
                </a:solidFill>
                <a:latin typeface="Times New Roman"/>
              </a:rPr>
              <a:t>March 7-13, 2015</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6A89B455-D48C-4467-BD55-E0DFDE205CBA}" type="slidenum">
              <a:t>17</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ngapore: March 7-13, 2015</a:t>
            </a:r>
            <a:endParaRPr b="1" lang="en-US" sz="3200" spc="-1" strike="noStrike">
              <a:solidFill>
                <a:srgbClr val="000000"/>
              </a:solidFill>
              <a:latin typeface="Times New Roman"/>
            </a:endParaRPr>
          </a:p>
        </p:txBody>
      </p:sp>
      <p:sp>
        <p:nvSpPr>
          <p:cNvPr id="93" name=""/>
          <p:cNvSpPr txBox="1"/>
          <p:nvPr/>
        </p:nvSpPr>
        <p:spPr>
          <a:xfrm>
            <a:off x="1143000" y="1828800"/>
            <a:ext cx="6858000" cy="44956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have hosted target for March 2015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have finally received the STB grant paymen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BS is holding room-block &amp; meeting room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me facilities &amp; concessions as March 201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st price increase due to full opera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STB &amp; IDA will host again at ≥ level is t.b.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have deposit in SG$ @ IEEE–Singapo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ll get formal proposals in the next week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uld have this plus others to decide in July</a:t>
            </a: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Jon Rosdahl, CSR</a:t>
            </a:r>
          </a:p>
        </p:txBody>
      </p:sp>
      <p:sp>
        <p:nvSpPr>
          <p:cNvPr id="4" name="PlaceHolder 3"/>
          <p:cNvSpPr>
            <a:spLocks noGrp="1"/>
          </p:cNvSpPr>
          <p:nvPr>
            <p:ph type="sldNum" idx="3"/>
          </p:nvPr>
        </p:nvSpPr>
        <p:spPr/>
        <p:txBody>
          <a:bodyPr/>
          <a:p>
            <a:fld id="{79491561-7A9A-4721-A69B-99CE9C89B06B}" type="slidenum">
              <a:t>18</a:t>
            </a:fld>
          </a:p>
        </p:txBody>
      </p:sp>
      <p:sp>
        <p:nvSpPr>
          <p:cNvPr id="5" name="PlaceHolder 4"/>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 EC Next Steps</a:t>
            </a:r>
            <a:br>
              <a:rPr sz="3200"/>
            </a:br>
            <a:r>
              <a:rPr b="1" lang="en-US" sz="3200" spc="-1" strike="noStrike">
                <a:solidFill>
                  <a:srgbClr val="000000"/>
                </a:solidFill>
                <a:latin typeface="Times New Roman"/>
              </a:rPr>
              <a:t>Meeting Planner</a:t>
            </a:r>
            <a:endParaRPr b="1" lang="en-US" sz="3200" spc="-1" strike="noStrike">
              <a:solidFill>
                <a:srgbClr val="000000"/>
              </a:solidFill>
              <a:latin typeface="Times New Roman"/>
            </a:endParaRPr>
          </a:p>
        </p:txBody>
      </p:sp>
      <p:sp>
        <p:nvSpPr>
          <p:cNvPr id="9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pdate nNA venue Host Guidelines on web</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nd Host solicitation to 802-ALL &amp; WG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ek active proposals for 2016, 2017, 2018</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 for interim review to choose best 3</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vite Hosts to present their proposals in July</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 for July member poll &amp; selection review</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 for venue selection by close of July EC if possible</a:t>
            </a: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Jon Rosdahl, CSR</a:t>
            </a:r>
          </a:p>
        </p:txBody>
      </p:sp>
      <p:sp>
        <p:nvSpPr>
          <p:cNvPr id="4" name="PlaceHolder 3"/>
          <p:cNvSpPr>
            <a:spLocks noGrp="1"/>
          </p:cNvSpPr>
          <p:nvPr>
            <p:ph type="sldNum" idx="3"/>
          </p:nvPr>
        </p:nvSpPr>
        <p:spPr/>
        <p:txBody>
          <a:bodyPr/>
          <a:p>
            <a:fld id="{2AE4F1FF-5596-4797-A1D5-8B489D3DF2E4}" type="slidenum">
              <a:t>19</a:t>
            </a:fld>
          </a:p>
        </p:txBody>
      </p:sp>
      <p:sp>
        <p:nvSpPr>
          <p:cNvPr id="5" name="PlaceHolder 4"/>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1" name="PlaceHolder 2"/>
          <p:cNvSpPr>
            <a:spLocks noGrp="1"/>
          </p:cNvSpPr>
          <p:nvPr>
            <p:ph/>
          </p:nvPr>
        </p:nvSpPr>
        <p:spPr>
          <a:xfrm>
            <a:off x="685800" y="1599840"/>
            <a:ext cx="7772400" cy="4800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ecutive Secretary had the following EC Agenda Items: </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5.13: EC Survey Results</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5.14: Status of Network Services RFP and Contract</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5.15: Future Venue Contract Status</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5.16: Geneva 2013 Expectation</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5.11: Workshop Status Update</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4.01: Network Services Contract Approval</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4.05: IEEE 802 EC Interim Teleconference</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9.01: Update on Upcoming Venues </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9.04: 802 EC November 2011 Workshop Update</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9.08: Executive Secretary Report</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9.09: 802 Membership Poll on Fees, Services, and Locations</a:t>
            </a:r>
            <a:r>
              <a:rPr b="0" lang="en-US"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F2D802F0-2499-4E0C-B893-E2025C2F16BE}" type="slidenum">
              <a:t>2</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04: 802 EC November 2011 Workshop Update</a:t>
            </a:r>
            <a:endParaRPr b="1" lang="en-US" sz="3200" spc="-1" strike="noStrike">
              <a:solidFill>
                <a:srgbClr val="000000"/>
              </a:solidFill>
              <a:latin typeface="Times New Roman"/>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 items that have not been completed</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2ADA1B1-98D6-4C5D-AF9F-C6FBA9738193}" type="slidenum">
              <a:t>20</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standing Action Items (1)</a:t>
            </a:r>
            <a:endParaRPr b="1" lang="en-US" sz="3200" spc="-1" strike="noStrike">
              <a:solidFill>
                <a:srgbClr val="000000"/>
              </a:solidFill>
              <a:latin typeface="Times New Roman"/>
            </a:endParaRPr>
          </a:p>
        </p:txBody>
      </p:sp>
      <p:sp>
        <p:nvSpPr>
          <p:cNvPr id="99" name="PlaceHolder 2"/>
          <p:cNvSpPr>
            <a:spLocks noGrp="1"/>
          </p:cNvSpPr>
          <p:nvPr>
            <p:ph/>
          </p:nvPr>
        </p:nvSpPr>
        <p:spPr>
          <a:xfrm>
            <a:off x="685440" y="1981080"/>
            <a:ext cx="75438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S11-6--Gilb: </a:t>
            </a:r>
            <a:r>
              <a:rPr b="0" lang="en-US" sz="2000" spc="-1" strike="noStrike">
                <a:solidFill>
                  <a:srgbClr val="000000"/>
                </a:solidFill>
                <a:latin typeface="Arial"/>
                <a:ea typeface="Arial"/>
              </a:rPr>
              <a:t>Create a proposed plan for how the e-tools can go into open source.</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pdate to be provided in March plenary</a:t>
            </a:r>
            <a:endParaRPr b="0" lang="en-US" sz="1800" spc="-1" strike="noStrike">
              <a:solidFill>
                <a:srgbClr val="000000"/>
              </a:solidFill>
              <a:latin typeface="Times New Roman"/>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S11-7-Law:</a:t>
            </a:r>
            <a:r>
              <a:rPr b="0" lang="en-US" sz="2000" spc="-1" strike="noStrike">
                <a:solidFill>
                  <a:srgbClr val="000000"/>
                </a:solidFill>
                <a:latin typeface="Arial"/>
                <a:ea typeface="Arial"/>
              </a:rPr>
              <a:t> </a:t>
            </a:r>
            <a:r>
              <a:rPr b="0" lang="en-US" sz="2000" spc="-1" strike="noStrike">
                <a:solidFill>
                  <a:srgbClr val="000000"/>
                </a:solidFill>
                <a:latin typeface="Times New Roman"/>
              </a:rPr>
              <a:t>Setup a meeting to discuss with the SA–Open Application Interfaces, and Open source.</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iting on item WS11-6</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S11-8-Diab:</a:t>
            </a:r>
            <a:r>
              <a:rPr b="0" lang="en-US" sz="2000" spc="-1" strike="noStrike">
                <a:solidFill>
                  <a:srgbClr val="000000"/>
                </a:solidFill>
                <a:latin typeface="Times New Roman"/>
              </a:rPr>
              <a:t> Identify a process with staff to prioritize and discuss Frame version transitions.</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 hoc has been initialized in the CAG .  will continue  until 2 weeks after the SASB March series meetings complete March 29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0C07D278-5E0D-4BB1-8349-F225545871F0}" type="slidenum">
              <a:t>21</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standing Action Items (2)</a:t>
            </a:r>
            <a:endParaRPr b="1" lang="en-US" sz="32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S11-12-ALL WG CHAIRS:</a:t>
            </a:r>
            <a:r>
              <a:rPr b="0" lang="en-US" sz="2400" spc="-1" strike="noStrike">
                <a:solidFill>
                  <a:srgbClr val="000000"/>
                </a:solidFill>
                <a:latin typeface="Times New Roman"/>
              </a:rPr>
              <a:t> Review attendance rolls and for all affiliations that are obviously not valid, should be reported to the SASB Secretary</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G19 reports he has corrected one, still some older lists to check.</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S11-18-Gilb: </a:t>
            </a:r>
            <a:r>
              <a:rPr b="0" lang="en-US" sz="2400" spc="-1" strike="noStrike">
                <a:solidFill>
                  <a:srgbClr val="000000"/>
                </a:solidFill>
                <a:latin typeface="Times New Roman"/>
              </a:rPr>
              <a:t>Update the home page for the public vs EC information.  Update the initial statement to match the Scope in the P&amp;P.</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b-7-2012: Need to review intent from workshop minutes. Is this about public vs private information or providing a better website for use by the general publi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94AEDB67-D7CB-4C2A-A3B2-8B01F24018E6}" type="slidenum">
              <a:t>22</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standing Action Items (3)</a:t>
            </a:r>
            <a:endParaRPr b="1" lang="en-US" sz="32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S11-20-Kraemer: </a:t>
            </a:r>
            <a:r>
              <a:rPr b="0" lang="en-US" sz="2400" spc="-1" strike="noStrike">
                <a:solidFill>
                  <a:srgbClr val="000000"/>
                </a:solidFill>
                <a:latin typeface="Times New Roman"/>
              </a:rPr>
              <a:t>make a list of what 802 projects and standards that operate above layer 2.</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ch 10-2012: More difficult and controversial than expected. Needs more discussion time in Waikoloa. Candidates include 802.21, 802.1X (management plane comprehends layer 3),other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S11-21-Jeffree: </a:t>
            </a:r>
            <a:r>
              <a:rPr b="0" lang="en-US" sz="2400" spc="-1" strike="noStrike">
                <a:solidFill>
                  <a:srgbClr val="000000"/>
                </a:solidFill>
                <a:latin typeface="Times New Roman"/>
              </a:rPr>
              <a:t>Internal statement – O&amp;A about what the scope of projects in 802 are – ensure that it is consistent with P&amp;P</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FAC7FD40-BC68-4BE3-B191-642C97EBF357}" type="slidenum">
              <a:t>23</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08 Executive Secretary Report</a:t>
            </a:r>
            <a:endParaRPr b="1" lang="en-US" sz="32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shop Action items: track and push</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ly 2013 Geneva Plenary: Responsible for MOU</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ture Venues: </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 with Meeting Planner to find non-NA/Non-US Venues (At least one per year for 2016, 2017, 2018).</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 a Venue in 2016 and 2018 to make space for non-NA/Non-US venu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 new teleconference tools for EC Interim Telecons.</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 on IEEE Tools: - Tickets are tracking etc.</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 on Contract completeness: tracking and pushing to get through the process.</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53F411C9-9089-471A-A359-E37B2D512E99}" type="slidenum">
              <a:t>24</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09: 802 Membership Poll on Fees, Services, and Locations</a:t>
            </a:r>
            <a:endParaRPr b="1" lang="en-US" sz="32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e Separate Document</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3342519C-9C82-469C-AF07-0EB3B56BC2CA}" type="slidenum">
              <a:t>25</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36FA7E2-8F49-4129-BCEE-F5FAB8DAAC98}" type="slidenum">
              <a:t>26</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day EC Agenda</a:t>
            </a:r>
            <a:endParaRPr b="1" lang="en-US" sz="3200" spc="-1" strike="noStrike">
              <a:solidFill>
                <a:srgbClr val="000000"/>
              </a:solidFill>
              <a:latin typeface="Times New Roman"/>
            </a:endParaRPr>
          </a:p>
        </p:txBody>
      </p:sp>
      <p:sp>
        <p:nvSpPr>
          <p:cNvPr id="6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A241F5B-3055-4A5D-9BC5-3B5D370E9509}" type="slidenum">
              <a:t>3</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5.13 EC Survey Results</a:t>
            </a:r>
            <a:endParaRPr b="1" lang="en-US" sz="32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66ff"/>
                </a:solidFill>
                <a:uFillTx/>
                <a:latin typeface="Times New Roman"/>
                <a:hlinkClick r:id="rId1"/>
              </a:rPr>
              <a:t>https://mentor.ieee.org/802-ec/dcn/12/ec-12-0014-00-00EC-802-ec-poll-fees-services-and-venue-location-workshop.ppt</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EC4EB2DD-A6AB-412B-9342-D737CC9219B3}" type="slidenum">
              <a:t>4</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14: Status of Network Services RFP and Contract</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FP Issued by email -- January 17, 201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FP Response by email – February 17, 201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ponse Review Period: February 17-24, 201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ification of vendor selected/notified: February 27, 201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ract Negotiation and Master Service Agreement: February 27-March 9, 2012</a:t>
            </a:r>
            <a:endParaRPr b="1"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imes New Roman"/>
              </a:rPr>
              <a:t>EC Executive Session -- Tues 1:30-2:30pm</a:t>
            </a:r>
            <a:endParaRPr b="1"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 year contract: expected to get final signatures from Verilan and IEEE Procurement by March 30, 2012</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117FAC3-B65C-4245-B794-FA941CEE34FD}" type="slidenum">
              <a:t>5</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15: Future Venue Contract Status</a:t>
            </a:r>
            <a:endParaRPr b="1" lang="en-US" sz="32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ed in Workshop spreadshee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https://mentor.ieee.org/802-ec/dcn/12/ec-12-0003-02-00EC-november-2011-ec-workshop-action-items.xl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e Tab WS11-2</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ying to move a venue from 2014 to allow Singapore meeting to occur in 2014.</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ots currently Open at </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15 – March</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17 – March and Nov</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18 – March and Nov</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A2E444F6-5454-422B-BB63-CB6EE24150E8}" type="slidenum">
              <a:t>6</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16: Geneva 2013 Expectations</a:t>
            </a:r>
            <a:endParaRPr b="1" lang="en-US" sz="3200" spc="-1" strike="noStrike">
              <a:solidFill>
                <a:srgbClr val="000000"/>
              </a:solidFill>
              <a:latin typeface="Times New Roman"/>
            </a:endParaRPr>
          </a:p>
        </p:txBody>
      </p:sp>
      <p:sp>
        <p:nvSpPr>
          <p:cNvPr id="71" name="PlaceHolder 2"/>
          <p:cNvSpPr>
            <a:spLocks noGrp="1"/>
          </p:cNvSpPr>
          <p:nvPr>
            <p:ph/>
          </p:nvPr>
        </p:nvSpPr>
        <p:spPr>
          <a:xfrm>
            <a:off x="685800" y="1523520"/>
            <a:ext cx="777240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raft MOU due this week</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orking on Estimates for F&amp;B:</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o we want a Socia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o we use lunch to ensure a fee that all can pay?</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o Hotel Block – List of Hotels on ITU List</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raft Budget next slide – </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ssible choic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evening meeting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F&amp;B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Social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ssible budget reduces reserv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00,000 may be needed for meeting</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68A4CEE2-DF01-4C68-B97A-21F3C0C439FE}" type="slidenum">
              <a:t>7</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eneva Draft Budget:</a:t>
            </a:r>
            <a:endParaRPr b="1" lang="en-US" sz="3200" spc="-1" strike="noStrike">
              <a:solidFill>
                <a:srgbClr val="000000"/>
              </a:solidFill>
              <a:latin typeface="Times New Roman"/>
            </a:endParaRPr>
          </a:p>
        </p:txBody>
      </p:sp>
      <p:sp>
        <p:nvSpPr>
          <p:cNvPr id="73" name="PlaceHolder 2"/>
          <p:cNvSpPr>
            <a:spLocks noGrp="1"/>
          </p:cNvSpPr>
          <p:nvPr>
            <p:ph/>
          </p:nvPr>
        </p:nvSpPr>
        <p:spPr>
          <a:xfrm>
            <a:off x="685800" y="1752120"/>
            <a:ext cx="7772400" cy="44960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come:  unknown – What fee to charge? Who will pay?</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hipping</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8,000</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ra Security</a:t>
            </a:r>
            <a:r>
              <a:rPr b="1" lang="en-US" sz="2000" spc="-1" strike="noStrike">
                <a:solidFill>
                  <a:srgbClr val="000000"/>
                </a:solidFill>
                <a:latin typeface="Times New Roman"/>
              </a:rPr>
              <a:t>	</a:t>
            </a:r>
            <a:r>
              <a:rPr b="1" lang="en-US" sz="2000" spc="-1" strike="noStrike">
                <a:solidFill>
                  <a:srgbClr val="000000"/>
                </a:solidFill>
                <a:latin typeface="Times New Roman"/>
              </a:rPr>
              <a:t>$   9,000</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t 802</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52,500</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sc onsite</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5,700</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CV Facility</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39,965</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ICG Facility</a:t>
            </a:r>
            <a:r>
              <a:rPr b="1" lang="en-US" sz="2000" spc="-1" strike="noStrike">
                <a:solidFill>
                  <a:srgbClr val="000000"/>
                </a:solidFill>
                <a:latin typeface="Times New Roman"/>
              </a:rPr>
              <a:t>	</a:t>
            </a:r>
            <a:r>
              <a:rPr b="1" lang="en-US" sz="2000" spc="-1" strike="noStrike">
                <a:solidFill>
                  <a:srgbClr val="000000"/>
                </a:solidFill>
                <a:latin typeface="Times New Roman"/>
              </a:rPr>
              <a:t>$ 27,915</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U Facility</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2,255</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20,000</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tg Planner fee  </a:t>
            </a:r>
            <a:r>
              <a:rPr b="1" lang="en-US" sz="2000" spc="-1" strike="noStrike">
                <a:solidFill>
                  <a:srgbClr val="000000"/>
                </a:solidFill>
                <a:latin typeface="Times New Roman"/>
              </a:rPr>
              <a:t>	</a:t>
            </a:r>
            <a:r>
              <a:rPr b="1" lang="en-US" sz="2000" spc="-1" strike="noStrike">
                <a:solidFill>
                  <a:srgbClr val="000000"/>
                </a:solidFill>
                <a:latin typeface="Times New Roman"/>
              </a:rPr>
              <a:t>$108,900</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ancial Fees</a:t>
            </a:r>
            <a:r>
              <a:rPr b="1" lang="en-US" sz="2000" spc="-1" strike="noStrike">
                <a:solidFill>
                  <a:srgbClr val="000000"/>
                </a:solidFill>
                <a:latin typeface="Times New Roman"/>
              </a:rPr>
              <a:t>	</a:t>
            </a:r>
            <a:r>
              <a:rPr b="1" lang="en-US" sz="2000" spc="-1" strike="noStrike">
                <a:solidFill>
                  <a:srgbClr val="000000"/>
                </a:solidFill>
                <a:latin typeface="Times New Roman"/>
              </a:rPr>
              <a:t>$ 18,288</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 expenses</a:t>
            </a:r>
            <a:r>
              <a:rPr b="1" lang="en-US" sz="2000" spc="-1" strike="noStrike">
                <a:solidFill>
                  <a:srgbClr val="000000"/>
                </a:solidFill>
                <a:latin typeface="Times New Roman"/>
              </a:rPr>
              <a:t>	</a:t>
            </a:r>
            <a:r>
              <a:rPr b="1" lang="en-US" sz="2000" spc="-1" strike="noStrike">
                <a:solidFill>
                  <a:srgbClr val="ff0000"/>
                </a:solidFill>
                <a:latin typeface="Times New Roman"/>
              </a:rPr>
              <a:t>$288,073</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A104BD35-CBC5-497A-9FDF-C838534B4B86}" type="slidenum">
              <a:t>8</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11: Workshop Status Update</a:t>
            </a:r>
            <a:br>
              <a:rPr sz="3200"/>
            </a:br>
            <a:endParaRPr b="1" lang="en-US" sz="32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us for Workshop has been updated and posted in EC-12:003r3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ec/dcn/12/ec-12-0003-02-00EC-november-2011-ec-workshop-action-items.xl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ew Action item on Tuesday 6-7 in Waters Edge Board room.</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ABBC5482-84FC-476B-B2F6-460090064AA5}" type="slidenum">
              <a:t>9</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2T02:32:30Z</dcterms:created>
  <dc:creator>Jon Rosdahl</dc:creator>
  <dc:description/>
  <dc:language>en-US</dc:language>
  <cp:lastModifiedBy>jr05</cp:lastModifiedBy>
  <cp:lastPrinted>1998-02-10T13:28:06Z</cp:lastPrinted>
  <dcterms:modified xsi:type="dcterms:W3CDTF">2012-03-17T03:32:17Z</dcterms:modified>
  <cp:revision>10</cp:revision>
  <dc:subject/>
  <dc:title>Executive Secretary Agenda Items  March 2012</dc:title>
</cp:coreProperties>
</file>