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643-23DE-4280-A79A-CD3D1187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FF9-AFF6-4712-BF06-824AE9B1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083-E961-475E-85DA-5BB6700E2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538-35F5-4E8F-95FB-02B38EFF0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45B-6B59-417F-96E6-47104FD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F4D-6C3D-4329-AFCA-3F9A0492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D4E0-42DB-457E-B024-2F14A2F3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0F6D-79B8-4215-B8A3-86891996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48D-898A-48A2-AD00-7427577E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2B7F-AAF7-43CE-B8F9-774F552A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6DE-8082-4A28-8116-83699819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D9F-95C4-43B1-B1BF-FC6729F7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D05CD7-3CF2-418B-896C-7CA3FF19F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090760" y="334800"/>
            <a:ext cx="3356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 EC-12/0007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-ec/dcn/12/ec-12-0014-00-00EC-802-ec-poll-fees-services-and-venue-location-workshop.ppt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entor.ieee.org/802-ec/dcn/12/ec-12-0003-02-00EC-november-2011-ec-workshop-action-items.xls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cutive Secretary Agenda Item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ch 201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2-03-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3520" y="3048120"/>
          <a:ext cx="813888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8120"/>
                    <a:ext cx="813888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9480" y="26668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32D-9AA4-4FBC-B5CB-CDE84C84F7A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ecutive Secretary had the following Agenda Items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13: EC Survey Resul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14: Status of Network Services RFP and Contra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15: Future Venue Contract Statu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16: Geneva 2013 Expect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B548-9A77-436F-905C-01E65FAA5F1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5.13 EC Survey Resul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-ec/dcn/12/ec-12-0014-00-00EC-802-ec-poll-fees-services-and-venue-location-workshop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D42-F85B-491C-ADEA-FD1FE5DF10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4: Status of Network Services RFP and Con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FP Issued by email -- January 17,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FP Response by email – February 17,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ponse Review Period: February 17-24,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ification of vendor selected/notified: February 27,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tract Negotiation and Master Service Agreement: February 27-March 9,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EC Executive Session -- Tues 1:30-2:30p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 year contract: expected to get final signatures from Verilan and IEEE Procurement by March 30, 201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B1B4-B138-4A50-89DE-0794335FFB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5: Future Venue Contract Statu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ied in Workshop spreadshee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-ec/dcn/12/ec-12-0003-02-00EC-november-2011-ec-workshop-action-items.x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e Tab WS11-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ying to move a venue from 2014 to allow Singapore meeting to occur in 20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ts currently Open 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5 – M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7 – March and 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8 – March and N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BF8-A88C-442A-ADBD-6E39CE0AC2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16: Geneva 2013 Expect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 MOU due this wee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orking on Estimates for F&amp;B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 we want a Soci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o we use lunch to ensure a fee that all can pa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 Hotel Block – List of Hotels on ITU Lis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raft Budget next slide –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ssible choic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evening me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F&amp;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So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ossible budget reduces reserv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$300,000 may be needed for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7E7-9FEC-4CCB-8A64-6904181EED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eneva Draft Budget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ome:  unknown – What fee to charge? Who will pay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  8,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ra Secur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  9,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t 80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52,5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c onsit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  5,7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V Fac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39,96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CG Fac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27,9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U Facility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 2,25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20,0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tg Planner fee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108,90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ancial Fe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 18,28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expens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$288,07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D5E-A1A3-485F-A6E8-7456DDCD70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A46D-F28E-40F3-99AE-FA528CF194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02:32:30Z</dcterms:created>
  <dc:creator>Jon Rosdahl</dc:creator>
  <dc:description/>
  <dc:language>en-US</dc:language>
  <cp:lastModifiedBy>jr05</cp:lastModifiedBy>
  <cp:lastPrinted>1998-02-10T13:28:06Z</cp:lastPrinted>
  <dcterms:modified xsi:type="dcterms:W3CDTF">2012-03-12T10:45:49Z</dcterms:modified>
  <cp:revision>2</cp:revision>
  <dc:subject/>
  <dc:title>Executive Secretary Agenda Items  March 2012</dc:title>
</cp:coreProperties>
</file>