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97200"/>
            <a:ext cx="64116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7880" y="8984880"/>
            <a:ext cx="9237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4B2158-5748-4C30-B725-0C45462F6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54160" y="70020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Header Placeholder 3"/>
          <p:cNvSpPr/>
          <p:nvPr/>
        </p:nvSpPr>
        <p:spPr>
          <a:xfrm>
            <a:off x="4891680" y="9756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EC Motion Feb 7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Date Placeholder 4"/>
          <p:cNvSpPr/>
          <p:nvPr/>
        </p:nvSpPr>
        <p:spPr>
          <a:xfrm>
            <a:off x="550800" y="9756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5"/>
          <p:cNvSpPr/>
          <p:nvPr/>
        </p:nvSpPr>
        <p:spPr>
          <a:xfrm>
            <a:off x="4840200" y="898524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6"/>
          <p:cNvSpPr/>
          <p:nvPr/>
        </p:nvSpPr>
        <p:spPr>
          <a:xfrm>
            <a:off x="299088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95803A9-B349-4D3E-B5AE-AAC3866F5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54160" y="700200"/>
            <a:ext cx="4629240" cy="34718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Header Placeholder 3"/>
          <p:cNvSpPr/>
          <p:nvPr/>
        </p:nvSpPr>
        <p:spPr>
          <a:xfrm>
            <a:off x="4891680" y="97560"/>
            <a:ext cx="213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EC Motion Feb 7,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Date Placeholder 4"/>
          <p:cNvSpPr/>
          <p:nvPr/>
        </p:nvSpPr>
        <p:spPr>
          <a:xfrm>
            <a:off x="550800" y="9756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4840200" y="898524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299088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AD1492D-9497-445A-B583-67C2F51C5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404F-5D78-43E0-87EA-066D172F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E7E-D452-4C43-A1E0-CD080262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2F0A-BA89-4D31-ABC3-C92E4124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307-FDB0-461E-A164-CC9156BFF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40E-8959-4587-8DF8-2C159A55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B4C-1B07-42AF-A933-162C9DF3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5D6-A138-4D55-85A7-A02842EB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1E1-4944-42E0-93D6-83BA81A3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C16-7700-4D13-8F4A-043E90C9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C35-9909-4A71-8121-142CCEE0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2F73-B90A-4D15-9DBD-91B9BA0D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539-04D1-4CE2-92D1-D2019BB5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6A27F2-67DF-4E69-9309-C10E6B09F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090760" y="334800"/>
            <a:ext cx="335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 EC-12/000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6520" y="6475320"/>
            <a:ext cx="473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entor.ieee.org/802-ec/dcn/12/ec-12-0003-00-00EC-november-2011-ec-workshop-action-items.xls" TargetMode="External"/><Relationship Id="rId2" Type="http://schemas.openxmlformats.org/officeDocument/2006/relationships/hyperlink" Target="https://mentor.ieee.org/802.16/dcn/12/16-12-0141.pdf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2/11-12-0030-01-00ae-excom-request-to-proceed-to-revcom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mentor.ieee.org/802-ec/dcn/12/ec-12-0003-00-00EC-november-2011-ec-workshop-action-items.xl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 EC Interim Telecon – Feb 7 201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2-02-0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15880" y="2281320"/>
          <a:ext cx="8078760" cy="248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2281320"/>
                    <a:ext cx="807876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3868-2CFC-4782-B5FD-DFD19FD74BA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da and meeting slides for the Feb 7, 2012 EC interim telec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0BE2-3A3E-4EB0-887F-8928032E03C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da – Feb 7, 2012;  1-3p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ngle Sales Channel Update – Pau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report on Network RFP -- Rosdahl/Risgb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date on November Workshop Action items – Krae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 on July 2013 Meeting options - Rosdahl/Risgbe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 from 802.11 on two Sponsor Ballot Completions – Krae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on: To forward IEEE 802.11ae to Rev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on: To forward IEEE 802.11aa to Rev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rt from 802.16 on Sponsor Ballot Completion – Mark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ion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 forward IEEE P802.16.1b/D2 for IEEE-SA Sponsor Ballot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. Report from 802.21 on two Sponsor Ballot Completions – Da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. AO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32E-E256-4D9F-84D6-8594B8B323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da – Feb 7, 2012;  1-3p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gle Sales Channel Update – Pau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us report on Network RFP -- Rosdahl/Risgbe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date on November Workshop Action items – Kraem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-ec/dcn/12/ec-12-0003-00-00EC-november-2011-ec-workshop-action-items.x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ort on July 2013 Meeting options - Rosdahl/Risgbe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ort from 802.11 on two Sponsor Ballot Completions – Kraemer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ae – Completed Sponsor Letter Ballot 1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2.11aa – Completed Sponsor Letter Ballot 1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forward IEEE 802.11ae to Rev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To forward IEEE 802.11aa to Rev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port from 802.16 on Sponsor Ballot Completion – Mark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The Working Group Letter Ballot on this draft currently stands at 100% approval. A recirc will close two days prior to the EC telecon, so Roger expects the approval request to be uncondi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6/dcn/12/16-12-0141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tion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o forward IEEE P802.16.1b/D2 for IEEE-SA Sponsor Ballot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. Report from 802.21 on two Sponsor Ballot Completions –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8. AO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2ED-9B3F-44AA-AC45-5B0E3B3302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tion – 802.11ae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oritization of Management Frames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nConditional Approval to Rev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52280" y="1980720"/>
            <a:ext cx="88394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rant Unconditional approval to forward P802.11ae  to RevCom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conded: Jon Rosdah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is  project completed Sponsor ballot on Jan 04, 2012 with zero comments and 100% approva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cument 11-12-0030r1 is the report the requirements for unconditional approval to forward P802.11ae to RevCom was approved in the WG: 61/0/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L: </a:t>
            </a:r>
            <a:r>
              <a:rPr b="1" lang="en-GB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2/11-12-0030-01-00ae-excom-request-to-proceed-to-revcom.pp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3E878D-CCF0-4550-9624-6395B34B9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1"/>
          <p:cNvSpPr/>
          <p:nvPr/>
        </p:nvSpPr>
        <p:spPr>
          <a:xfrm>
            <a:off x="6973560" y="6172200"/>
            <a:ext cx="148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0353-0713-4485-B1F8-CB6E87B95A5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– 802.11aa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Robust Audio Video Transport Streams)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Conditional Approval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52280" y="1980720"/>
            <a:ext cx="8839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rant Unconditional approval to forward P802.11aa  to RevCom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conded: Jon Rosdah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is  project completed Sponsor ballot on D8.0 on Jan 01, 2012 with zero must be satisfied comments and 100% approval. The group decided to make a few more changes and will close Sponsor ballot on D9.0 on Jan 27, 2012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f there are any disapprove votes this item will be removed from the EC telecon agenda and presented in the March 2012 plenary (Waikoloa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ocument 11-12-0179r1 is the report the requirements for unconditional approval to forward P802.11ae to RevCom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L:  https://mentor.ieee.org/802.11/dcn/12/11-12-0179-01-00aa-status-report-to-revcom-for-11aa.ppt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53F6D5-8E9A-4B63-90CB-615898CB6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1"/>
          <p:cNvSpPr/>
          <p:nvPr/>
        </p:nvSpPr>
        <p:spPr>
          <a:xfrm>
            <a:off x="7049520" y="6248520"/>
            <a:ext cx="148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D91C-4796-4189-99BA-5E83A90E096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on 802.16.1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to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forward IEEE P802.16.1b/D2 for IEEE-SA Sponsor Ball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d: Roger Mark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ed: Jon Rosdah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pprov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ain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60958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 Marks, Consensii L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B4C-95E5-4661-90F4-7FBC9B4637D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-ec/dcn/12/ec-12-0003-00-00EC-november-2011-ec-workshop-action-items.x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030-01-00ae-excom-request-to-proceed-to-revcom.pp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ttps://mentor.ieee.org/802.11/dcn/12/11-12-0179-01-00aa-status-report-to-revcom-for-11aa.ppt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s://mentor.ieee.org/802.16/dcn/12/16-12-0141.pd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75EF-AC36-4F0B-8B3A-C5978FB7AB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17:14:37Z</dcterms:created>
  <dc:creator>Jon Rosdahl</dc:creator>
  <dc:description/>
  <dc:language>en-US</dc:language>
  <cp:lastModifiedBy>jr05</cp:lastModifiedBy>
  <cp:lastPrinted>1998-02-10T13:28:06Z</cp:lastPrinted>
  <dcterms:modified xsi:type="dcterms:W3CDTF">2012-01-25T05:53:44Z</dcterms:modified>
  <cp:revision>2</cp:revision>
  <dc:subject/>
  <dc:title>IEEE 802 EC Interim Telecon – Feb 7 2012</dc:title>
</cp:coreProperties>
</file>