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5640120" y="-542160"/>
            <a:ext cx="641160" cy="8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xx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54120" y="-115920"/>
            <a:ext cx="82872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onth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5359320" y="8984880"/>
            <a:ext cx="92232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Doe, His Comp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48A0AEF-15E3-442C-ABF3-F9A5F34F7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722520" y="8985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9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0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4990680" y="97560"/>
            <a:ext cx="1940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xx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608760" y="97560"/>
            <a:ext cx="91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onth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4842720" y="8985240"/>
            <a:ext cx="1955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hn Doe, His Comp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F94BC54-8CBE-4600-ACD6-EC08A00DBE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8FB4-C72C-483D-82B3-815A4955F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E8B0-5C99-41F2-89EC-247FCE6B5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AAAB-CD32-45B0-89CB-589C2B54E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A398-7259-4F6C-9F23-7CDD86907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1498-636D-4163-B03A-1B577A548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D1CC-F842-4574-A329-4D01ECB87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E4A5-C0B5-4E3B-9EDB-C712B6F0D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AAC8-163F-465E-A5E0-CDC493472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71F2-7524-4594-A908-4A6634055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33C2-34B3-44EA-86C5-753CAB21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3801-3EF6-4B0C-942A-ECA7D1B6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D2A7-B273-4A3C-BEC1-7617A52C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4AC68-66A8-40E6-AA9D-C19A78BEAF76}" type="datetime5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 28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3920" y="6474960"/>
            <a:ext cx="466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hew Sherman, BAE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28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3396AE8-71F7-4C8F-B7CB-5D969EBBEA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6041880" y="399240"/>
            <a:ext cx="2416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ec-11-0026-00-00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VC Slides for EC Workshop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cussion Topic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1371600" y="57150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November 1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th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2209680" y="3429000"/>
            <a:ext cx="4953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tthew Sher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ice Chair, IEEE 8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E Systems - 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tthew.Sherman@BAESystems.co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andardization Too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y perspec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EE: Bring value to their standards platform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EE 802: ease in standards creation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ols vendors:  Profit, fun, or glory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w do we bring them all together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n vs Proprietar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tools be created by 802, IEEE, or external vendor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ol se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ject Management:  PARs, Schedules, Interactions, et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onsor balloting:  Balloting, Commenting, Resolution, et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eting management: Scheduling, Registration Budgeting, Attendance, voting, minutes, et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ectronic participation and 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cument managem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her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Date Placeholder 3"/>
          <p:cNvSpPr/>
          <p:nvPr/>
        </p:nvSpPr>
        <p:spPr>
          <a:xfrm>
            <a:off x="567000" y="396000"/>
            <a:ext cx="912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0506-A20A-4B67-BE64-C71478652B39}" type="datetime5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 28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Footer Placeholder 4"/>
          <p:cNvSpPr/>
          <p:nvPr/>
        </p:nvSpPr>
        <p:spPr>
          <a:xfrm>
            <a:off x="7352640" y="6475320"/>
            <a:ext cx="2049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hew Sherman, BAE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Slide Number Placeholder 5"/>
          <p:cNvSpPr/>
          <p:nvPr/>
        </p:nvSpPr>
        <p:spPr>
          <a:xfrm>
            <a:off x="411516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FEF494D-AD4E-48CF-B7A4-56F9B61459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rategic Discussion Part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etition vs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her IEEE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ternal SDO: ITU, IEC, IETF, etc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e Organizations: WiFi, WiMAX, Cable Labs, etc.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ulatory and other organization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do we collaborat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oint development vs coordination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w do we mix entity and individual mechanic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o decided when and how to coordinate etc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her issue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sues and opportun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EEE 802 is shrinking, is the rest of the standards industry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mination between group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her distortions of standards proces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 Archite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 it serving it’s purpose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w do we enforce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her thought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Date Placeholder 3"/>
          <p:cNvSpPr/>
          <p:nvPr/>
        </p:nvSpPr>
        <p:spPr>
          <a:xfrm>
            <a:off x="567000" y="396000"/>
            <a:ext cx="912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953DA-FB55-4201-B861-F2B9C2F519B7}" type="datetime5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 28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Footer Placeholder 4"/>
          <p:cNvSpPr/>
          <p:nvPr/>
        </p:nvSpPr>
        <p:spPr>
          <a:xfrm>
            <a:off x="7352640" y="6475320"/>
            <a:ext cx="2049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hew Sherman, BAE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Slide Number Placeholder 5"/>
          <p:cNvSpPr/>
          <p:nvPr/>
        </p:nvSpPr>
        <p:spPr>
          <a:xfrm>
            <a:off x="411516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865CAB0-CC80-4B6A-88D5-0B3E650501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rategic Discussion Part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802 be better organ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 IEEE 802 the “right size” or should be we bigger or smaller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eak into wired and wireles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ke individual WG Sponsor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hould each PAR be a WG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ask Group Membership, Other membership criteria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tity Membership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Cs: Their role and can they be improved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her idea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EE 802 Sc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hould be broadened, or narrowed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pper layer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 to End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plications based:  Smart Grid, medicine, first responder, et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her idea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Date Placeholder 3"/>
          <p:cNvSpPr/>
          <p:nvPr/>
        </p:nvSpPr>
        <p:spPr>
          <a:xfrm>
            <a:off x="567000" y="396000"/>
            <a:ext cx="912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DD671-3EE2-4977-B31C-5361C6E8FCA4}" type="datetime5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 28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Footer Placeholder 4"/>
          <p:cNvSpPr/>
          <p:nvPr/>
        </p:nvSpPr>
        <p:spPr>
          <a:xfrm>
            <a:off x="7352640" y="6475320"/>
            <a:ext cx="2049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hew Sherman, BAE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411516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6C3208B-70F5-44AB-A504-778BEA686D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0T01:50:24Z</dcterms:created>
  <dc:creator>Matthew Sherman</dc:creator>
  <dc:description/>
  <dc:language>en-US</dc:language>
  <cp:lastModifiedBy>matthew.sherman</cp:lastModifiedBy>
  <cp:lastPrinted>1998-02-10T13:28:06Z</cp:lastPrinted>
  <dcterms:modified xsi:type="dcterms:W3CDTF">2011-11-12T04:50:45Z</dcterms:modified>
  <cp:revision>203</cp:revision>
  <dc:subject/>
  <dc:title>PowerPoint Presentation</dc:title>
</cp:coreProperties>
</file>