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43E-4630-46E4-8D7E-3A4AA6D15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1A9-F49C-420A-A1BC-DF8E4085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127E-D75D-4052-AD0D-4A90EC1C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7E1-8C04-4599-B5A1-C168500E1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5B9-A65B-4BBF-9F44-F13AEB3A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9492-CECC-4F1D-9E4D-D702FC66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AA25-7E90-448A-BDC5-19B897EC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236-D77A-4DF8-B960-C01A8D05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C91-E46E-4676-86AD-875600F9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07C9-AB71-4817-BBDE-F675393D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61F-FFE8-4FCE-A4AA-2B8DCADE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EDC6-1EBD-4783-A157-2D4EFA67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A35D58-343D-4289-A61D-FE44A32CC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90760" y="3348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 EC-11/002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616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ecutive Secretary Agenda Items Nov 20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1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7680" y="2286000"/>
          <a:ext cx="8032680" cy="246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2286000"/>
                    <a:ext cx="803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297-5526-4026-A69B-F57EE3D142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da Item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1 Meeting planner and network services contract extens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6 – IEEE 802 EC Interim Telecon, Feb 7, 2012, 1pm 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08 - Executive secretary re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genda Items are to be covered by Executive Secretary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C6D-303B-4264-8D07-4500C1E902A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01 Meeting Planner and Network Services Contract Exten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eeting Planner Contract (Face to Face events) was signed off the first part of Sept. 201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FP for Network Services is nearly complete.  Plan of record is to have it completed and sent out on Dec 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of Network Service Provi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 new Network Service Provider Con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an extended Verilan contract through March as a backup to our main pl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 by Verilan and Buzz, sent to IEEE Procurement for sign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63A-01FB-48F5-A055-FC529DDA89B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06: IEEE 802 EC Interim Teleconference -- Feb 7, 2012, 1pm 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ntative agenda for the Telecon is expected to be determined during our closing sess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 Agenda includ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ales Channel Update   -- Pa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report on Network RFP  -- Rosdahl/Risg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on November Workshop Action items – Krae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on July 2013 Meeting options – Rosdahl/Risg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04E8-3A70-411E-A6EE-58718077A3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.06 - Executive Secretary repor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b description repor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see the Meeting Manager and assist in LMSC sponsored activities and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ve worked with Buzz and assisted in meeting logistics and services contract revie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st, Evaluate and explore tools, methods and means to improve the efficiency of LMSC meet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stic impr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800" indent="-304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going discussion with service 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800" indent="-3045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hly coordination sessions with IEEE-SA 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7880" indent="-304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ew/Prioritize 802 E-Tools Ticket i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hnology can solve some but not all proble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versee maintenance of Sponsor Registration Datab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reported problems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5CE6-0021-4B1B-8513-AC8DE3CDD1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718-BC8C-40E9-BA0E-EFDBF53C0E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8T04:51:07Z</dcterms:created>
  <dc:creator>Jon Rosdahl</dc:creator>
  <dc:description/>
  <dc:language>en-US</dc:language>
  <cp:lastModifiedBy>jr05</cp:lastModifiedBy>
  <cp:lastPrinted>1998-02-10T13:28:06Z</cp:lastPrinted>
  <dcterms:modified xsi:type="dcterms:W3CDTF">2011-11-11T06:09:58Z</dcterms:modified>
  <cp:revision>9</cp:revision>
  <dc:subject>Report</dc:subject>
  <dc:title>Executive Secretary Agenda Items Nov 2011</dc:title>
</cp:coreProperties>
</file>