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7605-C566-4377-99FA-6EA4F139F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04EB-254F-410F-86D9-4410B7E5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40DE-519C-4338-BB8E-D6D9B274E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BB8D-81E1-446A-BF86-F7C6A2233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0FA2-CE9E-41AA-B1F8-BFD7B8E1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569F-335C-47D5-A3AE-6E3F0DBC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1B53-B09C-4E42-A0A1-E3AC11FE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8FCB-C2DC-4A84-BD16-6647DB05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5CEA-054B-46C5-9FAE-7350D755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F913-371F-47EA-9D48-723EE885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8740-9AD0-4CC8-A99C-6CB88164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4F42-A901-416E-A5AF-F0C12576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E275-BEF5-4478-A135-AD95613AA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2 EC Interim Teleco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 4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:00 E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pm ED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oved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on November Workshop Agenda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aemer/Rosdah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report on Network RFP -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dahl/Risgb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 on Pre-SG Mtg fee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/SA items (e.g., Single Sales Channel) Update -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kolich/McCa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of P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v Workshop RSVP li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b H., Bob G., David L., Tony J., Paul N., Jon R., Bruce K., Geoff T.,  Apurva M., Roger M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 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ir D., Buzz E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spons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es G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 for N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22b PAR :Amendment: Enhanced Broadband and Monitor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5.9 PAR :Recommended Practice: Key Management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 – Modified PAR for Overview and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6 Amendment Projects: Modified PARs that need to be spl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r05</cp:lastModifiedBy>
  <dcterms:modified xsi:type="dcterms:W3CDTF">2011-10-04T18:35:5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