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45E6-FE43-4CD5-B205-47378567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E8B-D970-4C9A-92CE-2D63766A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9A2-73F3-480A-B576-12EFBC13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1A6-76CF-4684-8DAD-490A3CF9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2CD-A019-4276-9381-35954EA9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CDC-ADBF-4B04-9143-066247E7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2F45-B36E-4548-A96B-A85B56E6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88A-B8CF-4AAA-8556-E5F679E6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570C-0343-4451-976E-AE2D5E7A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F2EA-6A2D-4AF5-A72E-C3E7BEAA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AF22-D2CB-47C2-8F10-D530C865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EB8-C9E6-4D67-82EB-5E8540B0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2A97-3DBC-4121-9F5A-8A279ABD7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EC Interim Tele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 4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:00 E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pm E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ved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on November Workshop Agenda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emer/Rosda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report on Network RFP 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dahl/Ris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on Pre-SG Mtg fe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/SA items (e.g., Single Sales Channel) Update 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kolich/McC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of P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 Workshop RSVP l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 H., Bob G., David L., Tony J., Paul N., Jon R., Bruce K., Geoff T.,  Apurva M., Roger M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ir D., Buzz E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spon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G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 for N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22b PAR :Amendment: Enhanced Broadband and Monito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5.9 PAR :Recommended Practice: Key Management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 – Modified PAR for Overview and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6 Amendment Projects: Modified PARs that need to be sp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r05</cp:lastModifiedBy>
  <dcterms:modified xsi:type="dcterms:W3CDTF">2011-10-04T18:35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