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D94-C952-48A9-870F-9DF45AB4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C3A-B801-4601-8832-55A27A81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B11-D86D-4F03-9FBF-39B73316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F49-0B3F-4697-A38E-56282B19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A23-DF95-46A1-A636-893E8C3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8CB-2626-41F5-93C2-CD611704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50E-AB80-4A97-80B1-C5684B65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F47-FB72-4216-8E23-F87350F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2C8-4103-44FB-85EF-6578A7FE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88E-B325-4E06-A4F3-7783188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9F3-D204-4B43-888E-8A3330C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A8A-89F6-4F6F-90A5-CE1704C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AE5-AFC4-47B6-8B8E-51B9DA1A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C Interim Tele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 4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:00 E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pm E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ved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on November Workshop Agenda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emer/Rosd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report on Network RFP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dahl/Risgb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Pre-SG Mtg fe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/SA items (e.g., Single Sales Channel) Update 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ch/McC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of P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 Workshop RSVP li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H., Bob G., David L., Tony J., Paul N., Jon R., Bruce K., Geoff T.,  Apurva M., Roger M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ir D., Buzz E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spon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G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 for N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22b PAR :Amendment: Enhanced Broadband and Monito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9 PAR :Recommended Practice: Key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 – Modified PAR for Overview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mendment Projects: Modified PARs that need to be sp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r05</cp:lastModifiedBy>
  <dcterms:modified xsi:type="dcterms:W3CDTF">2011-10-04T18:3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