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AF0F5-5CF7-44A7-BFF5-6F5A50E5B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0B753-D8C9-4BF8-9DE8-7B64370DD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E24FD-E532-4AD1-8B5B-C4C4FB8B2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7668A-C0E3-4216-A1C8-35C53012A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9FD04-7AF9-43FD-8684-CB220EC2B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09D34-DC03-4D39-87F9-9902FE7A1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FB057-A67D-44DD-B414-2AA75BA5B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7959E-C265-409A-94CD-BDE1E96BE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BC04C-9F02-43B7-BDA4-ED1D7C73E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711B9-A40C-4C13-94DE-3BDAA6688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9F07C-A300-406D-BAEA-46E4C200E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A61FB-D0D7-452B-ACEC-6FAECD952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96600" y="334440"/>
            <a:ext cx="10666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8077320" y="6474960"/>
            <a:ext cx="46656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28EFB7D5-2155-420A-9F15-48ACBC261F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5090760" y="334800"/>
            <a:ext cx="3356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oc.: IEEE 802 EC-11/0001r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686520" y="6475320"/>
            <a:ext cx="89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eting sl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EEE Interim Telecon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eb 1, 2011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-3pm E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on Rosdahl (CSR): jrosdahl@ieee.org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n Rosdahl (CSR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84FD1-FA48-42A7-A047-97BC22412EAB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orkshop Agenda example from GlobCom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1909800" y="1981080"/>
          <a:ext cx="532296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9800" y="1981080"/>
                    <a:ext cx="532296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n Rosdahl (CSR)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BC26E-1C9C-4AC0-9CA2-7310ABF7F77E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entative agenda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) December BOG meeting update, Paul, 15 minutes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) New Model for Maintenance of IEEE Standards, Geoff, 30 minutes (see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ttached material)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) 802 Workshop Saturday afternoon before the March Plenary--finalize agenda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nd participants, Paul, 30 minutes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) Update on March 2012 venue options, Buzz, 15 minute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5) Any other business? 15 minute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pdate on Singapore meeting -- Buz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TC1 AdHoc Minutes -- Dav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LA Agreement -- Bru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n Rosdahl (CSR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77906-5B65-4A08-B355-0164B8C0CC72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mended/Approved Agenda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) December BOG meeting update, Paul, 15 minutes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) New Model for Maintenance of IEEE Standards, Geoff, 30 minutes ( see sent material)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) 802 Workshop Saturday afternoon before the March Plenary--finalize agenda and participants, Paul, 30 minutes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) Update on March 2012 venue options, Buzz, 15 minute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5) Any other business? 15 minute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pdate on Singapore meeting -- Buz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TC1 AdHoc Minutes -- Dav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LA Agreement – Bru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n Rosdahl (CSR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1F61D-B54B-4B76-BA94-CE1C0281816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ul’s BOG Review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2955960" y="1981080"/>
          <a:ext cx="330372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55960" y="1981080"/>
                    <a:ext cx="330372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n Rosdahl (CSR)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4FB2F-A2E7-4189-8379-DD4EE11D89FE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A Rules Chang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Folks-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The Stds Board was just going to vote this in at the December meeting without consultation with Sponsors.   We got it put off til March with a Sponsor Comment period through February)</a:t>
            </a:r>
            <a:br>
              <a:rPr sz="1000"/>
            </a:br>
            <a:br>
              <a:rPr sz="10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EEE Staff and the leader of an Ad Hoc (Jim Hughes of Microsoft) are recommending changes to the SA operating rules to: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     - Eliminate the REAFFIRMATION process altogether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     - Change the REVISION cycle from 3 or 5 years (with a possible 1 year extension)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       to an ABSOLUTE 10 year renewal requirement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 addition, they propose to eliminate any categorization of older  non-active standards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     (e.g. Stabilized, Withdrawn, etc) or the recording of any rationale  for its non-active status such as: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         - Contains erroneous or obsolete information (i.e. reaffirmation failure)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         - Legal reasons (withdrawn as the result of a lawsuit)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         - Superseded (by a newer IEEE Standard or maybe by an ISO, IEC or JTC-1 standard)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 only categories would be "Active" or "Inactive".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ther changes/impacts: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     - Sponsor Ballot Pool members could be "disqualified" from future ballots for lack of response (no criteria provided, Ref SASB OM 5.4.1)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     - Trial Use standards which default to full standard status (2 yrs) would have full status for 10 years.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     - Unlimited amendments for 3 years or 3 max for 3+ years (one 2 year extension possible)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     - ANSI approved standards require revision on a 5 year cycle, not ten.</a:t>
            </a:r>
            <a:br>
              <a:rPr sz="1100"/>
            </a:b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n Rosdahl (CSR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59A99-8D69-4C62-AD9E-7E9E7658BDF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ttached SA OM, 6.3.1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     Attached SA By Laws, 2.2, 4.2.3.1, 5.1, 5.2.5, 5.3 (the big One),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.2 (patent policy change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     Attached SASB OM,  1.2,  4.1.2,  5.4.1,  5.7,  6.3.3, 9  Minor 5.6.2.1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n Rosdahl (CSR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C8334-E5E4-46DD-AAA4-1CE755ABA0E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*GEOFF's OPINION ON THI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*I think this is a bad idea.  While reducing the complexity of our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intenance overhead is attractive, 10 years is an eternity in our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.  Further, the real reason the SA is proposing this seems to be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ecause they couldn't cope with generating (and mechanizing) a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easonable mechanism for APPROVAL BALLOTING.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here has been problems and confusion for years with the Reaffirmation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ocess.  It only got worse when the SA tried to do Reaffirmation within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he normal balloting process for the initial approval of standards (i.e.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cludes the ability to have comments that stand in the way of an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pprove ballot) within MyBallot.  There were several attempts to fix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his (I came up with what I thought was a quite reasonable alternative)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ut none of these were adopted.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n Rosdahl (CSR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53309-5AA0-4B04-913A-C0083B05398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Opinion continued: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uring the effort to design a voting process for Reaffirmation, it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ecame obvious that such a process would be generally useful for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PPROVAL BALLOTING (i.e. a document that must simply be voted up or down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without change).  In particular, this is a useful process for standards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rom other SDOs that have to be adopted without change.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he current proposal by the SA is (in my opinion) just an effort to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void dealing with these issues.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 truly look forward to discussing your views on this matter on the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uesday call.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est regards,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         Geoff</a:t>
            </a:r>
            <a:br>
              <a:rPr sz="1800"/>
            </a:b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n Rosdahl (CSR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575A3-20E8-45CD-96FE-B965BF0F1193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lowchart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1447920" y="1447920"/>
          <a:ext cx="701028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1447920"/>
                    <a:ext cx="701028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n Rosdahl (CSR)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20901-D92A-4A6E-B7DA-821F2ED22159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1T17:58:38Z</dcterms:created>
  <dc:creator>Jon Rosdahl</dc:creator>
  <dc:description/>
  <dc:language>en-US</dc:language>
  <cp:lastModifiedBy>jr05</cp:lastModifiedBy>
  <dcterms:modified xsi:type="dcterms:W3CDTF">2011-02-01T20:48:31Z</dcterms:modified>
  <cp:revision>9</cp:revision>
  <dc:subject>Meeting Slides</dc:subject>
  <dc:title>IEEE 802 Interim Telecon</dc:title>
</cp:coreProperties>
</file>