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07A2-257F-453B-88B7-B4F985E2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4807-8ED0-4142-95D1-5D4A491D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105F-A81B-4449-A104-E7BE873C5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7E6-796D-4519-B068-7EDA1FB9C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12E-F758-40A2-96BE-F13259696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272-3C91-4BE6-98FD-87E29DC6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CE15-1BBB-4DB9-A0BF-8BEFA2FB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733-8BEC-4A64-9EF4-7B107DF4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FBF2-9B45-4DAC-BDDE-C46855D8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487-395D-48AD-B19D-C9AF3042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8BD6-BBCC-4113-82B6-C2EF3471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4F49-D427-4305-B42F-316C36AC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C464B7E-A274-49F9-939A-066365806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91440" y="334800"/>
            <a:ext cx="295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EC-10/001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7600" y="6475320"/>
            <a:ext cx="101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Ag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8/dcn/10/18-10-0058-06-0000-submission-to-wp-5a-m2m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mentor.ieee.org/802.15/dcn/10/15-10-0819-00-0000-ec-motion-vlc-conditional.ppt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C Interim – 5 Oct 201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10-0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5880" y="2279520"/>
          <a:ext cx="8139240" cy="24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2279520"/>
                    <a:ext cx="813924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E3D8-0C0F-4674-935C-99042987F9D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ditional Approval to Start Sponsor Ballot on P802.15.7-Visible Light Commun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ments Received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15-10-0681-11-0007-lb57-combined-comment-sheet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97 editorial (2 “must be satisfied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13 technical (285 “must be satisfied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rrent Dispositio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80 “must be satisfieds” accepted or accepted in princip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 comments (1E, 7T) rejected from 2 No Voters (see rejected comment spreadsheet for comments and details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7289640" cy="2284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A75-6108-4521-A34C-AC98BCF53E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685800"/>
            <a:ext cx="79246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ditional Approval to Start Sponsor Ballot on P802.15.7-Visible Light Commun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quest the EC grant conditional approval, per the IEEE 802 Operations Manual, to forward P802.15.7 to Sponsor Bal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d:    Bob Heil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ed: James Gil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E33-5A77-4937-9502-98CF3209F0D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s release, liaisons, MOU, etc. it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U communication; Roger Mark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-10-0058-06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e to approve 18-10-0058r6-Submission to WP 5A M2M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put towards working documents on Objectives and requirements for mobile wireless access systems for communications to a large number of ubiquitous sensors and/or actuators scattered over wide areas in the land mobile service 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8/dcn/10/18-10-0058-06-0000-submission-to-wp-5a-m2m.d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d: Michael Lyn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ed: Roger 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D1C-83C5-44EC-A22F-B4D2FA2B03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51F-336E-4221-B763-E2DD471EB3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Agenda and proposed information for the 802 EC Interim Call for 5 Oct 2010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6365-8441-493F-8A40-E03B8E795C1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Agend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lcome: Paul Nikoli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ll call – James Gil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&amp;P reminders for the meeting. – Paul Niko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 Overview and Architecture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 status update; James Gil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-SA i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channel sales update; Paul Nikolich, Buzz Rigsb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 summarizing the SEP10 JTC1/SC6 meeting; Bruce Krae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itional approval to forward 15.7 to Sponsor Ballot; Bob He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s release, liaisons, MOU, etc. i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U communication; Roger Ma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5135-B3A7-42EA-918B-D51D3885D4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lco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l call – James Gil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&amp;P reminders for the meeting. – Paul Nikoli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0435-9BE3-44E6-A426-CC603DB21D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 Overview and Architecture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ision status update; James Gilb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CFA0-3BE3-4D31-9293-BB17FB15EF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-SA it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ngle channel sales update; Paul Nikolich, Buzz Rigsb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D578-EB2C-44B5-A56D-6B6F2DE322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-SA it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 summarizing the SEP10 JTC1/SC6 meeting;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3225-ABE9-435C-9E2B-2396A71D82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-SA it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al approval to forward 15.7 to Sponsor Ballot; Bob He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llowing 3 slides are from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5/dcn/10/15-10-0819-00-0000-ec-motion-vlc-conditional.p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0C4F-6A1D-437E-A783-D7A9B1511C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ditional Approval to Start Sponsor Ballot on P802.15.7-Visible Light Communic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ing Group Letter Ballot Results to dat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ber of voters=2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 Letter Ballot resul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1 voted (71.2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4 yes (84.5%), 19 no, 28 abstain (18.54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cir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0 voted (75.47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7 yes (90%), 13 no,  30 abs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08F-B2C2-4B41-8D5D-B7E3ED27ED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Oc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5:31:02Z</dcterms:created>
  <dc:creator>jr05</dc:creator>
  <dc:description/>
  <dc:language>en-US</dc:language>
  <cp:lastModifiedBy>jr05</cp:lastModifiedBy>
  <cp:lastPrinted>1998-02-10T13:28:06Z</cp:lastPrinted>
  <dcterms:modified xsi:type="dcterms:W3CDTF">2010-10-05T16:38:08Z</dcterms:modified>
  <cp:revision>4</cp:revision>
  <dc:subject/>
  <dc:title>EC Interim – 5 Oct 2010</dc:title>
</cp:coreProperties>
</file>