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7E797-16D8-4BAC-94C1-DE413E061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15130-1A23-4F38-B103-5F5CE8CEB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2FDF3C-8A85-4A8E-8C4A-FAA5D5F40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EA7A6-12A0-4E39-A69D-6DFBCA80E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3260A-6B1F-4728-8977-CB57C049A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99DC8-B9CC-408A-853D-C149C4B56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28E5D-F76E-45AF-A474-A295CCD6B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F6E6C-0719-4260-B1B4-15573B4A1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4AF3A-927A-46C3-9318-398EB4623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CCFF8-F61B-4B44-9ADE-C591F80F03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884CB-014B-4E84-A0A2-DBBABE922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A9E08-7ACD-4EF7-B941-AE99B2FF64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750E75-C3CA-4D11-BB10-1D0A2BA41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090760" y="334800"/>
            <a:ext cx="335664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EC-10/0015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 EC Interim  Meetings Proposal</a:t>
            </a:r>
            <a:endParaRPr b="1" lang="en-US" sz="3200" spc="-1" strike="noStrike">
              <a:solidFill>
                <a:srgbClr val="000000"/>
              </a:solidFill>
              <a:latin typeface="Times New Roman"/>
            </a:endParaRPr>
          </a:p>
        </p:txBody>
      </p:sp>
      <p:sp>
        <p:nvSpPr>
          <p:cNvPr id="46"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0-07-16</a:t>
            </a:r>
            <a:endParaRPr b="1" lang="en-US" sz="2000" spc="-1" strike="noStrike">
              <a:solidFill>
                <a:srgbClr val="000000"/>
              </a:solidFill>
              <a:latin typeface="Times New Roman"/>
            </a:endParaRPr>
          </a:p>
        </p:txBody>
      </p:sp>
      <p:graphicFrame>
        <p:nvGraphicFramePr>
          <p:cNvPr id="47" name=""/>
          <p:cNvGraphicFramePr/>
          <p:nvPr/>
        </p:nvGraphicFramePr>
        <p:xfrm>
          <a:off x="515880" y="2279520"/>
          <a:ext cx="8139240" cy="2498760"/>
        </p:xfrm>
        <a:graphic>
          <a:graphicData uri="http://schemas.openxmlformats.org/presentationml/2006/ole">
            <p:oleObj progId="Word.Document.12" r:id="rId1" spid="">
              <p:embed/>
              <p:pic>
                <p:nvPicPr>
                  <p:cNvPr id="48" name="" descr=""/>
                  <p:cNvPicPr/>
                  <p:nvPr/>
                </p:nvPicPr>
                <p:blipFill>
                  <a:blip r:embed="rId2"/>
                  <a:stretch/>
                </p:blipFill>
                <p:spPr>
                  <a:xfrm>
                    <a:off x="515880" y="2279520"/>
                    <a:ext cx="8139240" cy="2498760"/>
                  </a:xfrm>
                  <a:prstGeom prst="rect">
                    <a:avLst/>
                  </a:prstGeom>
                  <a:ln w="0">
                    <a:noFill/>
                  </a:ln>
                </p:spPr>
              </p:pic>
            </p:oleObj>
          </a:graphicData>
        </a:graphic>
      </p:graphicFrame>
      <p:sp>
        <p:nvSpPr>
          <p:cNvPr id="49"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7B3B214-3EFB-4308-B049-E8343CE4E509}" type="slidenum">
              <a:t>1</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802 EC is planning on improving communication and efficiency in completion of  Executive Committee assignments.</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Submission proposes the guidelines for teleconferences to be held 3 times a year to help increase the efficiency of the committe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Requests from EC members are noted at the en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4A7BEB4-CE6D-4919-8699-343669B11C2B}" type="slidenum">
              <a:t>2</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802 EC Interim Meetings Proposal</a:t>
            </a:r>
            <a:endParaRPr b="1" lang="en-US" sz="2800" spc="-1" strike="noStrike">
              <a:solidFill>
                <a:srgbClr val="000000"/>
              </a:solidFill>
              <a:latin typeface="Times New Roman"/>
            </a:endParaRPr>
          </a:p>
        </p:txBody>
      </p:sp>
      <p:sp>
        <p:nvSpPr>
          <p:cNvPr id="53" name="PlaceHolder 2"/>
          <p:cNvSpPr>
            <a:spLocks noGrp="1"/>
          </p:cNvSpPr>
          <p:nvPr>
            <p:ph/>
          </p:nvPr>
        </p:nvSpPr>
        <p:spPr>
          <a:xfrm>
            <a:off x="685800" y="1142640"/>
            <a:ext cx="7772400" cy="52578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e: 1</a:t>
            </a:r>
            <a:r>
              <a:rPr b="1" lang="en-US" sz="2000" spc="-1" strike="noStrike" baseline="30000">
                <a:solidFill>
                  <a:srgbClr val="000000"/>
                </a:solidFill>
                <a:latin typeface="Times New Roman"/>
              </a:rPr>
              <a:t>st </a:t>
            </a:r>
            <a:r>
              <a:rPr b="1" lang="en-US" sz="2000" spc="-1" strike="noStrike">
                <a:solidFill>
                  <a:srgbClr val="000000"/>
                </a:solidFill>
                <a:latin typeface="Times New Roman"/>
              </a:rPr>
              <a:t>Tues of Feb, June, and Oc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 2 hour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ope: </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 Items EC typically doesn’t have time to discuss</a:t>
            </a:r>
            <a:endParaRPr b="0" lang="en-US" sz="18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chitecture</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oss WG collaboration/competition</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ds. Dev Efficiency</a:t>
            </a:r>
            <a:endParaRPr b="0" lang="en-US" sz="16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 make decisions (Optionally) (same list as current EC E-Mail Ballot capability)</a:t>
            </a:r>
            <a:endParaRPr b="0" lang="en-US" sz="18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s release, Liaisons, MOU etc.</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al for RevCom – </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al for Sponsor Ballot –</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eting venue selection approval</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t of Scope:</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Approval</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econ P&amp;P</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 agenda 10-day prior – Announce on 802 and WG reflector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en – provide up to 50 port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 limited in time and scope to announced agenda</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6DE0A83-A35F-4B8E-96E1-F8366041FFF4}" type="slidenum">
              <a:t>3</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 EC Interim Meeting – Oct 2010</a:t>
            </a:r>
            <a:endParaRPr b="1" lang="en-US" sz="3200" spc="-1" strike="noStrike">
              <a:solidFill>
                <a:srgbClr val="000000"/>
              </a:solidFill>
              <a:latin typeface="Times New Roman"/>
            </a:endParaRPr>
          </a:p>
        </p:txBody>
      </p:sp>
      <p:sp>
        <p:nvSpPr>
          <p:cNvPr id="55"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Oct 5, 201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1-3pm ET – 2 hour limi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Agend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Overview and Architecture</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sion status update</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SA item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gle channel sales updat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 Task Force report</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adline for Agenda changes Sept 24, 201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al-in Number to be provided with Agenda.</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6CAB458-11BB-4DF0-B764-5E099B553A4A}" type="slidenum">
              <a:t>4</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 EC interim Mtg – Feb 1, 2011</a:t>
            </a:r>
            <a:endParaRPr b="1" lang="en-US" sz="3200" spc="-1" strike="noStrike">
              <a:solidFill>
                <a:srgbClr val="000000"/>
              </a:solidFill>
              <a:latin typeface="Times New Roman"/>
            </a:endParaRPr>
          </a:p>
        </p:txBody>
      </p:sp>
      <p:sp>
        <p:nvSpPr>
          <p:cNvPr id="5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Feb 1, 20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1-3pm ET – 2 hour limi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Agenda:</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Overview and Architecture</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sion status update</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SA Item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tional policy update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 Task Force report</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adline for Agenda changes Jan 21, 20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al-in Number to be provided with Agenda.</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5572704-9D7E-490F-B8EC-EADD1F0EFAFB}" type="slidenum">
              <a:t>5</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ested Change (Shellhammer/Gilb)</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om Slide 3: </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 - make decisions (Optionally) (same list as current EC E-Mail Ballot capability)“</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est:</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I suggest we eliminate making decisions on the calls and instead have the formal vote take place as email ballots immediately after the call.</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ional:</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isions can be made with an 10-day electronic ballot beginning right after the conference call.  I think the 10-day delay is not too onerous and will fix the issue of voting on the call.  We can even craft the wording of the motion on the call and fully discuss it.  We can also have straw polls and update the wording until we think we have a good motion with reasonable support.  Then we can run a ballot right after the call.</a:t>
            </a:r>
            <a:br>
              <a:rPr sz="1800"/>
            </a:b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can discuss and craft the motion language and </a:t>
            </a:r>
            <a:br>
              <a:rPr sz="1800"/>
            </a:br>
            <a:r>
              <a:rPr b="0" lang="en-US" sz="1800" spc="-1" strike="noStrike">
                <a:solidFill>
                  <a:srgbClr val="000000"/>
                </a:solidFill>
                <a:latin typeface="Times New Roman"/>
              </a:rPr>
              <a:t>then have a 10 day ballot.  That way, EC members who cannot attend the </a:t>
            </a:r>
            <a:br>
              <a:rPr sz="1800"/>
            </a:br>
            <a:r>
              <a:rPr b="0" lang="en-US" sz="1800" spc="-1" strike="noStrike">
                <a:solidFill>
                  <a:srgbClr val="000000"/>
                </a:solidFill>
                <a:latin typeface="Times New Roman"/>
              </a:rPr>
              <a:t>meeting can still vote.  The delay due to voting after the call is minimal.</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4588FE7-FBDE-4347-B416-56599DCD6E3C}" type="slidenum">
              <a:t>6</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FA35CBD-DF4B-4532-9E17-DCDBF7E09009}" type="slidenum">
              <a:t>7</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3T16:24:58Z</dcterms:created>
  <dc:creator>Jon Rosdahl</dc:creator>
  <dc:description/>
  <dc:language>en-US</dc:language>
  <cp:lastModifiedBy>jr05</cp:lastModifiedBy>
  <cp:lastPrinted>1998-02-10T13:28:06Z</cp:lastPrinted>
  <dcterms:modified xsi:type="dcterms:W3CDTF">2010-07-16T03:11:59Z</dcterms:modified>
  <cp:revision>4</cp:revision>
  <dc:subject/>
  <dc:title>802 EC Interim  Meetings Proposal</dc:title>
</cp:coreProperties>
</file>